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BAA4-BBBB-4C15-9E52-B2E04E695A5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F4A-870F-4FA6-99C8-0AD525C3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590-C4D3-4F77-A448-E212368E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E73-3707-4975-AA1A-866EC18D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29D-4907-4582-972F-49AF8F7C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B74D-1D18-46B3-B72B-2127A1CF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47EB-942D-4020-92AD-8E5E8CB0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515D-C88A-450E-BE52-77AA74D9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D2ED-0649-43B9-BF39-78316934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DBFD-AAC8-427F-90D9-98CC8746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04DC-4314-4F81-8EBF-16CFB182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928F-A94B-4474-83DE-BA5881DA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57EF-3526-4C3E-AF56-6174D3A9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14A3-AE1F-4F83-96BB-9473397C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8EFE-D24E-4F95-A16F-A8E6BD52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DAB3-52BE-43A3-9F71-EA71452F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1FDE-1E0B-4D9F-8480-0CADFE0D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3FF0-6FF6-4F56-A815-801E9D62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752-04AE-4C6E-B74F-FECB95B1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1BE8-37B5-4327-9043-F609900A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A09-865F-414E-8020-F9A063AC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3BBC-B886-474C-9E6C-7878A78E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9939-F854-4FA2-8BCA-8DB349AE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B46F-E97F-4889-86A0-4540635E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C041-5841-4F1A-8E05-A38381C5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F20F-8A48-4A05-A47C-6CE6CD3E87D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D768-1FDA-49E5-BE91-87C58C71289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9a Difú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Fickovy záko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Řečení difúzních rovn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Vybrané Difúzní problém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ickovy záko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543800" cy="387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861048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34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772400" cy="245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69339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07:14Z</dcterms:modified>
  <cp:revision>117</cp:revision>
  <dc:subject/>
  <dc:title>C6730 Fázové rovnováhy</dc:title>
</cp:coreProperties>
</file>