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22FB-44F4-4D81-B5B5-6A0EC0555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E450-9F9B-42CC-A1EB-40DC41FC5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43D5-7795-4727-B586-4E4E0E653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2C35-4586-41CC-A24B-4450BEC4C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092D-CFAE-4313-B38F-4C4D92E56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8B32-5C59-4384-B738-E24F5ADB3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50F4-05FD-4EE7-A60A-EB0D37830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5C6A-78F2-4458-B9AE-212AB6565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BE48-9A31-4B26-AE28-DFEBD16FC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87A8-BA67-4B9C-9DED-441F705FD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489C-D89C-410C-BDD9-7B956A9AC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8A2C-37EC-41B9-946A-6384F4A48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947E-09F4-470B-8765-1818FF33181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" descr="CNB logo 2r AN_coolgray_9"/>
          <p:cNvPicPr/>
          <p:nvPr/>
        </p:nvPicPr>
        <p:blipFill>
          <a:blip r:embed="rId3"/>
          <a:stretch/>
        </p:blipFill>
        <p:spPr>
          <a:xfrm>
            <a:off x="179280" y="6408720"/>
            <a:ext cx="86364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AE3C-4AFD-4630-8B1E-C682DEF6F20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55640" y="1341360"/>
            <a:ext cx="741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Short- to medium term forecasting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avid Havrla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ing Unit (NTF)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david.havrlant@cnb.cz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515772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259F-7AAF-4A64-9C52-BC15EFC25C70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8608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All in CZ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147600" y="2565360"/>
            <a:ext cx="86724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F3B2-4B76-43DF-AE8E-80ED2DD165E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11360" y="156204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97AF-EC13-43EF-B7B9-9E6C14BCE96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4" name="Picture 17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FCE2-29E9-488E-A250-B40340664AC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Other prices and energy prices – impact on 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tretch/>
        </p:blipFill>
        <p:spPr>
          <a:xfrm>
            <a:off x="7667640" y="1901880"/>
            <a:ext cx="1382760" cy="4695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"/>
          <p:cNvPicPr/>
          <p:nvPr/>
        </p:nvPicPr>
        <p:blipFill>
          <a:blip r:embed="rId2"/>
          <a:stretch/>
        </p:blipFill>
        <p:spPr>
          <a:xfrm>
            <a:off x="165240" y="1901880"/>
            <a:ext cx="7215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2586-5462-4A71-B361-467ADD054BF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85720"/>
            <a:ext cx="91440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Unicode MS"/>
              </a:rPr>
              <a:t>High importance of producer pric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PRO … producer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04" name="Picture 245" descr=""/>
          <p:cNvPicPr/>
          <p:nvPr/>
        </p:nvPicPr>
        <p:blipFill>
          <a:blip r:embed="rId1"/>
          <a:stretch/>
        </p:blipFill>
        <p:spPr>
          <a:xfrm>
            <a:off x="179280" y="2548080"/>
            <a:ext cx="867276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7D7A-AC20-45E3-9F75-E0365F46DD1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23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FB44-1245-4007-AA30-26455860ED2B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Unicode MS"/>
              </a:rPr>
              <a:t>Potential Output and Output Gap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Cobb-Douglas production fun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HP filter 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Kalman fil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179280" y="3639960"/>
            <a:ext cx="85536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FAA2-CBD0-423D-ACAC-AC4DF4B13D4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Labour Marke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24000" y="1773360"/>
            <a:ext cx="8640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xpected infl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Labour productivit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trade unions - collective bargain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economy in the business cycl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Financial position of compan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evelopment and expectations in industry and construct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F4E1-D5C0-4260-9E7A-BE78B23D0EA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160200" y="2268360"/>
            <a:ext cx="6067440" cy="3969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6443640" y="2092320"/>
            <a:ext cx="2533680" cy="4649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Forecast of Adjusted inflation with different models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9D3E-13DA-426A-9961-7E247A35B24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543640" y="3141720"/>
            <a:ext cx="39243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KORXPH … adjusted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PIEMU … effective CPI in EU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EUR … exchange rate CZK/EUR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ADJ_F … import prices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ULC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… unit labour cos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 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Model of adjusted inflation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108000" y="2548080"/>
            <a:ext cx="86724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0BA2-3081-48A1-B0F4-87F8191A3B0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bjectives of the Present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le of NTF within the macroeconomic projection exercis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mportance of coherent framewor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nterpreting economic development in a consistent wa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rief insight into particular forecasting procedur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6CFA-588A-4FF3-B7BA-46156331AC6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50920" y="141300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Example of NTF Food Prices Equation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434880" y="3027240"/>
            <a:ext cx="8672760" cy="36925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4859280" y="2276640"/>
            <a:ext cx="44290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FOOD_YOY_NOTXP … food prices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ZV_YOY … agricultural </a:t>
            </a:r>
            <a:r>
              <a:rPr b="0" lang="cs-CZ" sz="1400" spc="-1" strike="noStrike">
                <a:solidFill>
                  <a:srgbClr val="003f7c"/>
                </a:solidFill>
                <a:latin typeface="Arial Unicode MS"/>
              </a:rPr>
              <a:t>producer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prices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POT_YOY … import prices of food com.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2717-4C18-4C4F-9299-F4D4717E56C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50920" y="141300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2154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F426-DBF3-4510-9EC2-A742CCD9D98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t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50920" y="1413000"/>
            <a:ext cx="8353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alibrated estimate of inflationary pressur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impcos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 = 0.9*(eur*ppiemu) + 0.1*(0.6*(usd*brent) + 0.4*(usd*gas)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ost = 0.4*gdp_gap + 0.7*ulc(-1) + 0.3*impcos</a:t>
            </a:r>
            <a:r>
              <a:rPr b="0" lang="cs-CZ" sz="2000" spc="-1" strike="noStrike">
                <a:solidFill>
                  <a:srgbClr val="003f7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(-2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61920" y="3279600"/>
            <a:ext cx="4510080" cy="310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599000" y="3279600"/>
            <a:ext cx="45100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F72D-4C79-493F-B7A1-F35144AA8991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ain NTF Task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xpert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s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as regards the Czech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pirical data, structures, institutional and regulation framewor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ased on theoretical background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t with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nduct of MP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ithin IT regim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U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age of the core projection model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(G3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scussion on initial state of the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mparative benchmark for core model proj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oviding disaggregated economic outloo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yclical decomposition of the variabl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search activit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EDAF-55F8-4FBE-8846-650308BABFA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Points of view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One model is risky - set of methods is bet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conomic theory as basis of analysi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mphasis on statistical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Unicode MS"/>
              </a:rPr>
              <a:t>Respecting not only economic theory, but also statistical data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xpert approach : possible correction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Structural changes in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Theory vs. measuremen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Revisions of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C886-246E-4A3B-9A3A-77CC591F57B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ar Term Forecast (NTF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5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ditional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Foreign macroeconomic outlook from The Consensus Forecast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PI, PPI, GDP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effective indices (relevance for Czech economy)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orld energy and food prices, exchange rate USD/EUR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tandardized source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no arbitrarily changes, potential for alternative scenarios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 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1Q, 2Q ahead with high prec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mpirical check in mid-term horizon for the core model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157C-02E6-4DB7-9E22-7B4D05247F0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NTF - Per Part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79280" y="1413000"/>
            <a:ext cx="4176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Labour mar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mployment, unemploy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conomic produ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Average wag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age bill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th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Import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Produc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861080" y="1413000"/>
            <a:ext cx="41036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Real economic a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Domestic demand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xports, imports, net expor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GDP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rade balanc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urrent accou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onsum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ain components of the consumer bas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635280" y="2924280"/>
            <a:ext cx="1368360" cy="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2627280" y="3357360"/>
            <a:ext cx="2305080" cy="93492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01" name="Group 11"/>
          <p:cNvGrpSpPr/>
          <p:nvPr/>
        </p:nvGrpSpPr>
        <p:grpSpPr>
          <a:xfrm>
            <a:off x="2627280" y="3357720"/>
            <a:ext cx="4105440" cy="1150920"/>
            <a:chOff x="2627280" y="3357720"/>
            <a:chExt cx="4105440" cy="1150920"/>
          </a:xfrm>
        </p:grpSpPr>
        <p:sp>
          <p:nvSpPr>
            <p:cNvPr id="102" name="Line 12"/>
            <p:cNvSpPr/>
            <p:nvPr/>
          </p:nvSpPr>
          <p:spPr>
            <a:xfrm>
              <a:off x="6732720" y="4076640"/>
              <a:ext cx="0" cy="432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2627280" y="450864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3348000" y="3357720"/>
              <a:ext cx="1440000" cy="934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166E-3F0A-413E-9202-F87DC0CF777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onsistence through Iter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TF is in principle not an interconnected system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Threat of inconsistency of the complex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e is achieved through: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Quasi-interconn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ne forecast is the input of other forecas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ter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y chec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w forecasting round if necessar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ace against tim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A184-CDEA-4F04-995A-B622285E849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Multistage Forecas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908000" y="1917720"/>
            <a:ext cx="0" cy="482436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1316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124000" y="13161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1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79280" y="1841400"/>
            <a:ext cx="1441440" cy="4243320"/>
            <a:chOff x="179280" y="1841400"/>
            <a:chExt cx="1441440" cy="4243320"/>
          </a:xfrm>
        </p:grpSpPr>
        <p:sp>
          <p:nvSpPr>
            <p:cNvPr id="114" name="Text Box 11"/>
            <p:cNvSpPr/>
            <p:nvPr/>
          </p:nvSpPr>
          <p:spPr>
            <a:xfrm>
              <a:off x="179280" y="544212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179280" y="36450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179280" y="270828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>
              <a:off x="179280" y="450864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179280" y="18414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2268360" y="2708280"/>
            <a:ext cx="2374920" cy="3176640"/>
            <a:chOff x="2268360" y="2708280"/>
            <a:chExt cx="2374920" cy="3176640"/>
          </a:xfrm>
        </p:grpSpPr>
        <p:sp>
          <p:nvSpPr>
            <p:cNvPr id="120" name="Text Box 17"/>
            <p:cNvSpPr/>
            <p:nvPr/>
          </p:nvSpPr>
          <p:spPr>
            <a:xfrm>
              <a:off x="2268360" y="3645000"/>
              <a:ext cx="115128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1" name="Text Box 18"/>
            <p:cNvSpPr/>
            <p:nvPr/>
          </p:nvSpPr>
          <p:spPr>
            <a:xfrm>
              <a:off x="2268360" y="2708280"/>
              <a:ext cx="14418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2" name="Text Box 19"/>
            <p:cNvSpPr/>
            <p:nvPr/>
          </p:nvSpPr>
          <p:spPr>
            <a:xfrm>
              <a:off x="2268360" y="4581360"/>
              <a:ext cx="1798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3" name="Text Box 20"/>
            <p:cNvSpPr/>
            <p:nvPr/>
          </p:nvSpPr>
          <p:spPr>
            <a:xfrm>
              <a:off x="2268360" y="551664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4" name="Group 21"/>
          <p:cNvGrpSpPr/>
          <p:nvPr/>
        </p:nvGrpSpPr>
        <p:grpSpPr>
          <a:xfrm>
            <a:off x="1619280" y="2205000"/>
            <a:ext cx="3024000" cy="3311640"/>
            <a:chOff x="1619280" y="2205000"/>
            <a:chExt cx="3024000" cy="3311640"/>
          </a:xfrm>
        </p:grpSpPr>
        <p:sp>
          <p:nvSpPr>
            <p:cNvPr id="125" name="Line 22"/>
            <p:cNvSpPr/>
            <p:nvPr/>
          </p:nvSpPr>
          <p:spPr>
            <a:xfrm>
              <a:off x="1619280" y="2205000"/>
              <a:ext cx="3024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>
              <a:off x="2916360" y="220500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3924360" y="2205000"/>
              <a:ext cx="0" cy="2376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8" name="Line 25"/>
            <p:cNvSpPr/>
            <p:nvPr/>
          </p:nvSpPr>
          <p:spPr>
            <a:xfrm>
              <a:off x="4643280" y="2205000"/>
              <a:ext cx="0" cy="3311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9" name="Group 26"/>
          <p:cNvGrpSpPr/>
          <p:nvPr/>
        </p:nvGrpSpPr>
        <p:grpSpPr>
          <a:xfrm>
            <a:off x="1619280" y="2997360"/>
            <a:ext cx="2808360" cy="2519280"/>
            <a:chOff x="1619280" y="2997360"/>
            <a:chExt cx="2808360" cy="2519280"/>
          </a:xfrm>
        </p:grpSpPr>
        <p:sp>
          <p:nvSpPr>
            <p:cNvPr id="130" name="Line 27"/>
            <p:cNvSpPr/>
            <p:nvPr/>
          </p:nvSpPr>
          <p:spPr>
            <a:xfrm>
              <a:off x="3564000" y="3357720"/>
              <a:ext cx="0" cy="122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1619280" y="299736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>
              <a:off x="3708360" y="2997360"/>
              <a:ext cx="719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>
              <a:off x="4427640" y="2997360"/>
              <a:ext cx="0" cy="2519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34" name="Group 31"/>
          <p:cNvGrpSpPr/>
          <p:nvPr/>
        </p:nvGrpSpPr>
        <p:grpSpPr>
          <a:xfrm>
            <a:off x="1619280" y="4869000"/>
            <a:ext cx="936720" cy="865080"/>
            <a:chOff x="1619280" y="4869000"/>
            <a:chExt cx="936720" cy="865080"/>
          </a:xfrm>
        </p:grpSpPr>
        <p:sp>
          <p:nvSpPr>
            <p:cNvPr id="135" name="Line 32"/>
            <p:cNvSpPr/>
            <p:nvPr/>
          </p:nvSpPr>
          <p:spPr>
            <a:xfrm>
              <a:off x="1619280" y="486900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>
              <a:off x="2556000" y="5229360"/>
              <a:ext cx="0" cy="287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7" name="Line 34"/>
            <p:cNvSpPr/>
            <p:nvPr/>
          </p:nvSpPr>
          <p:spPr>
            <a:xfrm>
              <a:off x="1619280" y="573408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sp>
        <p:nvSpPr>
          <p:cNvPr id="138" name="Line 35"/>
          <p:cNvSpPr/>
          <p:nvPr/>
        </p:nvSpPr>
        <p:spPr>
          <a:xfrm>
            <a:off x="4932360" y="1916280"/>
            <a:ext cx="0" cy="482580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588000" y="134136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2: more consiste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4067280" y="1268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Verdana"/>
              </a:rPr>
              <a:t>New data and consistency check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41" name="Group 38"/>
          <p:cNvGrpSpPr/>
          <p:nvPr/>
        </p:nvGrpSpPr>
        <p:grpSpPr>
          <a:xfrm>
            <a:off x="1619280" y="3933720"/>
            <a:ext cx="2592360" cy="1582920"/>
            <a:chOff x="1619280" y="3933720"/>
            <a:chExt cx="2592360" cy="1582920"/>
          </a:xfrm>
        </p:grpSpPr>
        <p:sp>
          <p:nvSpPr>
            <p:cNvPr id="142" name="Line 39"/>
            <p:cNvSpPr/>
            <p:nvPr/>
          </p:nvSpPr>
          <p:spPr>
            <a:xfrm>
              <a:off x="1619280" y="4653000"/>
              <a:ext cx="216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3" name="Line 40"/>
            <p:cNvSpPr/>
            <p:nvPr/>
          </p:nvSpPr>
          <p:spPr>
            <a:xfrm>
              <a:off x="1619280" y="393372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4" name="Line 41"/>
            <p:cNvSpPr/>
            <p:nvPr/>
          </p:nvSpPr>
          <p:spPr>
            <a:xfrm>
              <a:off x="2556000" y="4292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5" name="Line 42"/>
            <p:cNvSpPr/>
            <p:nvPr/>
          </p:nvSpPr>
          <p:spPr>
            <a:xfrm>
              <a:off x="3419640" y="3933720"/>
              <a:ext cx="79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6" name="Line 43"/>
            <p:cNvSpPr/>
            <p:nvPr/>
          </p:nvSpPr>
          <p:spPr>
            <a:xfrm>
              <a:off x="4211640" y="3933720"/>
              <a:ext cx="0" cy="1582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7" name="Line 44"/>
            <p:cNvSpPr/>
            <p:nvPr/>
          </p:nvSpPr>
          <p:spPr>
            <a:xfrm flipV="1">
              <a:off x="1835280" y="414972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8" name="Line 45"/>
            <p:cNvSpPr/>
            <p:nvPr/>
          </p:nvSpPr>
          <p:spPr>
            <a:xfrm>
              <a:off x="1835280" y="4149720"/>
              <a:ext cx="433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49" name="Group 46"/>
          <p:cNvGrpSpPr/>
          <p:nvPr/>
        </p:nvGrpSpPr>
        <p:grpSpPr>
          <a:xfrm>
            <a:off x="4067280" y="3500280"/>
            <a:ext cx="2736720" cy="1368720"/>
            <a:chOff x="4067280" y="3500280"/>
            <a:chExt cx="2736720" cy="1368720"/>
          </a:xfrm>
        </p:grpSpPr>
        <p:sp>
          <p:nvSpPr>
            <p:cNvPr id="150" name="Line 47"/>
            <p:cNvSpPr/>
            <p:nvPr/>
          </p:nvSpPr>
          <p:spPr>
            <a:xfrm>
              <a:off x="4067280" y="4869000"/>
              <a:ext cx="129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1" name="Line 48"/>
            <p:cNvSpPr/>
            <p:nvPr/>
          </p:nvSpPr>
          <p:spPr>
            <a:xfrm flipV="1">
              <a:off x="5364000" y="4005000"/>
              <a:ext cx="0" cy="8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2" name="Line 49"/>
            <p:cNvSpPr/>
            <p:nvPr/>
          </p:nvSpPr>
          <p:spPr>
            <a:xfrm>
              <a:off x="5364000" y="4005360"/>
              <a:ext cx="1440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3" name="Text Box 50"/>
            <p:cNvSpPr/>
            <p:nvPr/>
          </p:nvSpPr>
          <p:spPr>
            <a:xfrm>
              <a:off x="5364000" y="3500280"/>
              <a:ext cx="136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output gap consistency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4643280" y="4005360"/>
            <a:ext cx="2233800" cy="1800000"/>
            <a:chOff x="4643280" y="4005360"/>
            <a:chExt cx="2233800" cy="1800000"/>
          </a:xfrm>
        </p:grpSpPr>
        <p:sp>
          <p:nvSpPr>
            <p:cNvPr id="155" name="Line 52"/>
            <p:cNvSpPr/>
            <p:nvPr/>
          </p:nvSpPr>
          <p:spPr>
            <a:xfrm>
              <a:off x="4643280" y="5805360"/>
              <a:ext cx="86544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 flipV="1">
              <a:off x="5508720" y="4436640"/>
              <a:ext cx="0" cy="1368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7" name="Line 54"/>
            <p:cNvSpPr/>
            <p:nvPr/>
          </p:nvSpPr>
          <p:spPr>
            <a:xfrm>
              <a:off x="5508720" y="4437000"/>
              <a:ext cx="1295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8" name="Text Box 55"/>
            <p:cNvSpPr/>
            <p:nvPr/>
          </p:nvSpPr>
          <p:spPr>
            <a:xfrm>
              <a:off x="5435640" y="400536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wages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9" name="Line 56"/>
            <p:cNvSpPr/>
            <p:nvPr/>
          </p:nvSpPr>
          <p:spPr>
            <a:xfrm>
              <a:off x="5508720" y="5157720"/>
              <a:ext cx="1368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0" name="Text Box 57"/>
            <p:cNvSpPr/>
            <p:nvPr/>
          </p:nvSpPr>
          <p:spPr>
            <a:xfrm>
              <a:off x="5435640" y="472428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ER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1" name="Group 58"/>
          <p:cNvGrpSpPr/>
          <p:nvPr/>
        </p:nvGrpSpPr>
        <p:grpSpPr>
          <a:xfrm>
            <a:off x="5148360" y="1916280"/>
            <a:ext cx="3814560" cy="4186080"/>
            <a:chOff x="5148360" y="1916280"/>
            <a:chExt cx="3814560" cy="4186080"/>
          </a:xfrm>
        </p:grpSpPr>
        <p:sp>
          <p:nvSpPr>
            <p:cNvPr id="162" name="Text Box 59"/>
            <p:cNvSpPr/>
            <p:nvPr/>
          </p:nvSpPr>
          <p:spPr>
            <a:xfrm>
              <a:off x="6804000" y="3860640"/>
              <a:ext cx="1150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3" name="Text Box 60"/>
            <p:cNvSpPr/>
            <p:nvPr/>
          </p:nvSpPr>
          <p:spPr>
            <a:xfrm>
              <a:off x="6877080" y="4797360"/>
              <a:ext cx="179856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4" name="Text Box 61"/>
            <p:cNvSpPr/>
            <p:nvPr/>
          </p:nvSpPr>
          <p:spPr>
            <a:xfrm>
              <a:off x="6588000" y="573408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5" name="Text Box 62"/>
            <p:cNvSpPr/>
            <p:nvPr/>
          </p:nvSpPr>
          <p:spPr>
            <a:xfrm>
              <a:off x="5148360" y="1916280"/>
              <a:ext cx="14396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6" name="Text Box 63"/>
            <p:cNvSpPr/>
            <p:nvPr/>
          </p:nvSpPr>
          <p:spPr>
            <a:xfrm>
              <a:off x="5148360" y="278136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7" name="Group 64"/>
          <p:cNvGrpSpPr/>
          <p:nvPr/>
        </p:nvGrpSpPr>
        <p:grpSpPr>
          <a:xfrm>
            <a:off x="5724360" y="2133720"/>
            <a:ext cx="3240360" cy="3600360"/>
            <a:chOff x="5724360" y="2133720"/>
            <a:chExt cx="3240360" cy="3600360"/>
          </a:xfrm>
        </p:grpSpPr>
        <p:sp>
          <p:nvSpPr>
            <p:cNvPr id="168" name="Line 65"/>
            <p:cNvSpPr/>
            <p:nvPr/>
          </p:nvSpPr>
          <p:spPr>
            <a:xfrm>
              <a:off x="8893080" y="4076640"/>
              <a:ext cx="0" cy="16574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9" name="Line 66"/>
            <p:cNvSpPr/>
            <p:nvPr/>
          </p:nvSpPr>
          <p:spPr>
            <a:xfrm>
              <a:off x="7164360" y="4508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0" name="Line 67"/>
            <p:cNvSpPr/>
            <p:nvPr/>
          </p:nvSpPr>
          <p:spPr>
            <a:xfrm>
              <a:off x="7164360" y="5445000"/>
              <a:ext cx="0" cy="2890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1" name="Line 68"/>
            <p:cNvSpPr/>
            <p:nvPr/>
          </p:nvSpPr>
          <p:spPr>
            <a:xfrm>
              <a:off x="7956720" y="4076640"/>
              <a:ext cx="936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2" name="Line 69"/>
            <p:cNvSpPr/>
            <p:nvPr/>
          </p:nvSpPr>
          <p:spPr>
            <a:xfrm>
              <a:off x="8820000" y="2133720"/>
              <a:ext cx="0" cy="3600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3" name="Line 70"/>
            <p:cNvSpPr/>
            <p:nvPr/>
          </p:nvSpPr>
          <p:spPr>
            <a:xfrm>
              <a:off x="6588000" y="213372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4" name="Line 71"/>
            <p:cNvSpPr/>
            <p:nvPr/>
          </p:nvSpPr>
          <p:spPr>
            <a:xfrm>
              <a:off x="5724360" y="2565360"/>
              <a:ext cx="0" cy="216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5" name="Line 72"/>
            <p:cNvSpPr/>
            <p:nvPr/>
          </p:nvSpPr>
          <p:spPr>
            <a:xfrm>
              <a:off x="8317080" y="2133720"/>
              <a:ext cx="0" cy="26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6" name="Line 73"/>
            <p:cNvSpPr/>
            <p:nvPr/>
          </p:nvSpPr>
          <p:spPr>
            <a:xfrm>
              <a:off x="6588000" y="3141720"/>
              <a:ext cx="237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7" name="Line 74"/>
            <p:cNvSpPr/>
            <p:nvPr/>
          </p:nvSpPr>
          <p:spPr>
            <a:xfrm>
              <a:off x="8172360" y="3141720"/>
              <a:ext cx="0" cy="1655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>
              <a:off x="8964720" y="3141720"/>
              <a:ext cx="0" cy="2592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4563-4A30-462C-9C17-6F100276469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5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mall opend economy – high importance of foreign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86886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4:16Z</dcterms:modified>
  <cp:revision>596</cp:revision>
  <dc:subject/>
  <dc:title>Český název přednášky/akce</dc:title>
</cp:coreProperties>
</file>