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7.jpeg" ContentType="image/jpeg"/>
  <Override PartName="/ppt/media/image9.wmf" ContentType="image/x-wmf"/>
  <Override PartName="/ppt/media/image13.wmf" ContentType="image/x-wmf"/>
  <Override PartName="/ppt/media/image5.png" ContentType="image/png"/>
  <Override PartName="/ppt/media/image18.jpeg" ContentType="image/jpeg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3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wmf" ContentType="image/x-wmf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9FA25-44C8-4669-966D-545F58BC58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57F09-72C7-41C0-9CDD-06DFB3589E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A244C-010C-4D95-A0A4-4953FFE143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72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90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72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90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CABEB-ECDE-4224-A765-3E6C239DC8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771640" y="186840"/>
            <a:ext cx="59040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95A91-179B-4A4B-8617-F43156312D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872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890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872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890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183F1-9420-49AA-B8F3-52C7B23EB8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74612-B272-4AE3-A07B-54631D4FA8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4B3CF-2AC9-4E1B-9352-CFBC16A7E5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771640" y="186840"/>
            <a:ext cx="59040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1F514-FFCA-4D4C-8244-364AC7CCAD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06017-3135-401D-9C41-E5EFCF106D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8BC2F-2100-444A-AA37-96F1EE467B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BB257-ECEF-4A48-BC80-8049861903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400440"/>
            <a:ext cx="213372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3f7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B7FF-7D5B-4866-9723-29AE9E9450EB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42920" y="193320"/>
            <a:ext cx="60498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9bc8"/>
                </a:solidFill>
                <a:latin typeface="Arial Narrow"/>
              </a:rPr>
              <a:t>Second Outline Level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" Target="slide9.xml"/><Relationship Id="rId4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772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Forecasting and Policy Analysis </a:t>
            </a:r>
            <a:br>
              <a:rPr sz="2800"/>
            </a:b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System in the Czech National Ban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"/>
          <p:cNvSpPr/>
          <p:nvPr/>
        </p:nvSpPr>
        <p:spPr>
          <a:xfrm>
            <a:off x="1258920" y="32130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"/>
              </a:rPr>
              <a:t>Tibor Hlédik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40000" y="4221000"/>
            <a:ext cx="4464000" cy="22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f9bc8"/>
                </a:solidFill>
                <a:latin typeface="Arial"/>
              </a:rPr>
              <a:t>Masaryk University</a:t>
            </a:r>
            <a:endParaRPr b="0" lang="en-US" sz="2000" spc="-1" strike="noStrike">
              <a:solidFill>
                <a:srgbClr val="003f7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f9bc8"/>
                </a:solidFill>
                <a:latin typeface="Arial"/>
              </a:rPr>
              <a:t>Brno</a:t>
            </a:r>
            <a:endParaRPr b="0" lang="en-US" sz="2000" spc="-1" strike="noStrike">
              <a:solidFill>
                <a:srgbClr val="003f7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f9bc8"/>
                </a:solidFill>
                <a:latin typeface="Arial"/>
              </a:rPr>
              <a:t>27 September</a:t>
            </a:r>
            <a:r>
              <a:rPr b="0" lang="en-US" sz="2000" spc="-1" strike="noStrike">
                <a:solidFill>
                  <a:srgbClr val="5f9bc8"/>
                </a:solidFill>
                <a:latin typeface="Arial"/>
              </a:rPr>
              <a:t>, 20</a:t>
            </a:r>
            <a:r>
              <a:rPr b="0" lang="cs-CZ" sz="2000" spc="-1" strike="noStrike">
                <a:solidFill>
                  <a:srgbClr val="5f9bc8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989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"/>
              </a:rPr>
              <a:t>Macroeconomic Forecasting Division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"/>
              </a:rPr>
              <a:t>Monetary and Statistics Department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03280" y="5300640"/>
            <a:ext cx="646740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The Elements of the System (i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v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9898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f7c"/>
                </a:solidFill>
                <a:uFillTx/>
                <a:latin typeface="Arial Narrow"/>
              </a:rPr>
              <a:t>Near-term forecast (NTF)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Model (g3) mechanisms are valid for medium-term horizon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he nowcast and 1Q ahead forecast are based on a wide range of high frequency information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Identification of short-run idiosyncratic shocks 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High degree of detail and structural insight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Economic intuition based on accumulated expert knowledge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An important role of empirical evidence, statistical data and econometric method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Irreplaceable task: 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NTF 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benchmark for the model forecast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Example (Kalman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 filter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 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based forecast d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ecomposition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7596360" y="587700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28571" y="10800"/>
                </a:lnTo>
                <a:lnTo>
                  <a:pt x="14558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244000" y="4365720"/>
            <a:ext cx="431640" cy="21564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7DA30-4290-4E01-A081-B6436EC734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The Elements of the System (v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f7c"/>
                </a:solidFill>
                <a:uFillTx/>
                <a:latin typeface="Arial Narrow"/>
              </a:rPr>
              <a:t>Departmental forecasting team: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Why a separate forecasting team?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Forecast is made by the staff not by the model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Inclusivity and collective view are essential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Responsible for a conduct of the forecasting proces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Specifies deadlines and responsibiliti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Disposes with technical background with a seamless database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- and prediction system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14B1A-5BB1-4D7A-B498-092E583C84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3f7c"/>
                </a:solidFill>
                <a:uFillTx/>
                <a:latin typeface="Arial Narrow"/>
              </a:rPr>
              <a:t>Composition of the forecasting team</a:t>
            </a:r>
            <a:r>
              <a:rPr b="0" lang="cs-CZ" sz="2400" spc="-1" strike="noStrike" u="sng">
                <a:solidFill>
                  <a:srgbClr val="003f7c"/>
                </a:solidFill>
                <a:uFillTx/>
                <a:latin typeface="Arial Narrow"/>
              </a:rPr>
              <a:t> (FT)</a:t>
            </a: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H</a:t>
            </a: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ead of the forecasting team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, representative of the</a:t>
            </a: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 M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acroeconomic Forecasting Division (MAFD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Representative of the near-term forecasting team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 (MAFD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2 representatives of Monetary Policy and Strategy Division (Editor + Fiscal expert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Representative of External Economic Relations Division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1 model operator (MAFD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Potentially some other members of the department (training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The Elements of the System (v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7C9D3-63E0-4BAC-ACB7-CF256DFE45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orecasting Process and Its Organisation (i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76230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The process 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Departmental 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f</a:t>
            </a: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orecasting 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t</a:t>
            </a: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eam builds up a macroeconomic forecast as a main support for MP decision 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Provides an unconditional medium term forecast using the model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, </a:t>
            </a: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NTF 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and own judgmen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Incorporating out-of-model information</a:t>
            </a: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 (fiscal policy, indirect taxes, structural insight etc.)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3f7c"/>
                </a:solidFill>
                <a:uFillTx/>
                <a:latin typeface="Arial Narrow"/>
              </a:rPr>
              <a:t>The main goal</a:t>
            </a: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: a macro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economic </a:t>
            </a: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story consistent with economic theory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,</a:t>
            </a: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 empirical evidence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 and judgmen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17" name=""/>
          <p:cNvSpPr/>
          <p:nvPr/>
        </p:nvSpPr>
        <p:spPr>
          <a:xfrm>
            <a:off x="2608200" y="21859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9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ED78B-1F15-4455-97EA-567368D07B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50560" y="184428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3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Issues meeting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</a:rPr>
              <a:t>W1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18960" indent="-318960">
              <a:spcBef>
                <a:spcPts val="751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Meeting on forecasting techniques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</a:rPr>
              <a:t>W2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18960" indent="-318960">
              <a:spcBef>
                <a:spcPts val="300"/>
              </a:spcBef>
              <a:buClr>
                <a:srgbClr val="4086b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f7c"/>
                </a:solidFill>
                <a:latin typeface="Arial Narrow"/>
              </a:rPr>
              <a:t>Meeting with the BB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 on initial cond. and IT fulfillment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</a:rPr>
              <a:t>W3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18960" indent="-318960">
              <a:spcBef>
                <a:spcPts val="751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f7c"/>
                </a:solidFill>
                <a:latin typeface="Arial Narrow"/>
              </a:rPr>
              <a:t>Meeting with the BB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: first version of the forecast + alter.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     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Meeting on the final approval of the forecast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</a:rPr>
              <a:t>W4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18960" indent="-318960">
              <a:spcBef>
                <a:spcPts val="751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Drafting of the Inflation Report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</a:rPr>
              <a:t>W5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18960" indent="-318960">
              <a:spcBef>
                <a:spcPts val="751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f7c"/>
                </a:solidFill>
                <a:latin typeface="Arial Narrow"/>
              </a:rPr>
              <a:t>Official MP BB meeting </a:t>
            </a:r>
            <a:r>
              <a:rPr b="1" lang="en-US" sz="2400" spc="-1" strike="noStrike">
                <a:solidFill>
                  <a:srgbClr val="003f7c"/>
                </a:solidFill>
                <a:latin typeface="Wingdings"/>
                <a:ea typeface="Wingdings"/>
              </a:rPr>
              <a:t></a:t>
            </a:r>
            <a:r>
              <a:rPr b="1" lang="en-US" sz="2400" spc="-1" strike="noStrike">
                <a:solidFill>
                  <a:srgbClr val="003f7c"/>
                </a:solidFill>
                <a:latin typeface="Arial Narrow"/>
              </a:rPr>
              <a:t> MP decision</a:t>
            </a:r>
            <a:r>
              <a:rPr b="1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</a:rPr>
              <a:t>W6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18960" indent="-318960">
              <a:spcBef>
                <a:spcPts val="774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Post mortem meeting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1" lang="cs-CZ" sz="2500" spc="-1" strike="noStrike">
                <a:solidFill>
                  <a:srgbClr val="ff3300"/>
                </a:solidFill>
                <a:latin typeface="Arial Narrow"/>
              </a:rPr>
              <a:t>W7</a:t>
            </a:r>
            <a:endParaRPr b="0" lang="en-US" sz="25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835280" y="476280"/>
            <a:ext cx="6697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orecasting Process and Its Organisation (i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4581360"/>
            <a:ext cx="8064360" cy="0"/>
          </a:xfrm>
          <a:prstGeom prst="line">
            <a:avLst/>
          </a:prstGeom>
          <a:ln cap="rnd" w="1260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2276640"/>
            <a:ext cx="8064360" cy="0"/>
          </a:xfrm>
          <a:prstGeom prst="line">
            <a:avLst/>
          </a:prstGeom>
          <a:ln cap="rnd" w="1260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2708280"/>
            <a:ext cx="8064360" cy="0"/>
          </a:xfrm>
          <a:prstGeom prst="line">
            <a:avLst/>
          </a:prstGeom>
          <a:ln cap="rnd" w="1260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213000"/>
            <a:ext cx="8064360" cy="0"/>
          </a:xfrm>
          <a:prstGeom prst="line">
            <a:avLst/>
          </a:prstGeom>
          <a:ln cap="rnd" w="1260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5008680"/>
            <a:ext cx="8064360" cy="0"/>
          </a:xfrm>
          <a:prstGeom prst="line">
            <a:avLst/>
          </a:prstGeom>
          <a:ln cap="rnd" w="1260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4076640"/>
            <a:ext cx="8064360" cy="0"/>
          </a:xfrm>
          <a:prstGeom prst="line">
            <a:avLst/>
          </a:prstGeom>
          <a:ln cap="rnd" w="1260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1844640"/>
            <a:ext cx="8064360" cy="0"/>
          </a:xfrm>
          <a:prstGeom prst="line">
            <a:avLst/>
          </a:prstGeom>
          <a:ln cap="rnd" w="1260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5445000"/>
            <a:ext cx="8064360" cy="0"/>
          </a:xfrm>
          <a:prstGeom prst="line">
            <a:avLst/>
          </a:prstGeom>
          <a:ln cap="rnd" w="1260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A3D65-7B92-44EF-A051-EB225F1E2C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orecasting Process and Its Organisation (i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i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9898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3f7c"/>
                </a:solidFill>
                <a:uFillTx/>
                <a:latin typeface="Arial Narrow"/>
              </a:rPr>
              <a:t>Issue</a:t>
            </a:r>
            <a:r>
              <a:rPr b="0" lang="cs-CZ" sz="2400" spc="-1" strike="noStrike" u="sng">
                <a:solidFill>
                  <a:srgbClr val="003f7c"/>
                </a:solidFill>
                <a:uFillTx/>
                <a:latin typeface="Arial Narrow"/>
              </a:rPr>
              <a:t>s</a:t>
            </a:r>
            <a:r>
              <a:rPr b="0" lang="en-GB" sz="2400" spc="-1" strike="noStrike" u="sng">
                <a:solidFill>
                  <a:srgbClr val="003f7c"/>
                </a:solidFill>
                <a:uFillTx/>
                <a:latin typeface="Arial Narrow"/>
              </a:rPr>
              <a:t> Meeting:</a:t>
            </a: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Collective and intuitive view among the staff where the economy is and what the current economic issues are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Designed to address a wide range of question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Broad participation of the staff encouraged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Exampl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AA936-72C7-4990-9CF4-9D471E6DF1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orecasting Process and Its Organisation (i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v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9898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f7c"/>
                </a:solidFill>
                <a:uFillTx/>
                <a:latin typeface="Arial Narrow"/>
              </a:rPr>
              <a:t>Meeting on Forecasting Techniques: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Properties of main forecasting tools are reintroduced and re-examined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Opportunity to introduce changes and assess their significance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Refreshes the staff´s and forecasting team´s familiarity with the techniqu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Examples (change in the model calibration, exten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s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ion of the model, etc.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019DE-6147-4908-AE56-5B38C0241E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4360" y="1844640"/>
            <a:ext cx="79912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f7c"/>
                </a:solidFill>
                <a:uFillTx/>
                <a:latin typeface="Arial Narrow"/>
              </a:rPr>
              <a:t>Meeting on Initial Conditions and Inflation Forecast Fulfillmen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Identification of structural shocks 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Out-of-model information (examples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Is there any significant change in underlying sectoral productivity trends?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External assumptions (CF) and their expected impact on the forecast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Initial exchange rate scenario for NTF - mix of model consistent UIP and order flow forecast (BoP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Inflation forecast fulfillment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Meeting on “Initial Conditions” with the Bank Board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Exampl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133" name=""/>
          <p:cNvSpPr/>
          <p:nvPr/>
        </p:nvSpPr>
        <p:spPr>
          <a:xfrm>
            <a:off x="5292720" y="234936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28571" y="10800"/>
                </a:lnTo>
                <a:lnTo>
                  <a:pt x="14558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orecasting Process and Its Organisation (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v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CB3D1-23B2-4C24-8822-744B0B4E63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orecasting Process and Its Organisation (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v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204640"/>
            <a:ext cx="7989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3f7c"/>
                </a:solidFill>
                <a:uFillTx/>
                <a:latin typeface="Arial Narrow"/>
              </a:rPr>
              <a:t>1</a:t>
            </a:r>
            <a:r>
              <a:rPr b="0" lang="en-US" sz="2400" spc="-1" strike="noStrike" u="sng">
                <a:solidFill>
                  <a:srgbClr val="003f7c"/>
                </a:solidFill>
                <a:uFillTx/>
                <a:latin typeface="Arial Narrow"/>
              </a:rPr>
              <a:t>. Forecast Round: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NTF is already incorporated into the model forecast (residuals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he first draft of the forecast introduced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Response of management and experts 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Room for modification or tuning the message of the baseline scenario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Discussing the motivation for alternativ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Meeting with the Bank Board on alternative scenarios: which risks are to be quantified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A36D3-1DEB-4304-8FEE-EF80FB2DA9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orecasting Process and Its Organisation (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vi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9898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3f7c"/>
                </a:solidFill>
                <a:uFillTx/>
                <a:latin typeface="Arial Narrow"/>
              </a:rPr>
              <a:t>Final Forecast Round: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Approval of the baseline scenario of the forecast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Final consistency check and fine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-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uning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Preparing alternatives and MP experiment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2B55D-E600-417C-A41E-B09D4FB4E82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Verdana"/>
              </a:rPr>
              <a:t>Outlin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9898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The motivation for FPAS and main objectives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The elements of the system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The forecasting process and its organization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Conclusion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0EE7E-7240-4FEA-84B9-FF638744DD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orecasting Process and Its Organisation (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vii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9898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3f7c"/>
                </a:solidFill>
                <a:uFillTx/>
                <a:latin typeface="Arial Narrow"/>
              </a:rPr>
              <a:t>Post Mortem Meeting: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Opportunity to systematically asses what went wrong and what should be improved (technically vs. in terms of organization of the process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Broad participation of the department is encouraged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Efficient tool to transform fresh emotions into immediate measures for the next time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Exampl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9078C-64D7-43F4-803D-5345180D2E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68360" y="186840"/>
            <a:ext cx="64072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orecasting Process and Its Organisation (i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x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2" name="Rectangle 3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46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F98FB-DF0A-4655-8AF4-2ED361A1CB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Conclus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15920"/>
            <a:ext cx="79898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Structured debate about risks and policy issues enabled due to common language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Forecast with active MP (includes rates trajectory consistent with forecast)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Involvement of MSD resources but manageable discussion: F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Consistently incorporated judgmen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Real time pressures well tackled due to automatisation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Story-centered discussion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High level of transparency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AAB38-310F-474E-8E5C-67F2EB16126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4360" y="2923920"/>
            <a:ext cx="798984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Thank you for your attention !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185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185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Tibor.Hledik</a:t>
            </a: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@cnb.cz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34C52-99E5-4BBC-A20E-9BC9EF9134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Backup slid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1193B-1AC0-40B2-8383-BC041929019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Production structure – g3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9" name="Rectangle 3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640720" cy="439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27FD4-E9C0-407E-9BF6-9F51E227715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351640" cy="4392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661240" y="641988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9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Price structure – g3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F73F8-7FF1-4ED8-A250-12E4C4D7588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Identification of structural shock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55" name="Rectangle 3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4753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7451640" y="63817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9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357EB-41BE-479C-B855-9B55B47D82F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00000" y="260280"/>
            <a:ext cx="648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recasting 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ocess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 (i)</a:t>
            </a:r>
            <a:endParaRPr b="0" lang="en-US" sz="2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1700280"/>
            <a:ext cx="42840" cy="4103640"/>
          </a:xfrm>
          <a:prstGeom prst="line">
            <a:avLst/>
          </a:prstGeom>
          <a:ln w="38160">
            <a:solidFill>
              <a:srgbClr val="003f7c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14480" y="5803920"/>
            <a:ext cx="7924680" cy="0"/>
          </a:xfrm>
          <a:prstGeom prst="line">
            <a:avLst/>
          </a:prstGeom>
          <a:ln w="38160">
            <a:solidFill>
              <a:srgbClr val="003f7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15920" y="2205000"/>
            <a:ext cx="3024360" cy="3600360"/>
          </a:xfrm>
          <a:prstGeom prst="line">
            <a:avLst/>
          </a:prstGeom>
          <a:ln w="381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15920" y="3429000"/>
            <a:ext cx="7923240" cy="1079640"/>
          </a:xfrm>
          <a:prstGeom prst="line">
            <a:avLst/>
          </a:prstGeom>
          <a:ln w="381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76240" y="5803920"/>
            <a:ext cx="0" cy="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76240" y="5803920"/>
            <a:ext cx="0" cy="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76240" y="5803920"/>
            <a:ext cx="0" cy="15228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21080" y="5803920"/>
            <a:ext cx="0" cy="15228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00480" y="5803920"/>
            <a:ext cx="0" cy="15228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62240" y="5803920"/>
            <a:ext cx="0" cy="15228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36640" y="3068640"/>
            <a:ext cx="39600" cy="2735280"/>
          </a:xfrm>
          <a:prstGeom prst="line">
            <a:avLst/>
          </a:prstGeom>
          <a:ln w="9360">
            <a:solidFill>
              <a:srgbClr val="003f7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24360" y="5803920"/>
            <a:ext cx="0" cy="15228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86480" y="5803920"/>
            <a:ext cx="0" cy="15228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62640" y="5803920"/>
            <a:ext cx="0" cy="15228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53000" y="3068640"/>
            <a:ext cx="33480" cy="2735280"/>
          </a:xfrm>
          <a:prstGeom prst="line">
            <a:avLst/>
          </a:prstGeom>
          <a:ln w="9360">
            <a:solidFill>
              <a:srgbClr val="003f7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49800" y="60325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1Q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97720" y="60325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3Q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59640" y="60325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2Q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21600" y="60325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5Q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59840" y="60325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4Q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83720" y="60325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6Q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45840" y="60325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7Q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10720" y="43974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81360" y="33577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f7c"/>
                </a:solidFill>
                <a:latin typeface="Times New Roman"/>
              </a:rPr>
              <a:t>g3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39520" y="45813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f7c"/>
                </a:solidFill>
                <a:latin typeface="Times New Roman"/>
              </a:rPr>
              <a:t>NTF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36640" y="2925720"/>
            <a:ext cx="3810240" cy="304920"/>
          </a:xfrm>
          <a:prstGeom prst="leftRightArrow">
            <a:avLst>
              <a:gd name="adj1" fmla="val 50000"/>
              <a:gd name="adj2" fmla="val 248760"/>
            </a:avLst>
          </a:prstGeom>
          <a:solidFill>
            <a:srgbClr val="cc0000"/>
          </a:solidFill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34040" y="2374920"/>
            <a:ext cx="212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imes New Roman"/>
              </a:rPr>
              <a:t>Integration process</a:t>
            </a:r>
            <a:endParaRPr b="0" lang="en-US" sz="20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02520" y="5805360"/>
            <a:ext cx="52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f7c"/>
                </a:solidFill>
                <a:latin typeface="Arial Narrow"/>
              </a:rPr>
              <a:t>time</a:t>
            </a:r>
            <a:endParaRPr b="0" lang="en-US" sz="16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71640" y="2205000"/>
            <a:ext cx="792000" cy="93492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553000" y="3933720"/>
            <a:ext cx="3456000" cy="50328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40280" y="3718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20120" y="186840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0000"/>
                </a:solidFill>
                <a:uFillTx/>
                <a:latin typeface="Times New Roman"/>
              </a:rPr>
              <a:t>Integrated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77360" y="357336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cc0000"/>
                </a:solidFill>
                <a:uFillTx/>
                <a:latin typeface="Times New Roman"/>
              </a:rPr>
              <a:t>Forecast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1557360"/>
            <a:ext cx="104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f7c"/>
                </a:solidFill>
                <a:latin typeface="Arial Narrow"/>
              </a:rPr>
              <a:t>p</a:t>
            </a:r>
            <a:r>
              <a:rPr b="1" lang="en-US" sz="1600" spc="-1" strike="noStrike">
                <a:solidFill>
                  <a:srgbClr val="003f7c"/>
                </a:solidFill>
                <a:latin typeface="Arial Narrow"/>
              </a:rPr>
              <a:t>rojection accuracy</a:t>
            </a:r>
            <a:endParaRPr b="0" lang="en-US" sz="16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DA5A2-A909-42F0-BE42-C715033CA30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755640" y="33336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recasting 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ocess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 (ii)</a:t>
            </a:r>
            <a:endParaRPr b="0" lang="en-US" sz="2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05720" y="46134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35640" y="393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95" name="">
            <a:hlinkClick r:id="rId1" action="ppaction://hlinksldjump"/>
          </p:cNvPr>
          <p:cNvSpPr/>
          <p:nvPr/>
        </p:nvSpPr>
        <p:spPr>
          <a:xfrm>
            <a:off x="7885080" y="6453360"/>
            <a:ext cx="432000" cy="21564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36" h="21600">
                <a:moveTo>
                  <a:pt x="0" y="0"/>
                </a:moveTo>
                <a:lnTo>
                  <a:pt x="43236" y="0"/>
                </a:lnTo>
                <a:lnTo>
                  <a:pt x="43236" y="21600"/>
                </a:lnTo>
                <a:lnTo>
                  <a:pt x="0" y="21600"/>
                </a:lnTo>
                <a:close/>
              </a:path>
              <a:path fill="lightenLess" w="43236" h="21600">
                <a:moveTo>
                  <a:pt x="0" y="0"/>
                </a:moveTo>
                <a:lnTo>
                  <a:pt x="43236" y="0"/>
                </a:lnTo>
                <a:lnTo>
                  <a:pt x="41836" y="1400"/>
                </a:lnTo>
                <a:lnTo>
                  <a:pt x="1400" y="1400"/>
                </a:lnTo>
                <a:close/>
              </a:path>
              <a:path fill="darken" w="43236" h="21600">
                <a:moveTo>
                  <a:pt x="43236" y="0"/>
                </a:moveTo>
                <a:lnTo>
                  <a:pt x="43236" y="21600"/>
                </a:lnTo>
                <a:lnTo>
                  <a:pt x="41836" y="20200"/>
                </a:lnTo>
                <a:lnTo>
                  <a:pt x="41836" y="1400"/>
                </a:lnTo>
                <a:close/>
              </a:path>
              <a:path fill="darkenLess" w="43236" h="21600">
                <a:moveTo>
                  <a:pt x="43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6" y="20200"/>
                </a:lnTo>
                <a:close/>
              </a:path>
              <a:path fill="lighten" w="43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36" h="21600">
                <a:moveTo>
                  <a:pt x="14612" y="3794"/>
                </a:moveTo>
                <a:lnTo>
                  <a:pt x="28624" y="10800"/>
                </a:lnTo>
                <a:lnTo>
                  <a:pt x="14612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0" y="1714680"/>
            <a:ext cx="9144000" cy="4667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70814-D6CE-4C5A-B970-2A701312E94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800" y="2060640"/>
            <a:ext cx="79185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FPAS is most importantly a </a:t>
            </a:r>
            <a:r>
              <a:rPr b="0" i="1" lang="cs-CZ" sz="2400" spc="-1" strike="noStrike">
                <a:solidFill>
                  <a:srgbClr val="003f7c"/>
                </a:solidFill>
                <a:latin typeface="Arial Narrow"/>
              </a:rPr>
              <a:t>system</a:t>
            </a:r>
            <a:r>
              <a:rPr b="0" i="1" lang="en-US" sz="2400" spc="-1" strike="noStrike">
                <a:solidFill>
                  <a:srgbClr val="003f7c"/>
                </a:solidFill>
                <a:latin typeface="Arial Narrow"/>
              </a:rPr>
              <a:t>!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Its main goals: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876240" indent="-41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All know-how at department level should be channeled into the analysis and forecast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876240" indent="-41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Clear division of responsibiliti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876240" indent="-41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Effective execution of specialized tasks but…emphasis on high quality synthesi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876240" indent="-41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Good coordination of mutually linked activiti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876240" indent="-41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ransforming the technical results into a digestible story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876240" indent="-41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Meeting tight deadlin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The 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motivation for FPAS and main o</a:t>
            </a: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bjectives (i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CF798-2156-4087-BA39-72CC21AFEC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nsitivity to foreign demand assump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8" name="Rectangle 3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207280" cy="45352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7740720" y="638172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28571" y="10800"/>
                </a:lnTo>
                <a:lnTo>
                  <a:pt x="14558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56455-97E9-439E-A6E9-63FEFE39065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Endogenous interest-  and exchange rat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773360"/>
            <a:ext cx="39178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Arial"/>
              </a:rPr>
              <a:t>3M PRIBOR forecas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5960" y="1773360"/>
            <a:ext cx="39193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Arial"/>
              </a:rPr>
              <a:t>Exchange rate forecas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2205000"/>
            <a:ext cx="4067280" cy="41036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716360" y="2421000"/>
            <a:ext cx="4032360" cy="3887640"/>
          </a:xfrm>
          <a:prstGeom prst="rect">
            <a:avLst/>
          </a:prstGeom>
          <a:ln w="0">
            <a:noFill/>
          </a:ln>
        </p:spPr>
      </p:pic>
      <p:sp>
        <p:nvSpPr>
          <p:cNvPr id="205" name="">
            <a:hlinkClick r:id="rId3" action="ppaction://hlinksldjump"/>
          </p:cNvPr>
          <p:cNvSpPr/>
          <p:nvPr/>
        </p:nvSpPr>
        <p:spPr>
          <a:xfrm>
            <a:off x="7451640" y="63817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9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D5A75-3523-4DFD-B61B-2A4F42048C0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Identification of structural shocks – initial conditio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7" name="Rectangle 3" descr=""/>
          <p:cNvPicPr/>
          <p:nvPr/>
        </p:nvPicPr>
        <p:blipFill>
          <a:blip r:embed="rId1"/>
          <a:stretch/>
        </p:blipFill>
        <p:spPr>
          <a:xfrm>
            <a:off x="0" y="1773360"/>
            <a:ext cx="8421840" cy="45352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7451640" y="63817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9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E7C22-2C2D-4747-8EBB-4BBB6B6747B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Decomposition tool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0" name=""/>
          <p:cNvSpPr/>
          <p:nvPr/>
        </p:nvSpPr>
        <p:spPr>
          <a:xfrm>
            <a:off x="7451640" y="63817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9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pic>
        <p:nvPicPr>
          <p:cNvPr id="211" name="Rectangle 3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68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146C9-FEF8-4599-B0E9-A20766B9558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The structure of nominal disposable incom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3" name="Rectangle 3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569440" cy="46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9CFE8-D9A2-4D3E-B706-3A9352463E9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The analysis of n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minal wage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 growth (i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-9360" y="1484280"/>
            <a:ext cx="9153360" cy="468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B1DA8-CD49-45C6-9AB4-8E530FFAE9E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The analysis of n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minal wage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 growth (ii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53360" cy="46861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7740720" y="630864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28571" y="10800"/>
                </a:lnTo>
                <a:lnTo>
                  <a:pt x="14558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D4343-1C08-4D0F-AB7E-8830D2798BB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84360" y="3265200"/>
            <a:ext cx="7989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9144000" cy="3189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271520"/>
            <a:ext cx="9144000" cy="18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349280"/>
            <a:ext cx="9144000" cy="18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56720" y="237960"/>
            <a:ext cx="1440" cy="10335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-3556080" y="-2666880"/>
            <a:ext cx="16256160" cy="1219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66115-3FC2-407B-93E0-2BE2BE612B8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84360" y="3265200"/>
            <a:ext cx="7989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c"/>
                </a:solidFill>
                <a:latin typeface="Arial Narrow"/>
              </a:rPr>
              <a:t>Thank You for Your Attention !</a:t>
            </a:r>
            <a:endParaRPr b="0" lang="en-US" sz="32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9144000" cy="3189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1271520"/>
            <a:ext cx="9144000" cy="18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1349280"/>
            <a:ext cx="9144000" cy="18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56720" y="237960"/>
            <a:ext cx="1440" cy="10335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112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8532720" y="61657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9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76569-C7B6-4F0E-B133-99834C48596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826560" y="1844280"/>
            <a:ext cx="776628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T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he difference between forecasting in a CB compared, for instance, with the academia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923760" indent="-4802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Individual vs. Team work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923760" indent="-4802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Own views vs. Communication within the forecasting team and with policy maker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923760" indent="-4802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Snap-shot  vs. Regular task 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923760" indent="-4802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Medium-term research vs. Real-time pressur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923760" indent="-4802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“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No memory” vs. Last forecast relative to 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the actual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 one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923760" indent="-4802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Broad picture vs. Detail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923760" indent="-4802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echnical language vs. Macro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economic 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story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923760" indent="-4802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arget groups for “external” communication are different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The 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motivation for FPAS and main o</a:t>
            </a: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bjectives (i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"/>
          <p:cNvSpPr/>
          <p:nvPr/>
        </p:nvSpPr>
        <p:spPr>
          <a:xfrm>
            <a:off x="5038560" y="38275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9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CCAD2-CDDD-496B-BEE6-7E89663B19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The 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motivation for FPAS and main o</a:t>
            </a: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bjectives (ii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7777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Medium-term approach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Reactive MP and unconditional inflation forecas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Insight into decision making of economic agents and monetary authority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The process organized around a relatively simple (QMP) resp. less simple (g3) core structural model: 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How important it is to have a state-of-the art core model?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Communication aspects  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Departmental forecasting team: responsible for the successful conduct of the process and co-operation of all divisions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612B3-138F-4D09-9B61-296858ABFA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motivation for FPAS and main o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bjectives</a:t>
            </a: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 (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v</a:t>
            </a: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9898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To have consistent and clear methodology to derive a consistent macroeconomic forecas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To shape inflation expectations and behave systematically in line with the inflation forecas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To communicate the basic massage of the forecast: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where the economy is and what the current trends are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what 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is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 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the 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likely evolution in the future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what are the implicit risk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what are the underlying pressures in terms of MP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AF24C-3E7C-45D8-8AEE-2A4F4888F5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The Elements of the System (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773360"/>
            <a:ext cx="39178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7" name=""/>
          <p:cNvSpPr/>
          <p:nvPr/>
        </p:nvSpPr>
        <p:spPr>
          <a:xfrm>
            <a:off x="684360" y="3933720"/>
            <a:ext cx="77724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CNB relied on near-term methods when the IT introduced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QPM introduced into forecasting in mid-2002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Switch from constant IRs assumption to endogenous IRs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Successful switch to ‘g3’ in mid-2008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Integration with near-term forecast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nowcasting</a:t>
            </a:r>
            <a:r>
              <a:rPr b="0" lang="cs-CZ" sz="2400" spc="-1" strike="noStrike">
                <a:solidFill>
                  <a:srgbClr val="4086b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+</a:t>
            </a:r>
            <a:r>
              <a:rPr b="0" lang="cs-CZ" sz="2400" spc="-1" strike="noStrike">
                <a:solidFill>
                  <a:srgbClr val="4086b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robustness check</a:t>
            </a:r>
            <a:r>
              <a:rPr b="0" lang="cs-CZ" sz="2400" spc="-1" strike="noStrike">
                <a:solidFill>
                  <a:srgbClr val="4086b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+</a:t>
            </a:r>
            <a:r>
              <a:rPr b="0" lang="cs-CZ" sz="2400" spc="-1" strike="noStrike">
                <a:solidFill>
                  <a:srgbClr val="4086b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expert judgments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pic>
        <p:nvPicPr>
          <p:cNvPr id="98" name="Rectangle 3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569440" cy="21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3417C-64C0-4A56-9703-65F6D2DC5A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The Elements of the System (i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77724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f7c"/>
                </a:solidFill>
                <a:uFillTx/>
                <a:latin typeface="Arial Narrow"/>
              </a:rPr>
              <a:t>Core model (g3)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Multisectoral SOE model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f7c"/>
                </a:solidFill>
                <a:latin typeface="Arial Narrow"/>
              </a:rPr>
              <a:t>No ad-hoc detrending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, explicit treatment of sectoral trends 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BGP with constant nominal expenditure shares and trends in relative prices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Cascade of price and wage rigidities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Real frictions (habit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 formation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, new vs. old capital, ...)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Imperfect exchange rate pass-through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Import intensity of exports, increase in trade openness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Regulated prices included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C657E-96FB-4913-A425-A46777DA73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The Elements of the System (i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i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f7c"/>
                </a:solidFill>
                <a:uFillTx/>
                <a:latin typeface="Arial Narrow"/>
              </a:rPr>
              <a:t>Core model (g3) (cont.)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Definition of the key features of the economy 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he structure of the model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Stock-flow equilibrium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Calibration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Kalman filtering, identification of structural shock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he model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 generates an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 interest rates trajectory consistent with the overall projection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Some other use: alternative scenarios, MP experiments, stochastic simulations of shocks etc.  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103" name=""/>
          <p:cNvSpPr/>
          <p:nvPr/>
        </p:nvSpPr>
        <p:spPr>
          <a:xfrm>
            <a:off x="4427640" y="274788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28571" y="10800"/>
                </a:lnTo>
                <a:lnTo>
                  <a:pt x="14558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56000" y="472428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9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56240" y="542124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28571" y="10800"/>
                </a:lnTo>
                <a:lnTo>
                  <a:pt x="14558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20000" y="397656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28571" y="10800"/>
                </a:lnTo>
                <a:lnTo>
                  <a:pt x="14558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2FBE2-E633-407F-9BEB-8D022E4A04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7T12:09:39Z</dcterms:created>
  <dc:creator>U00139</dc:creator>
  <dc:description/>
  <dc:language>en-US</dc:language>
  <cp:lastModifiedBy>u04267</cp:lastModifiedBy>
  <dcterms:modified xsi:type="dcterms:W3CDTF">2012-01-13T09:55:42Z</dcterms:modified>
  <cp:revision>123</cp:revision>
  <dc:subject/>
  <dc:title>Český název přednášky/akce</dc:title>
</cp:coreProperties>
</file>