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EDD0-3C80-4737-B9EB-9147D59E1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E0B6-CC0F-486E-A668-C4074398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73D3-3758-4F19-ADA1-091B7D593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2783-87C4-4F82-8CD2-F659D9AB3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DC6C-7423-4619-AD3B-66807DC4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3B09-7FAB-4AA0-9F89-924467D8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F45B-7F38-4087-BFB5-72E7B5CF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1D5D-096A-442C-AB2B-070BB402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1699-A8B5-4793-9C76-1FD39185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EB31-B413-4564-BEA5-70D56D60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341D-CC9D-4C38-9A85-E04A3510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F30A-27B0-4151-9A3E-47E57D6F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F556-0DF3-4CAD-8789-6A82DF8FA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peter.toth@cnb.cz" TargetMode="External"/><Relationship Id="rId2" Type="http://schemas.openxmlformats.org/officeDocument/2006/relationships/hyperlink" Target="mailto:peter.toth@cnb.cz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ear-Term Forecasting of GDP at the CN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3068280"/>
            <a:ext cx="835164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eter Tó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croeconomic Forecasting Div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zech National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76720" y="4653000"/>
            <a:ext cx="388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eter.toth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cnb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420 22441 37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403280" y="5459400"/>
            <a:ext cx="646740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s 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ment (HTK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96000" y="2565360"/>
            <a:ext cx="334800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-o-q grow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sonally adju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 smoothed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estment (HTK) linked 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ort (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icult to find any other robust relationship between investment and other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lationship was first researched without HP smo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1280" y="2687760"/>
            <a:ext cx="550872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s 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 (I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6000" y="1773360"/>
            <a:ext cx="3348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-o-q grow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sonally adju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 smoothed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ort (IM) linked 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um of C+G (SDS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estment (HT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ort (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ecasts of the C, G, I and EX are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lationship was first researched without HP smo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1280" y="2573280"/>
            <a:ext cx="536436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s 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 (I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51640" y="2565360"/>
            <a:ext cx="3348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ur open economy, export is most important for the demand of imported g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ffects of investment and consumption (C+G) are 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of the variation is cut off by the HP smoother (effects don’t add up to the blue l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9280" y="2565360"/>
            <a:ext cx="500724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s 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03148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lator of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to CPI forecast and an AR(1) term, seasonally adjusted q-o-q grow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lator of 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to CPI forecast, wages in the non-business sector (colleague’s forecast) and an AR(1) term, seasonally adjusted q-o-q grow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lator of 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to forecasts of import deflator, CPI and AR(1) term, seasonally adjusted y-o-y grow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lator of X and 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cast by colleague (D. Havrlant). Linked to the forecasts of import and export price index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DP defla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to forecasts of CPI, X and M deflators, AR(1) term, seasonally adjusted y-o-y grow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s 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ation of the GDP foreca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weighted average of year-on-year growth rates of GDP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: nominal weights of components in the same period of the preceding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-post smoothening of the GDP forecast by adding expert judgement into some components, mainly investment (uncertainty) or import (has big we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 reflect on the GDP forecast of benchmark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TF of GDP at the CN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TF of GDP at the CNB: users, goals,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xpert forecasts within the core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dels within the core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TF of GDP at the CN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DP + exp. components forecast 1Q ahead is treated “as history” in the medium-term model (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Q-s ahead (1-2 years) serves as a benchmark for the medium-term model (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 and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cast precision a few (1-3) quarters a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vely smooth components forecast in q-o-q growths (required by g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y-telling based on expenditur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benchmark for g3 1-2 years a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TF of GDP at the CN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frame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-equation econometric models for I, X, M + all deflators (C, I, G, X,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rterly interpolation of G based on a nominal annual forecast (made at another department) + quarterly forecast of the def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t forecast of private consumption with disposable income broken down into components + smoothing by the savings rate and some components of disp.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chmark mod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ar-term models of GDP using monthly leading indicators: principal components, dynamic factor models, bridge equations, and averaged bivariate V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t Forecasts with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8920"/>
            <a:ext cx="8218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ehold Con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mpose disposable income (DI) to components: operating surplus, wages and salaries, social contributions, transfers, tax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ponents are forecast by our colleagues (quarterly or annually), others are jud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an idea of the new consumption forecast based on where the labor market and the fiscal forecast are mo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ing into account the assumptions on DI components, smoothen consumption forecast by the savings rate and some DI components that are highly uncer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t Forecasts with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71120"/>
            <a:ext cx="8229600" cy="6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ehold Consu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8000" y="2424240"/>
            <a:ext cx="87138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t Forecasts with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2031840"/>
            <a:ext cx="8218440" cy="44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Consumption (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 annual fiscal forecast from collea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olate nominal G into quarters by matching the annual sums (levels) in the fiscal forecast (quadratic interpolation from annual to quarterly data in E-Vie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cast the quarterly G deflator and deflate the forecast of nominal G to get real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s 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rt (EX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0920" y="2643120"/>
            <a:ext cx="5257800" cy="3449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796000" y="1268280"/>
            <a:ext cx="334800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-o-q grow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sonally adju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 smoothed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ort (EX) linked 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urozone GDP (HDPE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 exchange rate deflated by relative PPI-s (RERPP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mmy: period of EU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DP_EU and RER_PPI  are forecast by colleag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model is quite robust to new observations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relationship was first researched without HP smo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s 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rt (EX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96000" y="2133720"/>
            <a:ext cx="33480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zone GDP is most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 of real exchange rate is typically 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te significant persistence (AR te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te a lot of unexplained variation during the recession (periods ’08-’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f the variation is cut off by the HP smoother (effects don’t add up to the black l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0920" y="2565360"/>
            <a:ext cx="536400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0:16:40Z</dcterms:created>
  <dc:creator>u03999</dc:creator>
  <dc:description/>
  <dc:language>en-US</dc:language>
  <cp:lastModifiedBy>u04267</cp:lastModifiedBy>
  <dcterms:modified xsi:type="dcterms:W3CDTF">2012-01-13T08:10:46Z</dcterms:modified>
  <cp:revision>8</cp:revision>
  <dc:subject/>
  <dc:title>Near-Term Forecasting of GDP at the CNB</dc:title>
</cp:coreProperties>
</file>