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779640" y="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928692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779640" y="9286920"/>
            <a:ext cx="288900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037A579-2666-4202-B070-DE1B04336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88480" y="4641480"/>
            <a:ext cx="4891320" cy="43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4722-45F7-47B4-8321-5785EE319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E888-1BDD-496C-9482-23FAB9DB1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089B-EB8A-4193-B97C-04FE4886D0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682C-0ECC-4AA7-8CEC-EA11A5B72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8829-D83E-4A05-A99D-DF1681311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7284-758F-4F79-B6D0-326D7FE99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99C8-5B46-4CA6-8224-CCD983ABD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44AB-2174-4150-9D87-6E8F5146B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E142-9DA6-4D0A-A455-1DE40BD09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086C-C4E8-4664-B176-92E148291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A5B87-007A-41F5-A46B-93134C30B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B6B4-AFC2-4C1C-A0C5-88D89A533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376A-F7D0-4937-A356-6988198E0DD3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Narrow"/>
              </a:rPr>
              <a:t>Tools for Monetary Policy with DSGE Models</a:t>
            </a:r>
            <a:r>
              <a:rPr b="0" lang="cs-CZ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1640" y="2708280"/>
            <a:ext cx="388764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f7c"/>
                </a:solidFill>
                <a:latin typeface="Arial Narrow"/>
              </a:rPr>
              <a:t>g3 – 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Jaromír Tonn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f7c"/>
                </a:solidFill>
                <a:latin typeface="Arial Narrow"/>
              </a:rPr>
              <a:t>Brno, autumn, 2011</a:t>
            </a:r>
            <a:endParaRPr b="0" lang="en-US" sz="26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501336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Real variables slump, nominal wages sticky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mplies inflation pressur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odel in reduced for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nd reason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4A17-4514-4B00-8BB8-4313469957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A2DC-8027-4A10-A0D4-3F03EB0472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Median of gross month salary (Kč/month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</a:t>
                      </a: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</a:t>
                      </a: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2 064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837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47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8 115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30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 3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1340280" y="5661000"/>
            <a:ext cx="721728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ms could keep the same wages only if fired were 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mployees with low salary and..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15772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EB6CA-9B12-425E-9E89-B441109E5F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umber of employees (thousands)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38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4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32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707 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 61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70320" y="5375160"/>
            <a:ext cx="4920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1/3 less new employees than fir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973C-0E35-459E-93BB-B62F2C66F6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worked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8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4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53.6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49.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668880" y="5375160"/>
            <a:ext cx="5117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lowest hours worked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595008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D45C-6911-404A-9BE9-DFC2AE57E6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916280"/>
          <a:ext cx="799308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58410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Hours of sickness monthly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95280" y="242100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. half of 2009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95280" y="3429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Employee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95280" y="393372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ed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5280" y="4437000"/>
          <a:ext cx="7994520" cy="45576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95280" y="2924280"/>
          <a:ext cx="7994520" cy="455400"/>
        </p:xfrm>
        <a:graphic>
          <a:graphicData uri="http://schemas.openxmlformats.org/drawingml/2006/table">
            <a:tbl>
              <a:tblPr/>
              <a:tblGrid>
                <a:gridCol w="1936440"/>
                <a:gridCol w="3011040"/>
                <a:gridCol w="2831400"/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Firms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3f7c"/>
                          </a:solidFill>
                          <a:latin typeface="Arial Narrow"/>
                        </a:rPr>
                        <a:t>5.0</a:t>
                      </a:r>
                      <a:endParaRPr b="0" lang="en-US" sz="20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576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f7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f7c"/>
                      </a:solidFill>
                    </a:lnL>
                    <a:lnR w="13680">
                      <a:solidFill>
                        <a:srgbClr val="003f7c"/>
                      </a:solidFill>
                    </a:lnR>
                    <a:lnT w="13680">
                      <a:solidFill>
                        <a:srgbClr val="003f7c"/>
                      </a:solidFill>
                    </a:lnT>
                    <a:lnB w="13680">
                      <a:solidFill>
                        <a:srgbClr val="003f7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668880" y="5375160"/>
            <a:ext cx="5813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red have the highest hours of sickness.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877000"/>
            <a:ext cx="8137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f7c"/>
                </a:solidFill>
                <a:latin typeface="Arial Narrow"/>
              </a:rPr>
              <a:t>Source: prezentation Spáčil, Kasal: Projevy krize v datech ISPV, www.trexima.cz</a:t>
            </a:r>
            <a:endParaRPr b="0" lang="en-US" sz="1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494D-B13F-41F5-B033-AF54FB3D6A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Who lost job?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wages employee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Double sickness absence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hours work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Low qualifie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Basic education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increases average wages, however we need fundamental wag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t requires expert judgment…how much?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E0FF-8C53-47B8-8809-967461CD63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805040"/>
            <a:ext cx="874872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288B-DEC1-421D-A34C-EE1C1955AB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475D-3066-4524-9385-0A79D63BE0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nominal wag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AD29-96E2-4111-B5F2-498E6BF97B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se stu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ensitivity analy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0A24-3EDD-428A-BC61-CB611C4E2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an increase of credit premium (interbank 3M PRIBOR rates did not follow changes of the 2W CNB’s policy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ociated with uncertainty, releasing worse and worse economic data (at the beginning of 2009) etc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shows us a trajectory of the interbank rate but does not incorporate policy rate (2W REPO rate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setting of 2W REPO rate is based on the model consistent trajectory of 3M PRIBOR interbank rate and a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8BB5D-C655-4D84-B3F1-702957A0E2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Solution outside the model ! necessity of assumption about a premium to recognize required trajectory of the policy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ssumption that the premium in the Czech economy corresponds to a European Area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pproximation using monthly data: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Cred premt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= 3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mPribor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−(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1+2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wRepot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+2)/3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BBA5-FE5F-45D3-9F0B-F7EF903C85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redit premium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8" name="Rectangle 3" descr=""/>
          <p:cNvPicPr/>
          <p:nvPr/>
        </p:nvPicPr>
        <p:blipFill>
          <a:blip r:embed="rId1"/>
          <a:stretch/>
        </p:blipFill>
        <p:spPr>
          <a:xfrm>
            <a:off x="1751040" y="1773360"/>
            <a:ext cx="585936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1F53-2655-419C-9CAD-10D07E2D5C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bservation of deep and equivalent slumps of export and import volum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The Czech economy case: large import intensity of exports (not only value added is traded ..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ecause slumps of volumes implies a fall in re-exports, the decrease of GDP is small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lanation: cut-off of some logistics centres with relatively low added valu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9902-4826-4864-8197-7D846DE330D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1772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s well-suited for this situation and provides a tool for a solution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g3 incorporates the openness technology to capture the different (and significant in reality) growth rates of trade volumes with respect to output growth (re-export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BC14-0F09-4A22-804D-07CECDD57A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trade fall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Initial conditions (model filtration): we observed a decrease of the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art of volume slumps can be attributed to a decrease of openness technolog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On the other hand, the near-term-forecast (NTF) reassesses the nowcast of trade volumes in order to have deeper slump of exports than imports (see the figure in the introduction) -&gt; a decrease of outpu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98C1-5CD0-4718-9C13-555328DA83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ubsidies in some European countries raise demand for Czech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industry is very significant in the Czech Republic (Skoda, TCPA - Toyota Peugeot Citroen Automobile, Hyundai, many suppliers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Car scrapping significant mostly for lower class cars (the majority of Czech production) ! we observe an increase of car production, and hence expor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subsidies in 2009, strong uncertainty for 2010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8651-4463-491B-AB53-AA4CFBB4CB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car scrapping subsidi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Foreign demand modelled exogenousl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xpert judgement for foreign demand: significant increase in 2009, but a decrease in 2010 with the termination of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People will exploit subsidies before the termination with subsequent fall in demand for ca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ference paper: Adda, J. and Cooper R. (2000): Balladurette and Juppette: A Discrete Analysis of Scrapping Subsidies. </a:t>
            </a:r>
            <a:r>
              <a:rPr b="0" i="1" lang="en-GB" sz="2800" spc="-1" strike="noStrike">
                <a:solidFill>
                  <a:srgbClr val="003f7c"/>
                </a:solidFill>
                <a:latin typeface="Arial Narrow"/>
              </a:rPr>
              <a:t>The Journal of Political Economy </a:t>
            </a: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108:4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BDBD8-9017-4857-B649-63B4DA2042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Relatively high steady-state growth rates before the crisi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Uncertainty with the after-crisis growth (in the short- as well in the long-run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81A1-EF20-4893-9B41-B279BBB074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f after crisis S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keep the same steady-state to have historical filtrations unchange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But for the forecast the steady-state growth rates of technologies are decreased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(assumption about the gradual recovery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We simulate various scenarios with (lower growth rates in middle-run and long-run, lower wages, negatively shocks to technologies etc.)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8E9A-FD13-49D2-A245-06E9ABC235E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Measurement error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asonal adjustmen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s on filter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n forecas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BACB-FC2B-434E-8DDC-184EABAE8E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vs. Fan charts (graphs with confidence intervals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is constructed to capture uncertainty of the produced forecast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 analysis also serves the purpose of gaining better intuition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cenarios may differ not only in alternative paths of exogenous variables but also whether and what variables are anticipated or unanticipated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ur decomposition tools are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ecomposition of alternative scenarios into factors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analysis of sources of a difference between two successive forecast,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f9bc8"/>
                </a:solidFill>
                <a:latin typeface="Arial Narrow"/>
              </a:rPr>
              <a:t>dynamics decomposition of a forecast w.r.t the steady state.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C91B-D011-4A6D-B170-6C75A2D3B5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cenario analy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 and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demand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nergy pric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change rate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AE34-4C8B-40DB-9838-D765CF1F39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 experiment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Observation of higher wages due to high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is shock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Expert judgment of lower wages on forecast due to lower productivity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5648-1766-4F60-B109-0D6A698FC7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0" name="Rectangle 3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2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87F3-319F-4DAF-BCF6-39637C1D89B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9780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9EE4-C44B-4BA1-AAD4-3A4E740A51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nominal wages and productivity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Rectangl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8EC4-1A8F-4717-8623-838D3013C6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foreign deman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6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CF00-F572-4BF3-BE8C-F895AE5D54E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nergy price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351640" cy="396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E93A-968D-43E9-91F8-089C023851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nsitivity to exchange rat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0" name="Rectangle 3" descr=""/>
          <p:cNvPicPr/>
          <p:nvPr/>
        </p:nvPicPr>
        <p:blipFill>
          <a:blip r:embed="rId1"/>
          <a:stretch/>
        </p:blipFill>
        <p:spPr>
          <a:xfrm>
            <a:off x="684360" y="2133720"/>
            <a:ext cx="792000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17EF-188E-44C4-89B8-AC96FDE0B41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reflect our priors concerning data reliability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ME brings some problems in distinguishing between structural shock and measurement error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Even in case of ME, a significant portion of information can be used by the model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Another problem is that filtered vars need not match exactly raw data, so then ..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f7c"/>
                </a:solidFill>
                <a:latin typeface="Arial Narrow"/>
              </a:rPr>
              <a:t>...we investigate factors for that discrepancy...what are models or data deficiencies.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CA7F-7EB0-4947-824A-C63770E56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Measurement error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982800" y="1773360"/>
            <a:ext cx="73962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1DF2-CABE-4CD3-B79D-3ED2A56A53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Seasonal adjustmen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34544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A86B-7D13-4303-A64F-BC5C68A08D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ilter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771192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412E-9C00-41EF-AC7F-556F6D7D93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Expert judgment on forecas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ll forecasts are judgemental forecast (calibration of the model, filtering setup, trajectories of structural shocks), bu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we may impose judgements on the development of a particular variable by endogenizing structural shocks innovations, but.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question is... what shock or set of shocks to choose and whether these shocks should be treated as anticipated or unanticipated...in which period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pecial case represents explaining of a current development of a given variable by future innovations...these must be treated as anticipated by all agents in the econom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A solution is not unique, we can choose the set of shocks that is the most likely...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9D19-60EC-44F4-AD11-CEBF500593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ase studies outline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Nominal wag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Increase of credit premium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reign trade fall and opennes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ar scrapping subsidi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After-crisis steady states growth rat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C4116-28DF-44D9-B636-FBA4AA6393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13Z</dcterms:modified>
  <cp:revision>203</cp:revision>
  <dc:subject/>
  <dc:title>Český název přednášky/akce</dc:title>
</cp:coreProperties>
</file>