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ACEE-D8BB-461E-8B28-C58F49AB3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96CB-A48E-4233-8EA0-B55DFC0D7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182E-A5F7-478E-942F-175AB0893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8829-9F93-4001-98D8-080DD67C64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4F3C-2FDA-4481-84F2-A9A4C4B3B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872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89040" y="177336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872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89040" y="4105080"/>
            <a:ext cx="257256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79DD4-478C-4FFA-B71F-B9BF59B31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41F5E-1344-4AE6-87A4-1622B2FF9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E741-C1D3-4CF0-8AF9-9E779FB3A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771640" y="186840"/>
            <a:ext cx="590400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1AE0-84E7-4C80-AEBF-A85FBCCE1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4CCD-B0AA-4E64-B339-6A2634332D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410508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8266-A170-4E9E-8310-A28BBE5A5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1773360"/>
            <a:ext cx="389880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05080"/>
            <a:ext cx="7989840" cy="21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58CB-1E43-4C1C-BBF1-3947DB016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4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E0C7-E56D-4368-B9D9-47297823846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3" descr="kosticky"/>
          <p:cNvPicPr/>
          <p:nvPr/>
        </p:nvPicPr>
        <p:blipFill>
          <a:blip r:embed="rId2"/>
          <a:stretch/>
        </p:blipFill>
        <p:spPr>
          <a:xfrm>
            <a:off x="0" y="0"/>
            <a:ext cx="9144000" cy="16635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4" descr="CNB logo 2r AN_coolgray_9"/>
          <p:cNvPicPr/>
          <p:nvPr/>
        </p:nvPicPr>
        <p:blipFill>
          <a:blip r:embed="rId3"/>
          <a:stretch/>
        </p:blipFill>
        <p:spPr>
          <a:xfrm>
            <a:off x="179280" y="6408720"/>
            <a:ext cx="86364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640" y="186840"/>
            <a:ext cx="590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773360"/>
            <a:ext cx="79898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6D8D-7E88-4E25-9774-9BC174EC2DF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755640" y="1341360"/>
            <a:ext cx="7416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Short- to medium term forecasting</a:t>
            </a: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David Havrlan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Macroeconomic Forecasting Divis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ar Term Forecasting Unit (NTF)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 Unicode MS"/>
              </a:rPr>
              <a:t>david.havrlant@cnb.cz</a:t>
            </a: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03280" y="5157720"/>
            <a:ext cx="646740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F04F-3CC1-4230-9422-3FC4D1632A26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48608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All in CZK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DCADJ … import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147600" y="2565360"/>
            <a:ext cx="867240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C211-06D2-4C76-91E6-FD48822BCE3E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11360" y="1562040"/>
            <a:ext cx="7532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1081-5540-40F2-983C-F213DB866187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94" name="Picture 17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326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5D07-E6C1-4711-B5EE-0D5A363998C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Other prices and energy prices – impact on terms of trad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1"/>
          <a:stretch/>
        </p:blipFill>
        <p:spPr>
          <a:xfrm>
            <a:off x="7667640" y="1901880"/>
            <a:ext cx="1382760" cy="4695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"/>
          <p:cNvPicPr/>
          <p:nvPr/>
        </p:nvPicPr>
        <p:blipFill>
          <a:blip r:embed="rId2"/>
          <a:stretch/>
        </p:blipFill>
        <p:spPr>
          <a:xfrm>
            <a:off x="165240" y="1901880"/>
            <a:ext cx="7215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BA30-3C8A-4A08-ADEB-26428C368F4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roducer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85720"/>
            <a:ext cx="91440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Unicode MS"/>
              </a:rPr>
              <a:t>High importance of producer pric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PRO … producer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04" name="Picture 245" descr=""/>
          <p:cNvPicPr/>
          <p:nvPr/>
        </p:nvPicPr>
        <p:blipFill>
          <a:blip r:embed="rId1"/>
          <a:stretch/>
        </p:blipFill>
        <p:spPr>
          <a:xfrm>
            <a:off x="179280" y="2548080"/>
            <a:ext cx="867276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F5E9-ADE8-4FE2-B8C8-48B933DF24F4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Producer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723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8F32-2DB4-48B4-A79C-F1BFE8CDE84F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7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Unicode MS"/>
              </a:rPr>
              <a:t>Potential Output and Output Gap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611280" y="1773360"/>
            <a:ext cx="8137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Cobb-Douglas production fun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HP filter 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Kalman filter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11" name="Picture 8" descr=""/>
          <p:cNvPicPr/>
          <p:nvPr/>
        </p:nvPicPr>
        <p:blipFill>
          <a:blip r:embed="rId1"/>
          <a:stretch/>
        </p:blipFill>
        <p:spPr>
          <a:xfrm>
            <a:off x="179280" y="3639960"/>
            <a:ext cx="85536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996C-8D13-4032-AAF0-8F942974D5AF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7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Labour Marke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324000" y="1773360"/>
            <a:ext cx="864072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xpected infla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Labour productivit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Position of the trade unions - collective bargaining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Position of the economy in the business cycl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Financial position of compani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Development and expectations in industry and constructing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3C44-3B70-48BC-BBB9-8F938375248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Adjusted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160200" y="2268360"/>
            <a:ext cx="6067440" cy="3969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6443640" y="2092320"/>
            <a:ext cx="2533680" cy="46497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4000" y="1557360"/>
            <a:ext cx="7596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Forecast of Adjusted inflation with different models, Y-O-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94D8-B82E-40C1-82B4-C0013454090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Adjusted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5543640" y="3141720"/>
            <a:ext cx="3924360" cy="35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KORXPH … adjusted inflation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CPIEMU … effective CPI in EU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EUR … exchange rate CZK/EUR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DCADJ_F … import prices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3f7c"/>
                </a:solidFill>
                <a:latin typeface="Arial"/>
              </a:rPr>
              <a:t>ULC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… unit labour cost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	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 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4000" y="1557360"/>
            <a:ext cx="75963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Model of adjusted inflation, Y-O-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1"/>
          <a:stretch/>
        </p:blipFill>
        <p:spPr>
          <a:xfrm>
            <a:off x="108000" y="2548080"/>
            <a:ext cx="86724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F152-5B51-46F7-85C6-1DAF2701574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Objectives of the Presentation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le of NTF within the macroeconomic projection exercis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mportance of coherent framewor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nterpreting economic development in a consistent wa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Brief insight into particular forecasting procedur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A5EA-3FB2-45D5-A0CE-3119CDA0F3D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Food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50920" y="1413000"/>
            <a:ext cx="828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Example of NTF Food Prices Equation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28" name="Picture 8" descr=""/>
          <p:cNvPicPr/>
          <p:nvPr/>
        </p:nvPicPr>
        <p:blipFill>
          <a:blip r:embed="rId1"/>
          <a:stretch/>
        </p:blipFill>
        <p:spPr>
          <a:xfrm>
            <a:off x="434880" y="3027240"/>
            <a:ext cx="8672760" cy="36925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9"/>
          <p:cNvSpPr/>
          <p:nvPr/>
        </p:nvSpPr>
        <p:spPr>
          <a:xfrm>
            <a:off x="4859280" y="2276640"/>
            <a:ext cx="4429080" cy="35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FOOD_YOY_NOTXP … food prices inflation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CZV_YOY … agricultural </a:t>
            </a:r>
            <a:r>
              <a:rPr b="0" lang="cs-CZ" sz="1400" spc="-1" strike="noStrike">
                <a:solidFill>
                  <a:srgbClr val="003f7c"/>
                </a:solidFill>
                <a:latin typeface="Arial Unicode MS"/>
              </a:rPr>
              <a:t>producer</a:t>
            </a: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 prices 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f7c"/>
                </a:solidFill>
                <a:latin typeface="Arial Unicode MS"/>
              </a:rPr>
              <a:t>DCPOT_YOY … import prices of food com.</a:t>
            </a:r>
            <a:endParaRPr b="0" lang="en-US" sz="1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5787-D34A-469C-8DAD-641BF7DD16BD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Food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250920" y="1413000"/>
            <a:ext cx="828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et of models and expert judg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33" name="Picture 7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215400" cy="41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6C12-B96B-4224-A3F8-5400464D4BAE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t infl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50920" y="1413000"/>
            <a:ext cx="8353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Calibrated estimate of inflationary pressur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impcos</a:t>
            </a:r>
            <a:r>
              <a:rPr b="0" lang="cs-CZ" sz="2000" spc="-1" strike="noStrike">
                <a:solidFill>
                  <a:srgbClr val="003f7c"/>
                </a:solidFill>
                <a:latin typeface="Arial Unicode MS"/>
              </a:rPr>
              <a:t>t</a:t>
            </a: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 = 0.9*(eur*ppiemu) + 0.1*(0.6*(usd*brent) + 0.4*(usd*gas)</a:t>
            </a:r>
            <a:r>
              <a:rPr b="0" lang="cs-CZ" sz="2000" spc="-1" strike="noStrike">
                <a:solidFill>
                  <a:srgbClr val="003f7c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cost = 0.4*gdp_gap + 0.7*ulc(-1) + 0.3*impcos</a:t>
            </a:r>
            <a:r>
              <a:rPr b="0" lang="cs-CZ" sz="2000" spc="-1" strike="noStrike">
                <a:solidFill>
                  <a:srgbClr val="003f7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(-2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61920" y="3279600"/>
            <a:ext cx="4510080" cy="3102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2"/>
          <a:stretch/>
        </p:blipFill>
        <p:spPr>
          <a:xfrm>
            <a:off x="4599000" y="3279600"/>
            <a:ext cx="451008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15E7-E32A-4886-881A-4EC8A57D54E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Main NTF Tasks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xpert</a:t>
            </a: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s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 as regards the Czech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mpirical data, structures, institutional and regulation framework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Based on theoretical background</a:t>
            </a: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t with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C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onduct of MP</a:t>
            </a: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ithin IT regim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U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sage of the core projection model</a:t>
            </a:r>
            <a:r>
              <a:rPr b="0" lang="cs-CZ" sz="2000" spc="-1" strike="noStrike">
                <a:solidFill>
                  <a:srgbClr val="333399"/>
                </a:solidFill>
                <a:latin typeface="Arial Unicode MS"/>
              </a:rPr>
              <a:t> (G3)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scussion on initial state of the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mparative benchmark for core model proje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roviding disaggregated economic outloo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yclical decomposition of the variabl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R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search activitie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5396-D92F-4E74-A28B-13DD908774B9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Points of view</a:t>
            </a:r>
            <a:endParaRPr b="0" lang="en-US" sz="3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24000" y="1844640"/>
            <a:ext cx="8496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One model is risky - set of methods is better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Economic theory as basis of analysi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Emphasis on statistical 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 Unicode MS"/>
              </a:rPr>
              <a:t>Respecting not only economic theory, but also statistical data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 Unicode MS"/>
              </a:rPr>
              <a:t>E</a:t>
            </a: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xpert approach : possible correction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Structural changes in econom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Theory vs. measurement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 Unicode MS"/>
              </a:rPr>
              <a:t>Revisions of 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6963-74C3-4B29-BB1A-8CA75636A48F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Near Term Forecast (NTF)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56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ditional forecas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Foreign macroeconomic outlook from The Consensus Forecast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PI, PPI, GDP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effective indices (relevance for Czech economy)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orld energy and food prices, exchange rate USD/EUR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lvl="1" marL="743040" indent="-285840"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Standardized source 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 no arbitrarily changes, potential for alternative scenarios</a:t>
            </a:r>
            <a:endParaRPr b="0" lang="en-US" sz="2000" spc="-1" strike="noStrike">
              <a:solidFill>
                <a:srgbClr val="5f9bc8"/>
              </a:solidFill>
              <a:latin typeface="Arial Unicode MS"/>
            </a:endParaRPr>
          </a:p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ar term forecast </a:t>
            </a:r>
            <a:r>
              <a:rPr b="0" lang="en-US" sz="2400" spc="-1" strike="noStrike">
                <a:solidFill>
                  <a:srgbClr val="333399"/>
                </a:solidFill>
                <a:latin typeface="Arial Narrow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 1Q, 2Q ahead with high precis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spcBef>
                <a:spcPts val="29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Empirical check in mid-term horizon for the core model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F138-724B-41E6-AB5F-3CCD515B41FC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NTF - Per Part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79280" y="1413000"/>
            <a:ext cx="417672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Labour marke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mployment, unemployme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conomic productivit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Average wag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Wage bill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Oth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Import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Terms of trad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Produc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4861080" y="1413000"/>
            <a:ext cx="410364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Real economic activity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Domestic demand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Exports, imports, net expor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GDP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Trade balance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urrent accoun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Consumer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Unicode MS"/>
              </a:rPr>
              <a:t>Main components of the consumer basket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99" name="Line 9"/>
          <p:cNvSpPr/>
          <p:nvPr/>
        </p:nvSpPr>
        <p:spPr>
          <a:xfrm>
            <a:off x="3635280" y="2924280"/>
            <a:ext cx="1368360" cy="0"/>
          </a:xfrm>
          <a:prstGeom prst="line">
            <a:avLst/>
          </a:prstGeom>
          <a:ln w="9360">
            <a:solidFill>
              <a:srgbClr val="003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2627280" y="3357360"/>
            <a:ext cx="2305080" cy="934920"/>
          </a:xfrm>
          <a:prstGeom prst="line">
            <a:avLst/>
          </a:prstGeom>
          <a:ln w="9360">
            <a:solidFill>
              <a:srgbClr val="003f7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01" name="Group 11"/>
          <p:cNvGrpSpPr/>
          <p:nvPr/>
        </p:nvGrpSpPr>
        <p:grpSpPr>
          <a:xfrm>
            <a:off x="2627280" y="3357720"/>
            <a:ext cx="4105440" cy="1150920"/>
            <a:chOff x="2627280" y="3357720"/>
            <a:chExt cx="4105440" cy="1150920"/>
          </a:xfrm>
        </p:grpSpPr>
        <p:sp>
          <p:nvSpPr>
            <p:cNvPr id="102" name="Line 12"/>
            <p:cNvSpPr/>
            <p:nvPr/>
          </p:nvSpPr>
          <p:spPr>
            <a:xfrm>
              <a:off x="6732720" y="4076640"/>
              <a:ext cx="0" cy="43200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>
              <a:off x="2627280" y="4508640"/>
              <a:ext cx="223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3348000" y="3357720"/>
              <a:ext cx="1440000" cy="9349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50B3-ED69-4B25-A7E8-46EB141517CB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Consistence through Iteration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11280" y="1773360"/>
            <a:ext cx="8137440" cy="43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TF is in principle not an interconnected system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Threat of inconsistency of the complex forecas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ce is achieved through: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Quasi-interconnec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One forecast is the input of other forecasts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Iteration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Consistency check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New forecasting round if necessary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 Unicode MS"/>
              </a:rPr>
              <a:t>Race against time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8A69-46EF-4F11-A5EC-D021F572F698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2566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Multistage Forecast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908000" y="1917720"/>
            <a:ext cx="0" cy="4824360"/>
          </a:xfrm>
          <a:prstGeom prst="line">
            <a:avLst/>
          </a:prstGeom>
          <a:ln w="9360">
            <a:solidFill>
              <a:srgbClr val="003f7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79280" y="13161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Data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124000" y="13161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Forecast 1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13" name="Group 10"/>
          <p:cNvGrpSpPr/>
          <p:nvPr/>
        </p:nvGrpSpPr>
        <p:grpSpPr>
          <a:xfrm>
            <a:off x="179280" y="1841400"/>
            <a:ext cx="1441440" cy="4243320"/>
            <a:chOff x="179280" y="1841400"/>
            <a:chExt cx="1441440" cy="4243320"/>
          </a:xfrm>
        </p:grpSpPr>
        <p:sp>
          <p:nvSpPr>
            <p:cNvPr id="114" name="Text Box 11"/>
            <p:cNvSpPr/>
            <p:nvPr/>
          </p:nvSpPr>
          <p:spPr>
            <a:xfrm>
              <a:off x="179280" y="544212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179280" y="3645000"/>
              <a:ext cx="14400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179280" y="270828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7" name="Text Box 14"/>
            <p:cNvSpPr/>
            <p:nvPr/>
          </p:nvSpPr>
          <p:spPr>
            <a:xfrm>
              <a:off x="179280" y="450864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18" name="Text Box 15"/>
            <p:cNvSpPr/>
            <p:nvPr/>
          </p:nvSpPr>
          <p:spPr>
            <a:xfrm>
              <a:off x="179280" y="1841400"/>
              <a:ext cx="14400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xogens (CF)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19" name="Group 16"/>
          <p:cNvGrpSpPr/>
          <p:nvPr/>
        </p:nvGrpSpPr>
        <p:grpSpPr>
          <a:xfrm>
            <a:off x="2268360" y="2708280"/>
            <a:ext cx="2374920" cy="3176640"/>
            <a:chOff x="2268360" y="2708280"/>
            <a:chExt cx="2374920" cy="3176640"/>
          </a:xfrm>
        </p:grpSpPr>
        <p:sp>
          <p:nvSpPr>
            <p:cNvPr id="120" name="Text Box 17"/>
            <p:cNvSpPr/>
            <p:nvPr/>
          </p:nvSpPr>
          <p:spPr>
            <a:xfrm>
              <a:off x="2268360" y="3645000"/>
              <a:ext cx="115128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1" name="Text Box 18"/>
            <p:cNvSpPr/>
            <p:nvPr/>
          </p:nvSpPr>
          <p:spPr>
            <a:xfrm>
              <a:off x="2268360" y="2708280"/>
              <a:ext cx="144180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2" name="Text Box 19"/>
            <p:cNvSpPr/>
            <p:nvPr/>
          </p:nvSpPr>
          <p:spPr>
            <a:xfrm>
              <a:off x="2268360" y="4581360"/>
              <a:ext cx="179892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3" name="Text Box 20"/>
            <p:cNvSpPr/>
            <p:nvPr/>
          </p:nvSpPr>
          <p:spPr>
            <a:xfrm>
              <a:off x="2268360" y="5516640"/>
              <a:ext cx="2374920" cy="36828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24" name="Group 21"/>
          <p:cNvGrpSpPr/>
          <p:nvPr/>
        </p:nvGrpSpPr>
        <p:grpSpPr>
          <a:xfrm>
            <a:off x="1619280" y="2205000"/>
            <a:ext cx="3024000" cy="3311640"/>
            <a:chOff x="1619280" y="2205000"/>
            <a:chExt cx="3024000" cy="3311640"/>
          </a:xfrm>
        </p:grpSpPr>
        <p:sp>
          <p:nvSpPr>
            <p:cNvPr id="125" name="Line 22"/>
            <p:cNvSpPr/>
            <p:nvPr/>
          </p:nvSpPr>
          <p:spPr>
            <a:xfrm>
              <a:off x="1619280" y="2205000"/>
              <a:ext cx="3024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6" name="Line 23"/>
            <p:cNvSpPr/>
            <p:nvPr/>
          </p:nvSpPr>
          <p:spPr>
            <a:xfrm>
              <a:off x="2916360" y="2205000"/>
              <a:ext cx="0" cy="503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7" name="Line 24"/>
            <p:cNvSpPr/>
            <p:nvPr/>
          </p:nvSpPr>
          <p:spPr>
            <a:xfrm>
              <a:off x="3924360" y="2205000"/>
              <a:ext cx="0" cy="2376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28" name="Line 25"/>
            <p:cNvSpPr/>
            <p:nvPr/>
          </p:nvSpPr>
          <p:spPr>
            <a:xfrm>
              <a:off x="4643280" y="2205000"/>
              <a:ext cx="0" cy="3311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29" name="Group 26"/>
          <p:cNvGrpSpPr/>
          <p:nvPr/>
        </p:nvGrpSpPr>
        <p:grpSpPr>
          <a:xfrm>
            <a:off x="1619280" y="2997360"/>
            <a:ext cx="2808360" cy="2519280"/>
            <a:chOff x="1619280" y="2997360"/>
            <a:chExt cx="2808360" cy="2519280"/>
          </a:xfrm>
        </p:grpSpPr>
        <p:sp>
          <p:nvSpPr>
            <p:cNvPr id="130" name="Line 27"/>
            <p:cNvSpPr/>
            <p:nvPr/>
          </p:nvSpPr>
          <p:spPr>
            <a:xfrm>
              <a:off x="3564000" y="3357720"/>
              <a:ext cx="0" cy="122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1" name="Line 28"/>
            <p:cNvSpPr/>
            <p:nvPr/>
          </p:nvSpPr>
          <p:spPr>
            <a:xfrm>
              <a:off x="1619280" y="299736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2" name="Line 29"/>
            <p:cNvSpPr/>
            <p:nvPr/>
          </p:nvSpPr>
          <p:spPr>
            <a:xfrm>
              <a:off x="3708360" y="2997360"/>
              <a:ext cx="7192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3" name="Line 30"/>
            <p:cNvSpPr/>
            <p:nvPr/>
          </p:nvSpPr>
          <p:spPr>
            <a:xfrm>
              <a:off x="4427640" y="2997360"/>
              <a:ext cx="0" cy="2519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34" name="Group 31"/>
          <p:cNvGrpSpPr/>
          <p:nvPr/>
        </p:nvGrpSpPr>
        <p:grpSpPr>
          <a:xfrm>
            <a:off x="1619280" y="4869000"/>
            <a:ext cx="936720" cy="865080"/>
            <a:chOff x="1619280" y="4869000"/>
            <a:chExt cx="936720" cy="865080"/>
          </a:xfrm>
        </p:grpSpPr>
        <p:sp>
          <p:nvSpPr>
            <p:cNvPr id="135" name="Line 32"/>
            <p:cNvSpPr/>
            <p:nvPr/>
          </p:nvSpPr>
          <p:spPr>
            <a:xfrm>
              <a:off x="1619280" y="486900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6" name="Line 33"/>
            <p:cNvSpPr/>
            <p:nvPr/>
          </p:nvSpPr>
          <p:spPr>
            <a:xfrm>
              <a:off x="2556000" y="5229360"/>
              <a:ext cx="0" cy="287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37" name="Line 34"/>
            <p:cNvSpPr/>
            <p:nvPr/>
          </p:nvSpPr>
          <p:spPr>
            <a:xfrm>
              <a:off x="1619280" y="573408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sp>
        <p:nvSpPr>
          <p:cNvPr id="138" name="Line 35"/>
          <p:cNvSpPr/>
          <p:nvPr/>
        </p:nvSpPr>
        <p:spPr>
          <a:xfrm>
            <a:off x="4932360" y="1916280"/>
            <a:ext cx="0" cy="4825800"/>
          </a:xfrm>
          <a:prstGeom prst="line">
            <a:avLst/>
          </a:prstGeom>
          <a:ln w="9360">
            <a:solidFill>
              <a:srgbClr val="003f7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6588000" y="134136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Verdana"/>
              </a:rPr>
              <a:t>Forecast 2: more consistent</a:t>
            </a:r>
            <a:endParaRPr b="0" lang="en-US" sz="24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4067280" y="1268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Verdana"/>
              </a:rPr>
              <a:t>New data and consistency check</a:t>
            </a:r>
            <a:endParaRPr b="0" lang="en-US" sz="1800" spc="-1" strike="noStrike">
              <a:solidFill>
                <a:srgbClr val="003f7c"/>
              </a:solidFill>
              <a:latin typeface="Arial Unicode MS"/>
            </a:endParaRPr>
          </a:p>
        </p:txBody>
      </p:sp>
      <p:grpSp>
        <p:nvGrpSpPr>
          <p:cNvPr id="141" name="Group 38"/>
          <p:cNvGrpSpPr/>
          <p:nvPr/>
        </p:nvGrpSpPr>
        <p:grpSpPr>
          <a:xfrm>
            <a:off x="1619280" y="3933720"/>
            <a:ext cx="2592360" cy="1582920"/>
            <a:chOff x="1619280" y="3933720"/>
            <a:chExt cx="2592360" cy="1582920"/>
          </a:xfrm>
        </p:grpSpPr>
        <p:sp>
          <p:nvSpPr>
            <p:cNvPr id="142" name="Line 39"/>
            <p:cNvSpPr/>
            <p:nvPr/>
          </p:nvSpPr>
          <p:spPr>
            <a:xfrm>
              <a:off x="1619280" y="4653000"/>
              <a:ext cx="216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3" name="Line 40"/>
            <p:cNvSpPr/>
            <p:nvPr/>
          </p:nvSpPr>
          <p:spPr>
            <a:xfrm>
              <a:off x="1619280" y="3933720"/>
              <a:ext cx="649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4" name="Line 41"/>
            <p:cNvSpPr/>
            <p:nvPr/>
          </p:nvSpPr>
          <p:spPr>
            <a:xfrm>
              <a:off x="2556000" y="4292640"/>
              <a:ext cx="0" cy="2887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5" name="Line 42"/>
            <p:cNvSpPr/>
            <p:nvPr/>
          </p:nvSpPr>
          <p:spPr>
            <a:xfrm>
              <a:off x="3419640" y="3933720"/>
              <a:ext cx="79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6" name="Line 43"/>
            <p:cNvSpPr/>
            <p:nvPr/>
          </p:nvSpPr>
          <p:spPr>
            <a:xfrm>
              <a:off x="4211640" y="3933720"/>
              <a:ext cx="0" cy="15829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7" name="Line 44"/>
            <p:cNvSpPr/>
            <p:nvPr/>
          </p:nvSpPr>
          <p:spPr>
            <a:xfrm flipV="1">
              <a:off x="1835280" y="4149720"/>
              <a:ext cx="0" cy="5032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48" name="Line 45"/>
            <p:cNvSpPr/>
            <p:nvPr/>
          </p:nvSpPr>
          <p:spPr>
            <a:xfrm>
              <a:off x="1835280" y="4149720"/>
              <a:ext cx="4330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49" name="Group 46"/>
          <p:cNvGrpSpPr/>
          <p:nvPr/>
        </p:nvGrpSpPr>
        <p:grpSpPr>
          <a:xfrm>
            <a:off x="4067280" y="3500280"/>
            <a:ext cx="2736720" cy="1368720"/>
            <a:chOff x="4067280" y="3500280"/>
            <a:chExt cx="2736720" cy="1368720"/>
          </a:xfrm>
        </p:grpSpPr>
        <p:sp>
          <p:nvSpPr>
            <p:cNvPr id="150" name="Line 47"/>
            <p:cNvSpPr/>
            <p:nvPr/>
          </p:nvSpPr>
          <p:spPr>
            <a:xfrm>
              <a:off x="4067280" y="4869000"/>
              <a:ext cx="129672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1" name="Line 48"/>
            <p:cNvSpPr/>
            <p:nvPr/>
          </p:nvSpPr>
          <p:spPr>
            <a:xfrm flipV="1">
              <a:off x="5364000" y="4005000"/>
              <a:ext cx="0" cy="86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2" name="Line 49"/>
            <p:cNvSpPr/>
            <p:nvPr/>
          </p:nvSpPr>
          <p:spPr>
            <a:xfrm>
              <a:off x="5364000" y="4005360"/>
              <a:ext cx="1440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3" name="Text Box 50"/>
            <p:cNvSpPr/>
            <p:nvPr/>
          </p:nvSpPr>
          <p:spPr>
            <a:xfrm>
              <a:off x="5364000" y="3500280"/>
              <a:ext cx="1368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output gap consistency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54" name="Group 51"/>
          <p:cNvGrpSpPr/>
          <p:nvPr/>
        </p:nvGrpSpPr>
        <p:grpSpPr>
          <a:xfrm>
            <a:off x="4643280" y="4005360"/>
            <a:ext cx="2233800" cy="1800000"/>
            <a:chOff x="4643280" y="4005360"/>
            <a:chExt cx="2233800" cy="1800000"/>
          </a:xfrm>
        </p:grpSpPr>
        <p:sp>
          <p:nvSpPr>
            <p:cNvPr id="155" name="Line 52"/>
            <p:cNvSpPr/>
            <p:nvPr/>
          </p:nvSpPr>
          <p:spPr>
            <a:xfrm>
              <a:off x="4643280" y="5805360"/>
              <a:ext cx="86544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6" name="Line 53"/>
            <p:cNvSpPr/>
            <p:nvPr/>
          </p:nvSpPr>
          <p:spPr>
            <a:xfrm flipV="1">
              <a:off x="5508720" y="4436640"/>
              <a:ext cx="0" cy="1368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7" name="Line 54"/>
            <p:cNvSpPr/>
            <p:nvPr/>
          </p:nvSpPr>
          <p:spPr>
            <a:xfrm>
              <a:off x="5508720" y="4437000"/>
              <a:ext cx="129528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8" name="Text Box 55"/>
            <p:cNvSpPr/>
            <p:nvPr/>
          </p:nvSpPr>
          <p:spPr>
            <a:xfrm>
              <a:off x="5435640" y="400536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real wages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59" name="Line 56"/>
            <p:cNvSpPr/>
            <p:nvPr/>
          </p:nvSpPr>
          <p:spPr>
            <a:xfrm>
              <a:off x="5508720" y="5157720"/>
              <a:ext cx="136836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0" name="Text Box 57"/>
            <p:cNvSpPr/>
            <p:nvPr/>
          </p:nvSpPr>
          <p:spPr>
            <a:xfrm>
              <a:off x="5435640" y="4724280"/>
              <a:ext cx="136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3f7c"/>
                  </a:solidFill>
                  <a:latin typeface="Verdana"/>
                </a:rPr>
                <a:t>real ER</a:t>
              </a:r>
              <a:endParaRPr b="0" lang="en-US" sz="16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61" name="Group 58"/>
          <p:cNvGrpSpPr/>
          <p:nvPr/>
        </p:nvGrpSpPr>
        <p:grpSpPr>
          <a:xfrm>
            <a:off x="5148360" y="1916280"/>
            <a:ext cx="3814560" cy="4186080"/>
            <a:chOff x="5148360" y="1916280"/>
            <a:chExt cx="3814560" cy="4186080"/>
          </a:xfrm>
        </p:grpSpPr>
        <p:sp>
          <p:nvSpPr>
            <p:cNvPr id="162" name="Text Box 59"/>
            <p:cNvSpPr/>
            <p:nvPr/>
          </p:nvSpPr>
          <p:spPr>
            <a:xfrm>
              <a:off x="6804000" y="3860640"/>
              <a:ext cx="115092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Labour market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3" name="Text Box 60"/>
            <p:cNvSpPr/>
            <p:nvPr/>
          </p:nvSpPr>
          <p:spPr>
            <a:xfrm>
              <a:off x="6877080" y="4797360"/>
              <a:ext cx="179856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conomic activity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4" name="Text Box 61"/>
            <p:cNvSpPr/>
            <p:nvPr/>
          </p:nvSpPr>
          <p:spPr>
            <a:xfrm>
              <a:off x="6588000" y="5734080"/>
              <a:ext cx="2374920" cy="36828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Consum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5" name="Text Box 62"/>
            <p:cNvSpPr/>
            <p:nvPr/>
          </p:nvSpPr>
          <p:spPr>
            <a:xfrm>
              <a:off x="5148360" y="1916280"/>
              <a:ext cx="14396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Exogens (CF)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6" name="Text Box 63"/>
            <p:cNvSpPr/>
            <p:nvPr/>
          </p:nvSpPr>
          <p:spPr>
            <a:xfrm>
              <a:off x="5148360" y="2781360"/>
              <a:ext cx="1441440" cy="642600"/>
            </a:xfrm>
            <a:prstGeom prst="rect">
              <a:avLst/>
            </a:prstGeom>
            <a:noFill/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3f7c"/>
                  </a:solidFill>
                  <a:latin typeface="Verdana"/>
                </a:rPr>
                <a:t>Other Prices</a:t>
              </a:r>
              <a:endParaRPr b="0" lang="en-US" sz="1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  <p:grpSp>
        <p:nvGrpSpPr>
          <p:cNvPr id="167" name="Group 64"/>
          <p:cNvGrpSpPr/>
          <p:nvPr/>
        </p:nvGrpSpPr>
        <p:grpSpPr>
          <a:xfrm>
            <a:off x="5724360" y="2133720"/>
            <a:ext cx="3240360" cy="3600360"/>
            <a:chOff x="5724360" y="2133720"/>
            <a:chExt cx="3240360" cy="3600360"/>
          </a:xfrm>
        </p:grpSpPr>
        <p:sp>
          <p:nvSpPr>
            <p:cNvPr id="168" name="Line 65"/>
            <p:cNvSpPr/>
            <p:nvPr/>
          </p:nvSpPr>
          <p:spPr>
            <a:xfrm>
              <a:off x="8893080" y="4076640"/>
              <a:ext cx="0" cy="16574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69" name="Line 66"/>
            <p:cNvSpPr/>
            <p:nvPr/>
          </p:nvSpPr>
          <p:spPr>
            <a:xfrm>
              <a:off x="7164360" y="4508640"/>
              <a:ext cx="0" cy="28872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0" name="Line 67"/>
            <p:cNvSpPr/>
            <p:nvPr/>
          </p:nvSpPr>
          <p:spPr>
            <a:xfrm>
              <a:off x="7164360" y="5445000"/>
              <a:ext cx="0" cy="28908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1" name="Line 68"/>
            <p:cNvSpPr/>
            <p:nvPr/>
          </p:nvSpPr>
          <p:spPr>
            <a:xfrm>
              <a:off x="7956720" y="4076640"/>
              <a:ext cx="93636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2" name="Line 69"/>
            <p:cNvSpPr/>
            <p:nvPr/>
          </p:nvSpPr>
          <p:spPr>
            <a:xfrm>
              <a:off x="8820000" y="2133720"/>
              <a:ext cx="0" cy="3600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3" name="Line 70"/>
            <p:cNvSpPr/>
            <p:nvPr/>
          </p:nvSpPr>
          <p:spPr>
            <a:xfrm>
              <a:off x="6588000" y="2133720"/>
              <a:ext cx="223200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4" name="Line 71"/>
            <p:cNvSpPr/>
            <p:nvPr/>
          </p:nvSpPr>
          <p:spPr>
            <a:xfrm>
              <a:off x="5724360" y="2565360"/>
              <a:ext cx="0" cy="21600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5" name="Line 72"/>
            <p:cNvSpPr/>
            <p:nvPr/>
          </p:nvSpPr>
          <p:spPr>
            <a:xfrm>
              <a:off x="8317080" y="2133720"/>
              <a:ext cx="0" cy="2663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6" name="Line 73"/>
            <p:cNvSpPr/>
            <p:nvPr/>
          </p:nvSpPr>
          <p:spPr>
            <a:xfrm>
              <a:off x="6588000" y="3141720"/>
              <a:ext cx="2376720" cy="0"/>
            </a:xfrm>
            <a:prstGeom prst="line">
              <a:avLst/>
            </a:prstGeom>
            <a:ln w="9360">
              <a:solidFill>
                <a:srgbClr val="003f7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7" name="Line 74"/>
            <p:cNvSpPr/>
            <p:nvPr/>
          </p:nvSpPr>
          <p:spPr>
            <a:xfrm>
              <a:off x="8172360" y="3141720"/>
              <a:ext cx="0" cy="165564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  <p:sp>
          <p:nvSpPr>
            <p:cNvPr id="178" name="Line 75"/>
            <p:cNvSpPr/>
            <p:nvPr/>
          </p:nvSpPr>
          <p:spPr>
            <a:xfrm>
              <a:off x="8964720" y="3141720"/>
              <a:ext cx="0" cy="2592360"/>
            </a:xfrm>
            <a:prstGeom prst="line">
              <a:avLst/>
            </a:prstGeom>
            <a:ln w="9360">
              <a:solidFill>
                <a:srgbClr val="003f7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1400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f7c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6553080" y="6400800"/>
            <a:ext cx="21337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2714-1EEA-46ED-824C-1F5B27E85586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 Unicode MS"/>
              </a:rPr>
              <a:t>Import Prices</a:t>
            </a:r>
            <a:endParaRPr b="0" lang="en-US" sz="36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55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f7c"/>
                </a:solidFill>
                <a:latin typeface="Arial Unicode MS"/>
              </a:rPr>
              <a:t>Small opend economy – high importance of foreign prices</a:t>
            </a:r>
            <a:endParaRPr b="0" lang="en-US" sz="2000" spc="-1" strike="noStrike">
              <a:solidFill>
                <a:srgbClr val="003f7c"/>
              </a:solidFill>
              <a:latin typeface="Arial Unicode MS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437080" y="3141720"/>
            <a:ext cx="37069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DCADJ … import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EUR … exchange rate CZK/EUR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USD … exchange rate CZK/USD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PPIEMU … effective PPI in EU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BRENT … oil prices</a:t>
            </a:r>
            <a:endParaRPr b="0" lang="en-US" sz="1600" spc="-1" strike="noStrike">
              <a:solidFill>
                <a:srgbClr val="003f7c"/>
              </a:solidFill>
              <a:latin typeface="Arial Unicode MS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86886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u04267</cp:lastModifiedBy>
  <dcterms:modified xsi:type="dcterms:W3CDTF">2012-01-13T09:54:16Z</dcterms:modified>
  <cp:revision>596</cp:revision>
  <dc:subject/>
  <dc:title>Český název přednášky/akce</dc:title>
</cp:coreProperties>
</file>