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7.jpeg" ContentType="image/jpeg"/>
  <Override PartName="/ppt/media/image9.wmf" ContentType="image/x-wmf"/>
  <Override PartName="/ppt/media/image13.wmf" ContentType="image/x-wmf"/>
  <Override PartName="/ppt/media/image5.png" ContentType="image/png"/>
  <Override PartName="/ppt/media/image18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8BF2-D6E3-47DE-9397-BD3892266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E64A-8B54-41B4-8B96-F98792C99D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422F-2E5C-4260-8526-85D63A1F1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D0F7-EA58-4541-9137-033D16A3E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DEB0-C5BF-4EAC-B596-2B91F9FED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4570-8050-46D9-9A3B-B9C0691A8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0E37-235C-44A5-8DC4-348E9DE33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A0CD9-3872-4C84-8D24-78BBDDDB7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6BDA-388E-44BA-9DBA-B89D724D9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9A1F-653C-4D0B-89FC-93C257E00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479A-33FD-4C8E-8E75-A7DE9B744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3D485-5011-4621-B9FE-828E30C7F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3f7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49CB-360E-45D6-B9FD-141D9D6941B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2920" y="193320"/>
            <a:ext cx="6049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5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9.xml"/><Relationship Id="rId4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72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Forecasting and Policy Analysis </a:t>
            </a:r>
            <a:br>
              <a:rPr sz="2800"/>
            </a:b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System in the Czech National Bank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1258920" y="3213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"/>
              </a:rPr>
              <a:t>Tibor Hlédik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4221000"/>
            <a:ext cx="4464000" cy="22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Masaryk University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Brno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27 September</a:t>
            </a:r>
            <a:r>
              <a:rPr b="0" lang="en-US" sz="2000" spc="-1" strike="noStrike">
                <a:solidFill>
                  <a:srgbClr val="5f9bc8"/>
                </a:solidFill>
                <a:latin typeface="Arial"/>
              </a:rPr>
              <a:t>, 20</a:t>
            </a:r>
            <a:r>
              <a:rPr b="0" lang="cs-CZ" sz="2000" spc="-1" strike="noStrike">
                <a:solidFill>
                  <a:srgbClr val="5f9bc8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9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530064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16280"/>
            <a:ext cx="7989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Near-term forecast (NTF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del (g3) mechanisms are valid for medium-term horiz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nowcast and 1Q ahead forecast are based on a wide range of high frequency inform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hort-run idiosyncratic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igh degree of detail and structural insigh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nomic intuition based on accumulated expert knowledg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n important role of empirical evidence, statistical data and econometric metho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rreplaceable task: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NTF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enchmark for the model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 (Kalma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filter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based forecast d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composition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7596360" y="587700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44000" y="436572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D46D-399B-4603-B68A-03A6B75752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772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Departmental forecasting team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y a separate forecasting team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orecast is made by the staff not by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clusivity and collective view are essentia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ible for a conduct of the forecasting proces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pecifies deadlines and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poses with technical background with a seamless databas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- and prediction syste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8FC73-9BBD-4BB4-9418-C81B26237D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Composition of the forecasting team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 (FT)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H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ad of the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, representative of the</a:t>
            </a: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 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acroeconomic Forecasting Division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the near-term forecasting team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2 representatives of Monetary Policy and Strategy Division (Editor + Fiscal expert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Representative of External Economic Relations Divis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1 model operator (MAFD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Potentially some other members of the department (training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v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27A0-CD32-4211-993A-1D611F20C8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7623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The proces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Departmental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f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orecasting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eam builds up a macroeconomic forecast as a main support for MP decision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Provides an unconditional medium term forecast using the model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NTF 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and own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Incorporating out-of-model information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(fiscal policy, indirect taxes, structural insight etc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The main goal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: a macro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conomic 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story consistent with economic theory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,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empirical evidence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an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7" name=""/>
          <p:cNvSpPr/>
          <p:nvPr/>
        </p:nvSpPr>
        <p:spPr>
          <a:xfrm>
            <a:off x="2608200" y="21859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77E0-0F55-461A-B037-294D94C90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1844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ssues meeting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1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forecasting techniques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2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300"/>
              </a:spcBef>
              <a:buClr>
                <a:srgbClr val="4086b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on initial cond. and IT fulfillment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3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Meeting with the BB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: first version of the forecast + alter.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   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eting on the final approval of the forecas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4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rafting of the Inflation Repor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5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51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Official MP BB meeting </a:t>
            </a:r>
            <a:r>
              <a:rPr b="1" lang="en-US" sz="2400" spc="-1" strike="noStrike">
                <a:solidFill>
                  <a:srgbClr val="003f7c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 MP decision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 Narrow"/>
              </a:rPr>
              <a:t>W6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18960" indent="-318960">
              <a:spcBef>
                <a:spcPts val="774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Post mortem meet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	</a:t>
            </a:r>
            <a:r>
              <a:rPr b="1" lang="cs-CZ" sz="2500" spc="-1" strike="noStrike">
                <a:solidFill>
                  <a:srgbClr val="ff3300"/>
                </a:solidFill>
                <a:latin typeface="Arial Narrow"/>
              </a:rPr>
              <a:t>W7</a:t>
            </a:r>
            <a:endParaRPr b="0" lang="en-US" sz="25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835280" y="476280"/>
            <a:ext cx="6697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458136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2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27082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213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00868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076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84464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5445000"/>
            <a:ext cx="8064360" cy="0"/>
          </a:xfrm>
          <a:prstGeom prst="line">
            <a:avLst/>
          </a:prstGeom>
          <a:ln cap="rnd" w="1260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984A-262D-4475-BE98-58E0C776D2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Issue</a:t>
            </a:r>
            <a:r>
              <a:rPr b="0" lang="cs-CZ" sz="2400" spc="-1" strike="noStrike" u="sng">
                <a:solidFill>
                  <a:srgbClr val="003f7c"/>
                </a:solidFill>
                <a:uFillTx/>
                <a:latin typeface="Arial Narrow"/>
              </a:rPr>
              <a:t>s</a:t>
            </a: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 Meeting:</a:t>
            </a:r>
            <a:r>
              <a:rPr b="0" lang="en-GB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Collective and intuitive view among the staff where the economy is and what the current economic issue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Designed to address a wide range of question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staff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40B6-FD2F-4B0E-87CC-4E6A77CAAA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Forecasting Techniques: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operties of main forecasting tools are reintroduced and re-examin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pportunity to introduce changes and assess their significanc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freshes the staff´s and forecasting team´s familiarity with the techniqu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 (change in the model calibration, exten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on of the model, etc.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C678-028E-4785-8C73-118346404B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9912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Meeting on Initial Conditions and Inflation Forecast Fulfill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dentification of structural shock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ut-of-model information (example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s there any significant change in underlying sectoral productivity trends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ternal assumptions (CF) and their expected impact on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itial exchange rate scenario for NTF - mix of model consistent UIP and order flow forecast (BoP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flation forecast fulfillm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on “Initial Conditions” with the Bank Boar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23493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6C4B6-F4C6-4293-998E-F060B05765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989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1</a:t>
            </a: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.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TF is already incorporated into the model forecast (residual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first draft of the forecast introduc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sponse of management and experts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oom for modification or tuning the message of the baseline scenario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iscussing the motivation for alternativ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with the Bank Board on alternative scenarios: which risks are to be quantifi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9089-4EFE-495C-979A-2F0B71600B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Final Forecast Round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pproval of the baseline scenario of the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Final consistency check and fine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-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uning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Preparing alternatives and MP experiment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137D-054F-4E7A-B46D-F01CC560D1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Outlin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989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motivation for FPAS and main objectiv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elements of the system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forecasting process and its organiz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Conclu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A00A-5ED9-43B6-A8D4-F785F424CC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vii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9898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3f7c"/>
                </a:solidFill>
                <a:uFillTx/>
                <a:latin typeface="Arial Narrow"/>
              </a:rPr>
              <a:t>Post Mortem Meeting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Opportunity to systematically asses what went wrong and what should be improved (technically vs. in terms of organization of the process)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Broad participation of the department is encouraged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fficient tool to transform fresh emotions into immediate measures for the next tim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9bc8"/>
                </a:solidFill>
                <a:latin typeface="Arial Narrow"/>
              </a:rPr>
              <a:t>Exampl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EFC5-67A0-48FA-9057-11694F5D0A2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68360" y="186840"/>
            <a:ext cx="6407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recasting Process and Its Organisation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55509-2A35-4CB2-868A-99F91D2A0F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989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ructured debate about risks and policy issues enabled due to common languag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orecast with active MP (includes rates trajectory consistent with forecast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volvement of MSD resources but manageable discussion: F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onsistently incorporated judgmen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time pressures well tackled due to automatisat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tory-centered discussion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igh level of transparenc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EAD0-D96D-467A-B8FA-4E66617A7B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2923920"/>
            <a:ext cx="798984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185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Tibor.Hledik</a:t>
            </a: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@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B4FA-8A45-469B-BC26-851779D5C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Backup slides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0B74-D16F-4516-91D1-F400E0F0E2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oduction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9" name="Rectangl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640720" cy="43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E4F1A-549D-4A35-AA9B-4F60647851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392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8661240" y="64198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rice structure – g3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852B2-F5A2-4716-90EA-86C8C56C557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5" name="Rectangle 3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4E0B-0855-4F02-B488-5A4FDD61AA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00000" y="260280"/>
            <a:ext cx="648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700280"/>
            <a:ext cx="42840" cy="4103640"/>
          </a:xfrm>
          <a:prstGeom prst="line">
            <a:avLst/>
          </a:prstGeom>
          <a:ln w="38160">
            <a:solidFill>
              <a:srgbClr val="003f7c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14480" y="5803920"/>
            <a:ext cx="7924680" cy="0"/>
          </a:xfrm>
          <a:prstGeom prst="line">
            <a:avLst/>
          </a:prstGeom>
          <a:ln w="38160">
            <a:solidFill>
              <a:srgbClr val="003f7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5920" y="2205000"/>
            <a:ext cx="3024360" cy="360036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15920" y="3429000"/>
            <a:ext cx="7923240" cy="1079640"/>
          </a:xfrm>
          <a:prstGeom prst="line">
            <a:avLst/>
          </a:prstGeom>
          <a:ln w="381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76240" y="5803920"/>
            <a:ext cx="0" cy="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76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210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00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622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36640" y="3068640"/>
            <a:ext cx="3960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2436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8648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5803920"/>
            <a:ext cx="0" cy="152280"/>
          </a:xfrm>
          <a:prstGeom prst="line">
            <a:avLst/>
          </a:prstGeom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53000" y="3068640"/>
            <a:ext cx="33480" cy="2735280"/>
          </a:xfrm>
          <a:prstGeom prst="line">
            <a:avLst/>
          </a:prstGeom>
          <a:ln w="9360">
            <a:solidFill>
              <a:srgbClr val="003f7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98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1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97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3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596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2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2160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5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59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4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372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6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45840" y="603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Times New Roman"/>
              </a:rPr>
              <a:t>7Q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10720" y="439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1360" y="3357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f7c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39520" y="45813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f7c"/>
                </a:solidFill>
                <a:latin typeface="Times New Roman"/>
              </a:rPr>
              <a:t>NTF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925720"/>
            <a:ext cx="3810240" cy="304920"/>
          </a:xfrm>
          <a:prstGeom prst="leftRightArrow">
            <a:avLst>
              <a:gd name="adj1" fmla="val 50000"/>
              <a:gd name="adj2" fmla="val 248760"/>
            </a:avLst>
          </a:prstGeom>
          <a:solidFill>
            <a:srgbClr val="cc0000"/>
          </a:solidFill>
          <a:ln w="9360">
            <a:solidFill>
              <a:srgbClr val="003f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34040" y="2374920"/>
            <a:ext cx="212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00"/>
                </a:solidFill>
                <a:latin typeface="Times New Roman"/>
              </a:rPr>
              <a:t>Integration process</a:t>
            </a:r>
            <a:endParaRPr b="0" lang="en-US" sz="20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02520" y="580536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time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205000"/>
            <a:ext cx="792000" cy="9349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53000" y="3933720"/>
            <a:ext cx="3456000" cy="5032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40280" y="371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120" y="186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cc0000"/>
                </a:solidFill>
                <a:uFillTx/>
                <a:latin typeface="Times New Roman"/>
              </a:rPr>
              <a:t>Integrat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77360" y="357336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cc0000"/>
                </a:solidFill>
                <a:uFillTx/>
                <a:latin typeface="Times New Roman"/>
              </a:rPr>
              <a:t>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557360"/>
            <a:ext cx="104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f7c"/>
                </a:solidFill>
                <a:latin typeface="Arial Narrow"/>
              </a:rPr>
              <a:t>p</a:t>
            </a:r>
            <a:r>
              <a:rPr b="1" lang="en-US" sz="1600" spc="-1" strike="noStrike">
                <a:solidFill>
                  <a:srgbClr val="003f7c"/>
                </a:solidFill>
                <a:latin typeface="Arial Narrow"/>
              </a:rPr>
              <a:t>rojection accuracy</a:t>
            </a:r>
            <a:endParaRPr b="0" lang="en-US" sz="16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C6B9-58BB-4725-BE2B-FE3E8A73DBF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33336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recasting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cess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(ii)</a:t>
            </a:r>
            <a:endParaRPr b="0" lang="en-US" sz="28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5720" y="461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35640" y="39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7885080" y="6453360"/>
            <a:ext cx="432000" cy="21564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36" h="21600">
                <a:moveTo>
                  <a:pt x="14612" y="3794"/>
                </a:moveTo>
                <a:lnTo>
                  <a:pt x="28624" y="10800"/>
                </a:lnTo>
                <a:lnTo>
                  <a:pt x="14612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4667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3949-1A91-49C5-BFA8-18090319A8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5800" y="206064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FPAS is most importantly a </a:t>
            </a:r>
            <a:r>
              <a:rPr b="0" i="1" lang="cs-CZ" sz="2400" spc="-1" strike="noStrike">
                <a:solidFill>
                  <a:srgbClr val="003f7c"/>
                </a:solidFill>
                <a:latin typeface="Arial Narrow"/>
              </a:rPr>
              <a:t>system</a:t>
            </a: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!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ts main goals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All know-how at department level should be channeled into the analysis and forecas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lear division of responsibil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Effective execution of specialized tasks but…emphasis on high quality synthesi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Good coordination of mutually linked activiti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ransforming the technical results into a digestible 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876240" indent="-41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eting tight dead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DAAE-7006-4891-9B9D-25F7E643A0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nsitivity to foreign demand assump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Rectangl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207280" cy="4535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7740720" y="638172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841C-DF49-4AC9-A1F7-17747EE74F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Endogenous interest-  and exchange rat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3M PRIBOR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5960" y="1773360"/>
            <a:ext cx="39193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"/>
              </a:rPr>
              <a:t>Exchange rate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4067280" cy="410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2421000"/>
            <a:ext cx="4032360" cy="388764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1255-248C-42C0-8ABC-28182E63EA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Identification of structural shocks – initial condi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Rectangle 3" descr=""/>
          <p:cNvPicPr/>
          <p:nvPr/>
        </p:nvPicPr>
        <p:blipFill>
          <a:blip r:embed="rId1"/>
          <a:stretch/>
        </p:blipFill>
        <p:spPr>
          <a:xfrm>
            <a:off x="0" y="1773360"/>
            <a:ext cx="8421840" cy="45352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2B9DF-ED2F-47DD-9250-F75C9F3F2E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Decomposition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6381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11" name="Rectangle 3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6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555F-D4FC-4290-ADC1-AEF2453AB5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structure of nominal disposable incom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460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4D867-D832-45DE-8790-5124DBD754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9360" y="1484280"/>
            <a:ext cx="915336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0DE5-09A4-4D51-ACB3-A970B4BD25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The analysis of n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minal wage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 growth (i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53360" cy="46861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740720" y="63086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E90C7-56C0-4358-8521-BD10376000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-3556080" y="-2666880"/>
            <a:ext cx="16256160" cy="1219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94B5-5527-4A90-8971-68B8C86BDD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4360" y="3265200"/>
            <a:ext cx="7989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c"/>
                </a:solidFill>
                <a:latin typeface="Arial Narrow"/>
              </a:rPr>
              <a:t>Thank You for Your Attention !</a:t>
            </a:r>
            <a:endParaRPr b="0" lang="en-US" sz="32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9144000" cy="31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27152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349280"/>
            <a:ext cx="9144000" cy="18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6720" y="237960"/>
            <a:ext cx="1440" cy="10335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532720" y="61657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DC640-B83A-4208-B78C-5C9A305D35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26560" y="1844280"/>
            <a:ext cx="7766280" cy="42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T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he difference between forecasting in a CB compared, for instance, with the academia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Individual vs. Team work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Own views vs. Communication within the forecasting team and with policy maker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nap-shot  vs. Regular task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edium-term research vs. Real-time pressur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“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No memory” vs. Last forecast relative to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actual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on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Broad picture vs. Detail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echnical language vs. Macro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economic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ry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923760" indent="-4802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arget groups for “external” communication are different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>
            <a:off x="5038560" y="382752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171A-E2B5-4A49-A7BA-1F56B5306F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Narrow"/>
              </a:rPr>
              <a:t>The </a:t>
            </a:r>
            <a:r>
              <a:rPr b="0" lang="cs-CZ" sz="2800" spc="-1" strike="noStrike">
                <a:solidFill>
                  <a:srgbClr val="ffffff"/>
                </a:solidFill>
                <a:latin typeface="Arial Narrow"/>
              </a:rPr>
              <a:t>motivation for FPAS and main o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bjectives (i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777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edium-term approac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ctive MP and unconditional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sight into decision making of economic agents and monetary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he process organized around a relatively simple (QMP) resp. less simple (g3) core structural model: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How important it is to have a state-of-the art core model?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ommunication aspects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Departmental forecasting team: responsible for the successful conduct of the process and co-operation of all division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295AD-0980-4AFF-970B-3EE181CB4A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motivation for FPAS and main o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bjectives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0" i="1" lang="en-GB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9898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have consistent and clear methodology to derive a consistent macroeconomic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shape inflation expectations and behave systematically in line with the inflation forecast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To communicate the basic massage of the forecast: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ere the economy is and what the current trends a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is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the 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ikely evolution in the future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implicit ris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what are the underlying pressures in terms of MP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6DEC-1024-4AAD-BEE9-20FB050522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39178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3933720"/>
            <a:ext cx="77724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NB relied on near-term methods when the IT introduced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QPM introduced into forecasting in mid-2002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witch from constant IRs assumption to endogenous IR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Successful switch to ‘g3’ in mid-2008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ntegration with near-term forecast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nowcasting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robustness check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+</a:t>
            </a:r>
            <a:r>
              <a:rPr b="0" lang="cs-CZ" sz="2400" spc="-1" strike="noStrike">
                <a:solidFill>
                  <a:srgbClr val="4086ba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4086ba"/>
                </a:solidFill>
                <a:latin typeface="Arial Narrow"/>
              </a:rPr>
              <a:t>expert judgments</a:t>
            </a: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pic>
        <p:nvPicPr>
          <p:cNvPr id="98" name="Rectangl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6944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950A0-0EB7-4801-A6E7-676CC7490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Multisectoral SOE model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f7c"/>
                </a:solidFill>
                <a:latin typeface="Arial Narrow"/>
              </a:rPr>
              <a:t>No ad-hoc detrending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explicit treatment of sectoral trends 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BGP with constant nominal expenditure shares and trends in relative pric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Cascade of price and wage rigiditie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al frictions (habit</a:t>
            </a: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 formation</a:t>
            </a: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, new vs. old capital, ..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erfect exchange rate pass-through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Import intensity of exports, increase in trade opennes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Regulated prices included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70DA-3C00-48FA-8F70-B8D1E04C93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The Elements of the System (i</a:t>
            </a:r>
            <a:r>
              <a:rPr b="0" i="1" lang="cs-CZ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i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f7c"/>
                </a:solidFill>
                <a:uFillTx/>
                <a:latin typeface="Arial Narrow"/>
              </a:rPr>
              <a:t>Core model (g3) (cont.)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Definition of the key features of the economy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structure of the model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tock-flow equilibrium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Calibra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Kalman filtering, identification of structural shock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The model</a:t>
            </a: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 generates an</a:t>
            </a: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 interest rates trajectory consistent with the overall projection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Some other use: alternative scenarios, MP experiments, stochastic simulations of shocks etc. 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274788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472428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4" h="21600">
                <a:moveTo>
                  <a:pt x="14576" y="3794"/>
                </a:moveTo>
                <a:lnTo>
                  <a:pt x="28589" y="10800"/>
                </a:lnTo>
                <a:lnTo>
                  <a:pt x="14576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6240" y="542124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20000" y="3976560"/>
            <a:ext cx="431640" cy="21600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28" h="21600">
                <a:moveTo>
                  <a:pt x="0" y="0"/>
                </a:moveTo>
                <a:lnTo>
                  <a:pt x="43128" y="0"/>
                </a:lnTo>
                <a:lnTo>
                  <a:pt x="43128" y="21600"/>
                </a:lnTo>
                <a:lnTo>
                  <a:pt x="0" y="21600"/>
                </a:lnTo>
                <a:close/>
              </a:path>
              <a:path fill="lightenLess" w="43128" h="21600">
                <a:moveTo>
                  <a:pt x="0" y="0"/>
                </a:moveTo>
                <a:lnTo>
                  <a:pt x="43128" y="0"/>
                </a:lnTo>
                <a:lnTo>
                  <a:pt x="41728" y="1400"/>
                </a:lnTo>
                <a:lnTo>
                  <a:pt x="1400" y="1400"/>
                </a:lnTo>
                <a:close/>
              </a:path>
              <a:path fill="darken" w="43128" h="21600">
                <a:moveTo>
                  <a:pt x="43128" y="0"/>
                </a:moveTo>
                <a:lnTo>
                  <a:pt x="43128" y="21600"/>
                </a:lnTo>
                <a:lnTo>
                  <a:pt x="41728" y="20200"/>
                </a:lnTo>
                <a:lnTo>
                  <a:pt x="41728" y="1400"/>
                </a:lnTo>
                <a:close/>
              </a:path>
              <a:path fill="darkenLess" w="43128" h="21600">
                <a:moveTo>
                  <a:pt x="431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28" y="20200"/>
                </a:lnTo>
                <a:close/>
              </a:path>
              <a:path fill="lighten" w="431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28" h="21600">
                <a:moveTo>
                  <a:pt x="14558" y="3794"/>
                </a:moveTo>
                <a:lnTo>
                  <a:pt x="28571" y="10800"/>
                </a:lnTo>
                <a:lnTo>
                  <a:pt x="14558" y="17806"/>
                </a:lnTo>
                <a:close/>
              </a:path>
            </a:pathLst>
          </a:custGeom>
          <a:solidFill>
            <a:srgbClr val="5f9b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BFAF-1F38-46E6-AD01-AB00F8B61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5:42Z</dcterms:modified>
  <cp:revision>123</cp:revision>
  <dc:subject/>
  <dc:title>Český název přednášky/akce</dc:title>
</cp:coreProperties>
</file>