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C47-3016-482C-A90B-A5B28583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4C5-E455-4A3F-A107-D2746A67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947-5E8E-4396-A968-D98D45A9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5E60-1E22-48F6-945A-55322194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8717-F0B8-44D1-BD10-DCE37CDC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A353-2FC4-44D1-90FE-2A4D84AC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105-7069-4A7C-B880-B3E4657F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0FF-ED92-4CE9-B9AD-B4E72310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E05-CF08-48B4-8123-C98ACEE2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F74-37DE-4658-ACC2-FA3EC868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1E73-4A62-4CA1-821F-6265B1A0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1F3D-07F5-46E8-9601-0E861F03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F860-275A-48A1-8C90-0E87E1F0A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92800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rt-term Forecasting o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zech Quarterly GDP Using Monthly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2276280"/>
            <a:ext cx="712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. Arnoštová, D. Havrlant, L. Růžička and P. Tó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tary and Statistic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ech Nation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 of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545940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stimate static factors by principal components, number of factors based on Bai and Ng (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estimate the parameters of dyn. factors by 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number of dyn. factors based on Bai and 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iven parameters from the previous step, we estimate  dynamic factors and idiosyncratic terms by Kalm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lexible assumptions on the idiosyncratic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aggregate forecasted factors to quarterly freq.:     f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regress y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+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n f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t+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on quarterly data; h is the forecast horiz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t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. &amp; 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dyn.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K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e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H=3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(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ridging with factor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24000" y="2259000"/>
                <a:ext cx="266364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39560" y="3152880"/>
                <a:ext cx="300708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24000" y="5464080"/>
                <a:ext cx="381636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24000" y="4203720"/>
            <a:ext cx="31683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-sided GDFM ala Forni etal.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ly indicators are aggregated to quarterly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balancing by EM algorith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FM is estimated on the combined database of quarterly indicators and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max. no. of dyn. and stat. factors fixed, actual numbers selected by information criteria of Bai and 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P forecast is derived directly from the factor model as the forecast of commo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-sided GDFM ala Forni etal.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egation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GDF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rterl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y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592360" cy="66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65640"/>
            <a:ext cx="2519280" cy="639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24000" y="5452920"/>
            <a:ext cx="3456000" cy="784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68360" y="2276640"/>
            <a:ext cx="2232000" cy="9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thly indicators (98 seri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ustry, construction and services (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bour market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ign trade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ce data (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ncial indicators (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zech confidence indicators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ign leading indicators (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zech electricity consumption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stment of GDP and monthly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sonal adjustment, quarterly growth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of monthly indicators further differenced to achieve station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630440"/>
            <a:ext cx="867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icator pre-selection – our rule of thum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d only for large-scale models (5.-8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focus on indicators with most relevant information for GDP when estimating factor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 if abs(corr.) with GDP growth &gt;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bs(corr.) between any two indicators is &gt; 0.9, only the one more correlated with GDP is k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full set of 98 only 27 series surv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: reduced forecast errors for models 5.,7.,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98560" y="1197000"/>
          <a:ext cx="7489800" cy="56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8560" y="1197000"/>
                    <a:ext cx="7489800" cy="56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 interv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1 – 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valuation interv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1 – 20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q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recast horiz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 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7 (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820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mallest RMSE overall: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st RM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Q ahead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T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CN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6094440"/>
            <a:ext cx="755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: rel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RM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calculate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-à-vis th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RM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moving averag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2982960"/>
            <a:ext cx="7416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1708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F of GDP by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6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8200" y="1773360"/>
            <a:ext cx="8281800" cy="3654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5661000"/>
            <a:ext cx="820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ks: model ranking based on RMSE, out of the 7 main models + 4 additional models listed in the tabl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ve rank, for example: = rank of PC – rank of PC full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ebold-Mariano Test Statistic for the H0 of Equal Squared Forecast Err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2419200"/>
            <a:ext cx="84978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sults of the ECB</a:t>
            </a: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 stud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r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euro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1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aluation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ecast horiz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9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M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vis-à-vis the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 mod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987640" y="4797360"/>
            <a:ext cx="5940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Results of the ECB</a:t>
            </a:r>
            <a:r>
              <a:rPr b="1" lang="cs-CZ" sz="2400" spc="-1" strike="noStrike">
                <a:solidFill>
                  <a:srgbClr val="cc3300"/>
                </a:solidFill>
                <a:latin typeface="Arial"/>
              </a:rPr>
              <a:t> stud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untri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T, HU, 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me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aluation perio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q1 – 2005: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ecast horizon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3q a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mber of indicator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RM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vis-à-vis the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 mod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59280" y="4732200"/>
            <a:ext cx="5976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9680" y="1557360"/>
            <a:ext cx="89139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CZ data, most models are more accurate than the na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performs best overall, thus it is a good idea to condition the forecast on “many” but relevant monthly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t forecast (NTF) did at least as well as the best model (PC) 1Q a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models did quite well overall (PC and DFM better than VAR and BE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models improved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ion if the indicator set was reduced to the most relevant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at errors of PC and PC-Q, timeliness of information is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(model rankings) are not quite generalizable across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24000" y="249372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A. 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rterly data of GDP – national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cca. 10 weeks after the end of the qu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t of monthly indicators are available (~7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shed early, i.e. end of a month or just a few weeks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ral models recently available in the literature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l with mixed frequency data and unbalanced pa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ition the forecast on a large set of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forecast errors as opposed to univariat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mprehensive study of recent short-term models for Czech GDP is missing. It is useful for forecasting at CN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m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d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follow the ECB study Barhoumi etal. (200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ing average (naive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TF framework of C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eraged bivariate VAR-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dge equ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ic principal compon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FM ala Doz etal. 2007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M ala Forni etal. 2005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DF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ing averages (naive mod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erage of last 4 qua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ar-Term Forecasting (NTF) framework of C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DP forecast = smoothed sum of expenditure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be henceforth denoted a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variate V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g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on 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 ind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pai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y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i,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, i = 1..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estimate 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AR(2,p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r">
              <a:lnSpc>
                <a:spcPct val="2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wi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s ar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4237200"/>
            <a:ext cx="3816360" cy="106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50920" y="3598920"/>
                <a:ext cx="230508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"/>
                        <m:endChr m:val="}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2233440" cy="995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22200" y="5302080"/>
            <a:ext cx="273708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idge equations (BE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 agg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foreca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d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H=3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EQ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ll pai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3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wis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s ar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3958920" cy="106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3024360" cy="1092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9280" y="4946760"/>
            <a:ext cx="302436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tic principal compo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ion of stati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f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erl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greg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P (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idging with factor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96720" y="5186520"/>
                <a:ext cx="46800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Q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3656160"/>
            <a:ext cx="2738520" cy="1141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529080" cy="118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ed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Alternative principa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ompon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C-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s from PC in three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s estimated on the quarterly aggre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of static factors is selected by the Kaiser criterion (PC eigenvalues &gt;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quarters of monthly indicators are simply o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06:51:04Z</dcterms:created>
  <dc:creator>u03999</dc:creator>
  <dc:description/>
  <dc:language>en-US</dc:language>
  <cp:lastModifiedBy>u04267</cp:lastModifiedBy>
  <dcterms:modified xsi:type="dcterms:W3CDTF">2012-01-13T08:09:19Z</dcterms:modified>
  <cp:revision>266</cp:revision>
  <dc:subject/>
  <dc:title>Near-term forecasts of GDP using dynamic factor models</dc:title>
</cp:coreProperties>
</file>