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237-05CA-43C8-A624-2FC4E5A11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479-E64D-4163-81E1-CACBB5AB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981-E2FC-4B94-9E79-11A93A59D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A879-181F-43A6-9720-21188CE6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F3F4-EDDE-4D76-B836-FB0C2330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E98-B892-43A8-9D58-92641315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ED09-BCAB-4A43-B11D-DBE82C30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66E-4392-4AE4-B14A-39A9E831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74D-62F8-42D0-8894-53EAA916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6AB9-545A-40E0-8127-599D3BB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287-23CA-45EC-A738-0A7D8EF3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DA3-C073-4550-80AB-8258AADB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248-1577-4A6D-B9C7-A597377CF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eter.toth@cnb.cz" TargetMode="External"/><Relationship Id="rId2" Type="http://schemas.openxmlformats.org/officeDocument/2006/relationships/hyperlink" Target="mailto:peter.toth@cnb.cz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ear-Term Forecasting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3068280"/>
            <a:ext cx="835164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ter Tó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croeconomic Forecasting Div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zech Nation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6720" y="4653000"/>
            <a:ext cx="388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ter.tot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cnb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20 22441 37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403280" y="545940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(HTK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96000" y="2565360"/>
            <a:ext cx="334800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icult to find any other robust relationship between investment and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1280" y="2687760"/>
            <a:ext cx="5508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1773360"/>
            <a:ext cx="3348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ort (IM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um of C+G (SD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 (HT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ecasts of the C, G, I and EX ar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2573280"/>
            <a:ext cx="5364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 (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51640" y="2565360"/>
            <a:ext cx="3348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open economy, export is most important for the demand of imported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ffects of investment and consumption (C+G) ar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of the variation is cut off by the HP smoother (effects don’t add up to the blue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00724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3148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CPI forecast, wages in the non-business sector (colleague’s forecast) and an AR(1) term, seasonally adjusted 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import deflator, CPI and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lator of X and 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cast by colleague (D. Havrlant). Linked to the forecasts of import and export price index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defl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to forecasts of CPI, X and M deflators, AR(1) term, seasonally adjusted y-o-y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of the GDP forec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weighted average of year-on-year growth rates of GDP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: nominal weights of components in the same period of the preceding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-post smoothening of the GDP forecast by adding expert judgement into some components, mainly investment (uncertainty) or import (has big w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reflect on the GDP forecast of benchma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TF of GDP at the CNB: users, goals,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s within the cor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P + exp. components forecast 1Q ahead is treated “as history” in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Q-s ahead (1-2 years) serves as a benchmark for the medium-term model (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s and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cast precision a few (1-3) quarte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ly smooth components forecast in q-o-q growths (required by g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y-telling based on expenditur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benchmark for g3 1-2 years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F of GDP at the CN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frame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equation econometric models for I, X, M + all deflators (C, I, G, X,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ly interpolation of G based on a nominal annual forecast (made at another department) + quarterly forecast of the def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forecast of private consumption with disposable income broken down into components + smoothing by the savings rate and some components of disp.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chmark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3880" indent="-44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-term models of GDP using monthly leading indicators: principal components, dynamic factor models, bridge equations, and averaged bivariate V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892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mpose disposable income (DI) to components: operating surplus, wages and salaries, social contributions, transfers, tax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ponents are forecast by our colleagues (quarterly or annually), others are jud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n idea of the new consumption forecast based on where the labor market and the fiscal forecast are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ing into account the assumptions on DI components, smoothen consumption forecast by the savings rate and some DI components that are highly un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6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hol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8000" y="2424240"/>
            <a:ext cx="8713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t Forecasts with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031840"/>
            <a:ext cx="821844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onsumption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the annual fiscal forecast from collea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olate nominal G into quarters by matching the annual sums (levels) in the fiscal forecast (quadratic interpolation from annual to quarterly data in E-Vie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cast the quarterly G deflator and deflate the forecast of nominal G to get re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643120"/>
            <a:ext cx="5257800" cy="344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796000" y="1268280"/>
            <a:ext cx="3348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-o-q grow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ly adju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 smoothed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rt (EX) linked t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urozone GDP (HDP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al exchange rate deflated by relative PPI-s (RERP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mmy: period of EU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DP_EU and RER_PPI  are forecast by collea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odel is quite robust to new observation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relationship was first researched without HP smo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s in the Core Fra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(EX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6000" y="2133720"/>
            <a:ext cx="3348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zone GDP is 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 of real exchange rate is typicall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significant persistence (A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te a lot of unexplained variation during the recession (periods ’08-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f the variation is cut off by the HP smoother (effects don’t add up to the black l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2565360"/>
            <a:ext cx="53640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16:40Z</dcterms:created>
  <dc:creator>u03999</dc:creator>
  <dc:description/>
  <dc:language>en-US</dc:language>
  <cp:lastModifiedBy>u04267</cp:lastModifiedBy>
  <dcterms:modified xsi:type="dcterms:W3CDTF">2012-01-13T08:10:46Z</dcterms:modified>
  <cp:revision>8</cp:revision>
  <dc:subject/>
  <dc:title>Near-Term Forecasting of GDP at the CNB</dc:title>
</cp:coreProperties>
</file>