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A832-E560-4A43-B316-492F7CA1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8CC-25BA-478F-A95F-89A9F2CF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D436-7315-45A0-BA43-3CE5121D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0B1-B30E-40F4-BB86-23828809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8D7-5AC4-4B67-9733-822C59DC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959-4839-4B83-A207-1C69D90B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02D-788D-4D32-8BB9-5E94E149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E6D-0CED-4AB9-BE02-14695D4D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66F-EDBC-4908-8E99-BB48AFEC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4FC-A690-4123-8CF2-847DF12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D4F-4666-4AF0-9B24-F8198E10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81F-8851-4298-8483-357C0667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2905-6A70-43FB-948F-C6E466BF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9280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rt-term Forecasting 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zech Quarterly GDP Using Monthly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276280"/>
            <a:ext cx="712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. Arnoštová, D. Havrlant, L. Růžička and P.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static factors by principal components, number of factors based on Bai and Ng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the parameters of dyn. factors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umber of dyn. factors based on Bai and 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parameters from the previous step, we estimate  dynamic factors and idiosyncratic terms by 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exible assumptions on the idiosyncratic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gregate forecasted factors to quarterly freq.:    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regress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n quarterly data; h is the forecast horiz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. &amp;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yn.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K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idging with factor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4000" y="2259000"/>
                <a:ext cx="2663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9560" y="3152880"/>
                <a:ext cx="3007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5464080"/>
                <a:ext cx="38163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4203720"/>
            <a:ext cx="3168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ly indicators are aggregated to quarterly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alancing by EM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FM is estimated on the combined database of quarterly indicators and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x. no. of dyn. and stat. factors fixed, actual numbers selected by information criteria of Bai and 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is derived directly from the factor model as the forecast of comm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a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DF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y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592360" cy="66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65640"/>
            <a:ext cx="251928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4000" y="5452920"/>
            <a:ext cx="3456000" cy="78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2232000" cy="9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indicators (98 seri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y, construction and services (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market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trade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data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dicators (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confidence indicators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leading indicators 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electricity consumption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stment of GDP and monthly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adjustment, quarterly growth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monthly indicators further differenced to achieve station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3044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cator pre-selection – our rule of thum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nly for large-scale models (5.-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focus on indicators with most relevant information for GDP when estimating facto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if abs(corr.) with GDP growth &g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bs(corr.) between any two indicators is &gt; 0.9, only the one more correlated with GDP i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full set of 98 only 27 series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: reduced forecast errors for models 5.,7.,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98560" y="1197000"/>
          <a:ext cx="74898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197000"/>
                    <a:ext cx="74898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aluation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 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820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RMSE overall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st RM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 ahead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6094440"/>
            <a:ext cx="75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rel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calculate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-à-vis th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moving averag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982960"/>
            <a:ext cx="7416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F of GDP by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8200" y="1773360"/>
            <a:ext cx="8281800" cy="365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661000"/>
            <a:ext cx="82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ks: model ranking based on RMSE, out of the 7 main models + 4 additional models listed in the tabl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 rank, for example: = rank of PC – rank of PC ful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ebold-Mariano Test Statistic for the H0 of Equal Squared Forecast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419200"/>
            <a:ext cx="84978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ur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9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7640" y="4797360"/>
            <a:ext cx="5940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T, HU,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59280" y="4732200"/>
            <a:ext cx="5976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9680" y="1557360"/>
            <a:ext cx="89139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Z data, most models are more accurate than the na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performs best overall, thus it is a good idea to condition the forecast on “many” but relevant monthly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forecast (NTF) did at least as well as the best model (PC) 1Q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did quite well overall (PC and DFM better than VAR and BE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improved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if the indicator set was reduced to the most relevant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errors of PC and PC-Q, timeliness of information is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(model rankings) are not quite generalizable across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2493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. 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 of GDP –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cca. 10 weeks after the end of the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of monthly indicators are available (~7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early, i.e. end of a month or just a few week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models recently available in the literature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 with mixed frequency data and unbalanced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 the forecast on a large set of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forecast errors as opposed to univariat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rehensive study of recent short-term models for Czech GDP is missing. It is useful for forecasting at CN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follow the ECB study Barhoumi etal. (200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TF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eraged bivariate VAR-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M ala Forni etal. 200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s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of last 4 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-Term Forecasting (NTF)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= smoothed sum of expenditu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henceforth denoted 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variate 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 in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, i = 1..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stimate 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R(2,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237200"/>
            <a:ext cx="3816360" cy="106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0920" y="3598920"/>
                <a:ext cx="2305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"/>
                        <m:endChr m:val="}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223344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2200" y="5302080"/>
            <a:ext cx="2737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 (B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95892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024360" cy="109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4946760"/>
            <a:ext cx="3024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sta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greg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dging with facto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6720" y="5186520"/>
                <a:ext cx="4680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3656160"/>
            <a:ext cx="2738520" cy="114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52908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Alternative principa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-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from PC in thre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s estimated on the quarterly aggre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atic factors is selected by the Kaiser criterion (PC eigenvalues &g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quarters of monthly indicators are simply o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6:51:04Z</dcterms:created>
  <dc:creator>u03999</dc:creator>
  <dc:description/>
  <dc:language>en-US</dc:language>
  <cp:lastModifiedBy>u04267</cp:lastModifiedBy>
  <dcterms:modified xsi:type="dcterms:W3CDTF">2012-01-13T08:09:19Z</dcterms:modified>
  <cp:revision>266</cp:revision>
  <dc:subject/>
  <dc:title>Near-term forecasts of GDP using dynamic factor models</dc:title>
</cp:coreProperties>
</file>