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BF10-8697-4DBB-860E-E87161E6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F76-6F24-4088-840A-9B05FC90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9E6-866B-4A25-80CD-44D08728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491-EC48-47A8-8A36-C4CABB3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858-8AB5-4CE1-AEF6-C70037A9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71B-1FAB-4759-A75A-7CB6987A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E7A8-155C-49AE-BA11-B8A9BABA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6EC-C39C-424C-A7AB-E2898C64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CDB-ECCC-46A4-962A-75021BD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6D6-0A3D-479B-8C69-825AB48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8F5-02DC-4316-BB80-332F1E18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525-C620-4734-8509-6C95EB5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FE5-1BB2-43E2-A8A0-5871E3F84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toth@cnb.cz" TargetMode="External"/><Relationship Id="rId2" Type="http://schemas.openxmlformats.org/officeDocument/2006/relationships/hyperlink" Target="mailto:peter.toth@cnb.cz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ar-Term Forecasting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068280"/>
            <a:ext cx="835164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ter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roeconomic Forecasting Div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65300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to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cn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20 22441 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328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(HT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565360"/>
            <a:ext cx="3348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 to find any other robust relationship between investment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2687760"/>
            <a:ext cx="5508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773360"/>
            <a:ext cx="334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(IM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C+G (SD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 of the C, G, I and EX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2573280"/>
            <a:ext cx="5364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565360"/>
            <a:ext cx="33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open economy, export is most important for the demand of import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vestment and consumption (C+G) ar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 variation is cut off by the HP smoother (effects don’t add up to the blue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0072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, wages in the non-business sector (colleague’s forecast)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import deflator, CPI and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X and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by colleague (D. Havrlant). Linked to the forecasts of import and export price inde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def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CPI, X and M deflators,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the GDP forec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eighted average of year-on-year growth rates of GD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: nominal weights of components in the same period of the preced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-post smoothening of the GDP forecast by adding expert judgement into some components, mainly investment (uncertainty) or import (has big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reflect on the GDP forecast of benchma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TF of GDP at the CNB: users, goals,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+ exp. components forecast 1Q ahead is treated “as history” in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-s ahead (1-2 years) serves as a benchmark for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precision a few (1-3) quarte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mooth components forecast in q-o-q growths (required by 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-telling based on expenditur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benchmark for g3 1-2 yea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equation econometric models for I, X, M + all deflators (C, I, G, X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interpolation of G based on a nominal annual forecast (made at another department) + quarterly forecast of the def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forecast of private consumption with disposable income broken down into components + smoothing by the savings rate and some components of disp.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term models of GDP using monthly leading indicators: principal components, dynamic factor models, bridge equations, and averaged bivariate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8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disposable income (DI) to components: operating surplus, wages and salaries, social contributions, transfers, tax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nents are forecast by our colleagues (quarterly or annually), others are ju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 idea of the new consumption forecast based on where the labor market and the fiscal forecast are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the assumptions on DI components, smoothen consumption forecast by the savings rate and some DI components that are highly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2424240"/>
            <a:ext cx="871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82184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nsumption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nnual fiscal forecast from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nominal G into quarters by matching the annual sums (levels) in the fiscal forecast (quadratic interpolation from annual to quarterly data in E-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the quarterly G deflator and deflate the forecast of nominal G to get re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43120"/>
            <a:ext cx="5257800" cy="344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1268280"/>
            <a:ext cx="3348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zone GDP (HD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xchange rate deflated by relative PPI-s (RER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my: period of EU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P_EU and RER_PPI  are forecast by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odel is quite robust to new observation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2133720"/>
            <a:ext cx="334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zone GDP is 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real exchange rate is typical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significant persistence (A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a lot of unexplained variation during the recession (periods ’08-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variation is cut off by the HP smoother (effects don’t add up to the black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53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16:40Z</dcterms:created>
  <dc:creator>u03999</dc:creator>
  <dc:description/>
  <dc:language>en-US</dc:language>
  <cp:lastModifiedBy>u04267</cp:lastModifiedBy>
  <dcterms:modified xsi:type="dcterms:W3CDTF">2012-01-13T08:10:46Z</dcterms:modified>
  <cp:revision>8</cp:revision>
  <dc:subject/>
  <dc:title>Near-Term Forecasting of GDP at the CNB</dc:title>
</cp:coreProperties>
</file>