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88480" y="4641480"/>
            <a:ext cx="4891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28692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77964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B6BC508-07B1-4043-AE7E-A43F04BBD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88480" y="4641480"/>
            <a:ext cx="4891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10B4-6BFE-4D8A-9BD8-A21A2EB74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C208-2B89-4457-8FC7-808043911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30E1-DC36-49F7-8650-3A207AA36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79F1-4700-41A3-A289-AD98ED1C0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3C3C-6231-46F1-82F5-054584E2C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1B30-8CA3-4244-905D-E423A9C63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57F7A-A93C-4E40-8C6D-02A4A7E2E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D4E3-B2E7-49B0-BCDB-1C1094123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351C-DEC2-4E0D-BB43-9ABAE4E5B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CB2A7-E792-4C9D-8D7E-9039F6191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C158-2444-4BFE-A1EE-668F95A7F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1224-F8F9-49E6-A0EF-FBD2DF82D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3f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0232-D27D-40B9-B8A8-79DDDC6635AC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ools for Monetary Policy with DSGE Models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1640" y="2708280"/>
            <a:ext cx="38876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f7c"/>
                </a:solidFill>
                <a:latin typeface="Arial Narrow"/>
              </a:rPr>
              <a:t>g3 – case stu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Jaromír Tonn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f7c"/>
                </a:solidFill>
                <a:latin typeface="Arial Narrow"/>
              </a:rPr>
              <a:t>Brno, autumn, 2011</a:t>
            </a:r>
            <a:endParaRPr b="0" lang="en-US" sz="26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501336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Real variables slump, nominal wages sticky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implies inflation pressur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Model in reduced for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nd reason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514C-0A24-4832-AA10-8FC57009A2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E5CE-8B87-4292-9682-DB11E6CC01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Median of gross month salary (Kč/month)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</a:t>
                      </a: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</a:t>
                      </a: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2 064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837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8 47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8 115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330 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3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340280" y="5661000"/>
            <a:ext cx="721728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ms could keep the same wages only if fired were 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mployees with low salary and...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15772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1A52-146D-4585-BD20-7CDB3DD947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umber of employees (thousands)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38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4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32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707 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61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670320" y="5375160"/>
            <a:ext cx="4920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1/3 less new employees than fired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87700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F98E-AE84-498F-B29C-E64CE924BF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ours worked monthly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4.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9.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8.6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4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3.6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9.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668880" y="5375160"/>
            <a:ext cx="5117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ed have the lowest hours worked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595008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F10E-0A16-444D-8A94-D5618D3C6F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ours of sickness monthly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668880" y="5375160"/>
            <a:ext cx="581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ed have the highest hours of sickness.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87700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08F2-42FA-498B-9368-5DF9349BC6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Who lost job?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wages employees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Double sickness absence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hours worke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qualifie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Basic education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increases average wages, however we need fundamental wages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requires expert judgment…how much?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F9DA-FADB-4BEA-86A7-6D2B19C069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805040"/>
            <a:ext cx="874872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7AC5-1A9C-425E-BC97-FAC808562D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9360" y="1484280"/>
            <a:ext cx="915336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1459-F48F-46BF-BEB9-4AFCDB691E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0033-C2F2-4344-86E0-F0862F7648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ase stu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Sensitivity analysi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B740-7EC3-41E8-891F-EAF495E85C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bservation of an increase of credit premium (interbank 3M PRIBOR rates did not follow changes of the 2W CNB’s policy rate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ssociated with uncertainty, releasing worse and worse economic data (at the beginning of 2009) etc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shows us a trajectory of the interbank rate but does not incorporate policy rate (2W REPO rate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the setting of 2W REPO rate is based on the model consistent trajectory of 3M PRIBOR interbank rate and a credit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BBCA-0E4B-44C7-8061-39F63F6612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Solution outside the model ! necessity of assumption about a premium to recognize required trajectory of the policy rat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ssumption that the premium in the Czech economy corresponds to a European Area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pproximation using monthly data: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Cred premt 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= 3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mPribor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−(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1+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2)/3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AAD9-DF80-4A5C-B158-E03DAF9B7C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8" name="Rectangle 3" descr=""/>
          <p:cNvPicPr/>
          <p:nvPr/>
        </p:nvPicPr>
        <p:blipFill>
          <a:blip r:embed="rId1"/>
          <a:stretch/>
        </p:blipFill>
        <p:spPr>
          <a:xfrm>
            <a:off x="1751040" y="1773360"/>
            <a:ext cx="585936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8989-6AD6-4742-9F69-263C5CCF01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bservation of deep and equivalent slumps of export and import volum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The Czech economy case: large import intensity of exports (not only value added is traded ...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ecause slumps of volumes implies a fall in re-exports, the decrease of GDP is small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xplanation: cut-off of some logistics centres with relatively low added valu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4DAA-ED9D-4DB0-9855-C0BC439D8E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1772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is well-suited for this situation and provides a tool for a solution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incorporates the openness technology to capture the different (and significant in reality) growth rates of trade volumes with respect to output growth (re-exports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318A-EEF7-42A9-A976-47055E4636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Initial conditions (model filtration): we observed a decrease of the openness technolog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Part of volume slumps can be attributed to a decrease of openness technolog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n the other hand, the near-term-forecast (NTF) reassesses the nowcast of trade volumes in order to have deeper slump of exports than imports (see the figure in the introduction) -&gt; a decrease of outpu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94DD-7EA6-4306-9E34-8EF40B726D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ar scrapping subsidi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scrapping subsidies in some European countries raise demand for Czech ca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industry is very significant in the Czech Republic (Skoda, TCPA - Toyota Peugeot Citroen Automobile, Hyundai, many suppliers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scrapping significant mostly for lower class cars (the majority of Czech production) ! we observe an increase of car production, and hence expor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ut subsidies in 2009, strong uncertainty for 2010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0203-8618-43B1-9087-1BC426A794B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ar scrapping subsidi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Foreign demand modelled exogenousl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xpert judgement for foreign demand: significant increase in 2009, but a decrease in 2010 with the termination of subsi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People will exploit subsidies before the termination with subsequent fall in demand for ca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Reference paper: Adda, J. and Cooper R. (2000): Balladurette and Juppette: A Discrete Analysis of Scrapping Subsidies. 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The Journal of Political Economy 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108:4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B824-02A3-48F9-A738-571F209DA1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after crisis S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Relatively high steady-state growth rates before the crisi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Uncertainty with the after-crisis growth (in the short- as well in the long-run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FCC8-C70F-4BCF-B4D7-2E2DFA2255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after crisis S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We keep the same steady-state to have historical filtrations unchanged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ut for the forecast the steady-state growth rates of technologies are decreased..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...(assumption about the gradual recovery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We simulate various scenarios with (lower growth rates in middle-run and long-run, lower wages, negatively shocks to technologies etc.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25E8-71FE-43E2-A644-38DA3EB8C3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Measurement erro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asonal adjustmen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s on filt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n forecas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4CC2-55FE-4D9A-B55B-FD1ED22FC2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cenario analysi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vs. Fan charts (graphs with confidence intervals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analysis is constructed to capture uncertainty of the produced forecast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analysis also serves the purpose of gaining better intuition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s may differ not only in alternative paths of exogenous variables but also whether and what variables are anticipated or unanticipated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Our decomposition tools are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decomposition of alternative scenarios into factors,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analysis of sources of a difference between two successive forecast,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dynamics decomposition of a forecast w.r.t the steady state.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ED38-9E3D-44D9-87EC-F310BD3A68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cenario analysi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Nominal wages and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reign demand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nergy pric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change rat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052A-F5AA-471B-B707-BD662126E1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 experimen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Observation of higher wages is shock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Observation of higher wages due to higher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f lower wages on forecast is shock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f lower wages on forecast due to lower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C0D9-81B4-4749-8F8C-9281F30DB0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0" name="Rectangle 3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640720" cy="42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46D2-26B1-4DB7-BCF8-04808B1670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978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C301B-9848-4D6A-821C-6092D401F2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4" name="Rectangl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69080" cy="43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EC95-5F7A-4360-9996-3332455A235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foreign demand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6" name="Rectangl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45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612C-FE23-4448-906E-C21A0A4426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energy pric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35164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E180-9F2E-4195-B9FE-9F4F6E7773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exchange rat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Rectangle 3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920000" cy="27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C53B-4265-4BDE-B2F2-297B38A2C7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Measurement error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ME reflect our priors concerning data reliability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ME brings some problems in distinguishing between structural shock and measurement error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ven in case of ME, a significant portion of information can be used by the model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nother problem is that filtered vars need not match exactly raw data, so then ..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...we investigate factors for that discrepancy...what are models or data deficiencies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28302-AD97-4871-8591-6A7A6CE807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Measurement error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982800" y="1773360"/>
            <a:ext cx="739620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159B-01CC-4CC0-AEF2-68A8AE06BA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asonal adjustmen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34544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5903-6A73-4AE7-9A92-EA8B06016E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 on filter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71192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565E-3238-49B8-A7DE-1E6A7A4485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 on forecas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ll forecasts are judgemental forecast (calibration of the model, filtering setup, trajectories of structural shocks), bu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we may impose judgements on the development of a particular variable by endogenizing structural shocks innovations, but.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the question is... what shock or set of shocks to choose and whether these shocks should be treated as anticipated or unanticipated...in which period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 special case represents explaining of a current development of a given variable by future innovations...these must be treated as anticipated by all agents in the economy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 solution is not unique, we can choose the set of shocks that is the most likely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1D5D-7F71-491E-A2B3-ED5E55DFCF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utlin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Nominal wag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ncrease of credit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reign trade fall and opennes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ar scrapping subsi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After-crisis steady states growth rat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A8A7-FD2B-4F98-B208-996C1A8E43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5:13Z</dcterms:modified>
  <cp:revision>203</cp:revision>
  <dc:subject/>
  <dc:title>Český název přednášky/akce</dc:title>
</cp:coreProperties>
</file>