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28692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77964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9021C0F-4205-42D1-A982-A6981EF91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1A53-20F9-4C62-8467-6E1B3F9F5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8F32-7A69-4015-A793-49044ED41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C9C2-6AFA-4074-BB8C-0C4F7D300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73E1-CE33-47F7-B470-BFA7A7439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8D15-A1F0-4EFC-993E-46BC7FAD3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5D25-4A59-4D0D-B083-B0ECE4238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1E83-CC6D-4EC1-B232-7D42C9BFE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63A9-BE82-457C-B262-D6E7E5E17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2809-C64A-494B-B516-2B71A94AD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59EC-DDD2-4E4E-BFF3-5151D6627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C2A8-2644-498B-95D8-213BF7DE5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9AB4-3689-4ADE-ACF4-EF9EED748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9621-D900-4782-8F01-CAA665198861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ols for Monetary Policy with DSGE Models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1640" y="2708280"/>
            <a:ext cx="3887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7c"/>
                </a:solidFill>
                <a:latin typeface="Arial Narrow"/>
              </a:rPr>
              <a:t>g3 – 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Jaromír Tonn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f7c"/>
                </a:solidFill>
                <a:latin typeface="Arial Narrow"/>
              </a:rPr>
              <a:t>Brno, autumn, 2011</a:t>
            </a:r>
            <a:endParaRPr b="0" lang="en-US" sz="26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501336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Real variables slump, nominal wages sticky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mplies inflation pressur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odel in reduced for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nd reason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FB9B-8C78-4F5F-94C8-7A6AAB4C5F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ED9A-DB7A-413C-85A5-166B05067D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Median of gross month salary (Kč/month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2 064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837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47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115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30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340280" y="5661000"/>
            <a:ext cx="721728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ms could keep the same wages only if fired were 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mployees with low salary and..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15772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7815-2423-40D4-981D-3D25980549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umber of employees (thousands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38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4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32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707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61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70320" y="5375160"/>
            <a:ext cx="4920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1/3 less new employees than fir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7D97-9D07-44C5-BD9C-CB96D6E364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worked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8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3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68880" y="5375160"/>
            <a:ext cx="5117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lowest hours work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95008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E108-2C8D-4B5B-87E8-16DF50EA2C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of sickness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68880" y="5375160"/>
            <a:ext cx="581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highest hours of sickness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E921-016C-4ADC-A140-442F79EBA9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Who lost job?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wages employee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Double sickness absence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hours work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qualifi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Basic education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ncreases average wages, however we need fundamental wag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requires expert judgment…how much?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5BC5-7183-4A50-B2D3-AE7F5A48D6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805040"/>
            <a:ext cx="87487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4563-66D2-466A-8A55-5AC47E66BC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E845-C4BC-42E9-9420-A576565D8A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AE11-11AD-4717-B213-6F12788631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ensitivity analy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55E4-1E5D-41BC-923B-0A00D6BB51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an increase of credit premium (interbank 3M PRIBOR rates did not follow changes of the 2W CNB’s policy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ociated with uncertainty, releasing worse and worse economic data (at the beginning of 2009) etc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shows us a trajectory of the interbank rate but does not incorporate policy rate (2W REPO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setting of 2W REPO rate is based on the model consistent trajectory of 3M PRIBOR interbank rate and a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6497-6923-4594-8F75-C3AF48A250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olution outside the model ! necessity of assumption about a premium to recognize required trajectory of the policy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umption that the premium in the Czech economy corresponds to a European Area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pproximation using monthly data: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Cred premt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= 3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mPribor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−(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1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)/3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A0C9-7A63-4F13-94AB-FFE2B27235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8" name="Rectangle 3" descr=""/>
          <p:cNvPicPr/>
          <p:nvPr/>
        </p:nvPicPr>
        <p:blipFill>
          <a:blip r:embed="rId1"/>
          <a:stretch/>
        </p:blipFill>
        <p:spPr>
          <a:xfrm>
            <a:off x="1751040" y="1773360"/>
            <a:ext cx="585936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777C-BA32-435B-9702-28599B680D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deep and equivalent slumps of export and import volum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Czech economy case: large import intensity of exports (not only value added is traded ..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ecause slumps of volumes implies a fall in re-exports, the decrease of GDP is small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lanation: cut-off of some logistics centres with relatively low added valu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5C2A-D37F-4EC1-9DA0-451E414386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1772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s well-suited for this situation and provides a tool for a solution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ncorporates the openness technology to capture the different (and significant in reality) growth rates of trade volumes with respect to output growth (re-export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B5E6-AB5D-4D75-A2B5-BE4BDBEA1F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Initial conditions (model filtration): we observed a decrease of the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art of volume slumps can be attributed to a decrease of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n the other hand, the near-term-forecast (NTF) reassesses the nowcast of trade volumes in order to have deeper slump of exports than imports (see the figure in the introduction) -&gt; a decrease of outpu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8F42-EFBE-486A-AF20-261D762FE0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ubsidies in some European countries raise demand for Czech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industry is very significant in the Czech Republic (Skoda, TCPA - Toyota Peugeot Citroen Automobile, Hyundai, many supplier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ignificant mostly for lower class cars (the majority of Czech production) ! we observe an increase of car production, and hence expor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subsidies in 2009, strong uncertainty for 2010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E792-0971-4072-8E0A-3192C671A9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Foreign demand modelled exogenousl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ert judgement for foreign demand: significant increase in 2009, but a decrease in 2010 with the termination of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eople will exploit subsidies before the termination with subsequent fall in demand for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ference paper: Adda, J. and Cooper R. (2000): Balladurette and Juppette: A Discrete Analysis of Scrapping Subsidies. 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The Journal of Political Economy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108:4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FF6D-42BE-4C37-9AB6-E0C45EC171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latively high steady-state growth rates before the cri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Uncertainty with the after-crisis growth (in the short- as well in the long-run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7BC5-CE6A-48F0-86AB-119858BD60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keep the same steady-state to have historical filtrations unchange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for the forecast the steady-state growth rates of technologies are decreased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(assumption about the gradual recovery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simulate various scenarios with (lower growth rates in middle-run and long-run, lower wages, negatively shocks to technologies etc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130A-C0FC-49FB-9C05-99A98BC67C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easurement erro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asonal adjust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 on filt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n forecas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8F26-9535-4862-A38D-C1C3C43D93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vs. Fan charts (graphs with confidence intervals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is constructed to capture uncertainty of the produced forecast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also serves the purpose of gaining better intuition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s may differ not only in alternative paths of exogenous variables but also whether and what variables are anticipated or unanticipated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ur decomposition tools are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ecomposition of alternative scenarios into factors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analysis of sources of a difference between two successive forecast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ynamics decomposition of a forecast w.r.t the steady state.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BD69-2F0A-41A9-8330-2684230F1B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 and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deman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nergy pric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change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8FE8-8378-411B-BCD8-3D1110E785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 experi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due to high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due to low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CCE1-C3E7-496F-9409-7B1FC9EFAC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0" name="Rectangle 3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DF75-6E5E-419F-8084-0E47BE151D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978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CC8F-11D3-41D0-851F-8CAB1A8A4F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4" name="Rectangl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69080" cy="43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8C74-6448-4FD5-8547-D675FD36E4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foreign deman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4E23-2887-44F8-A472-CCE1E5214F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nergy pric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C010-2B0B-4D5A-9EE3-0386CCDE80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xchange rat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92000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C1D8-2319-415F-9CD9-8437F70EA9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reflect our priors concerning data reliability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brings some problems in distinguishing between structural shock and measurement error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ven in case of ME, a significant portion of information can be used by the model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nother problem is that filtered vars need not match exactly raw data, so then 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we investigate factors for that discrepancy...what are models or data deficienci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3C6B-9319-41CE-AEBC-1B8EA10E9C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982800" y="1773360"/>
            <a:ext cx="739620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73C1-FBA2-4B4A-996E-FAFAA59166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asonal adjustm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34544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EB2E-03DC-4793-9469-0889EF2D21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ilter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71192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C828-F87E-4F4E-A575-35D97BE06E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orecas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ll forecasts are judgemental forecast (calibration of the model, filtering setup, trajectories of structural shocks), bu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we may impose judgements on the development of a particular variable by endogenizing structural shocks innovations, but.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question is... what shock or set of shocks to choose and whether these shocks should be treated as anticipated or unanticipated...in which period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pecial case represents explaining of a current development of a given variable by future innovations...these must be treated as anticipated by all agents in the econom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olution is not unique, we can choose the set of shocks that is the most likel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6907-BA65-4DB3-8EED-2E069A297B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ncrease of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trade fall and opennes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r scrapping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After-crisis steady states growth rat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2D37-1BCD-4669-8F53-D469670D13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13Z</dcterms:modified>
  <cp:revision>203</cp:revision>
  <dc:subject/>
  <dc:title>Český název přednášky/akce</dc:title>
</cp:coreProperties>
</file>