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1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0BDF-C286-446A-83F2-95AAFD010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C834-0BFD-4F64-AE71-5682395A9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4949-87C1-40B9-8046-586844563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518F5-C8B3-4B8E-A042-1659BEDD0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104F-CB94-4535-9633-A11941B5B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A1033-1BFB-44F7-88A6-B367A76B5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B6B2-E400-4C9B-9C72-BCBE9121F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D7D5-45EC-4169-B978-D7CC2DF81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155D-39B1-40CF-81DD-ED6B54D81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F777-8A76-4DD7-A908-F5437AE5A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0F76-7657-4CDA-B1AD-051FB5A52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A112-B2F0-4724-B499-D0068CC0D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kosticky"/>
          <p:cNvPicPr/>
          <p:nvPr/>
        </p:nvPicPr>
        <p:blipFill>
          <a:blip r:embed="rId2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CC6A-5363-4A8A-B214-4308C3ABD82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kosticky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4" descr="CNB logo 2r AN_coolgray_9"/>
          <p:cNvPicPr/>
          <p:nvPr/>
        </p:nvPicPr>
        <p:blipFill>
          <a:blip r:embed="rId3"/>
          <a:stretch/>
        </p:blipFill>
        <p:spPr>
          <a:xfrm>
            <a:off x="179280" y="6408720"/>
            <a:ext cx="86364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0160-B20C-4552-BB67-1B2546F87FEE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755640" y="1341360"/>
            <a:ext cx="7416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Short- to medium term forecasting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David Havrlan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Macroeconomic Forecasting Divis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ear Term Forecasting Unit (NTF)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Unicode MS"/>
              </a:rPr>
              <a:t>david.havrlant@cnb.cz</a:t>
            </a: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03280" y="515772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ABA6-BBB4-4AAD-899E-FE9A546166B8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48608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All in CZK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5437080" y="3141720"/>
            <a:ext cx="37069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DCADJ … import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EUR … exchange rate CZK/EUR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USD … exchange rate CZK/USD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EMU … effective PPI in EU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BRENT … oil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147600" y="2565360"/>
            <a:ext cx="86724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52E6-6794-4633-8720-3BBF543120B8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711360" y="1562040"/>
            <a:ext cx="75326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4A5B-5A37-4474-A9AD-6E51BDAAA0E2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94" name="Picture 17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326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4041-80AE-43BC-94AE-9FD5D538E4DE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Other prices and energy prices – impact on terms of trad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198" name="Picture 8" descr=""/>
          <p:cNvPicPr/>
          <p:nvPr/>
        </p:nvPicPr>
        <p:blipFill>
          <a:blip r:embed="rId1"/>
          <a:stretch/>
        </p:blipFill>
        <p:spPr>
          <a:xfrm>
            <a:off x="7667640" y="1901880"/>
            <a:ext cx="1382760" cy="4695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"/>
          <p:cNvPicPr/>
          <p:nvPr/>
        </p:nvPicPr>
        <p:blipFill>
          <a:blip r:embed="rId2"/>
          <a:stretch/>
        </p:blipFill>
        <p:spPr>
          <a:xfrm>
            <a:off x="165240" y="1901880"/>
            <a:ext cx="721512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CC17-0F98-4332-932F-CBA5DA11CA44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Producer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485720"/>
            <a:ext cx="914400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Unicode MS"/>
              </a:rPr>
              <a:t>High importance of producer pric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437080" y="3141720"/>
            <a:ext cx="37069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PRO … producer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EUR … exchange rate CZK/EUR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USD … exchange rate CZK/USD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EMU … effective PPI in EU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BRENT … oil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04" name="Picture 245" descr=""/>
          <p:cNvPicPr/>
          <p:nvPr/>
        </p:nvPicPr>
        <p:blipFill>
          <a:blip r:embed="rId1"/>
          <a:stretch/>
        </p:blipFill>
        <p:spPr>
          <a:xfrm>
            <a:off x="179280" y="2548080"/>
            <a:ext cx="867276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3542-A78A-4D2E-BEEF-99591078FABF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Producer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23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217F-B185-483E-AF6B-BA405BB7A847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7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Unicode MS"/>
              </a:rPr>
              <a:t>Potential Output and Output Gap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611280" y="1773360"/>
            <a:ext cx="8137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Cobb-Douglas production func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HP filter 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Kalman filter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11" name="Picture 8" descr=""/>
          <p:cNvPicPr/>
          <p:nvPr/>
        </p:nvPicPr>
        <p:blipFill>
          <a:blip r:embed="rId1"/>
          <a:stretch/>
        </p:blipFill>
        <p:spPr>
          <a:xfrm>
            <a:off x="179280" y="3639960"/>
            <a:ext cx="85536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BB74-DCCB-464D-8999-09EDC2F4594B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7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Labour Marke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24000" y="1773360"/>
            <a:ext cx="864072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Expected infla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Labour productivit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Position of the trade unions - collective bargaining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Position of the economy in the business cycle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Financial position of compani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Development and expectations in industry and constructing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841B-ACE3-4DE6-835D-7D72793F4294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Adjusted Infl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160200" y="2268360"/>
            <a:ext cx="6067440" cy="3969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"/>
          <p:cNvPicPr/>
          <p:nvPr/>
        </p:nvPicPr>
        <p:blipFill>
          <a:blip r:embed="rId2"/>
          <a:stretch/>
        </p:blipFill>
        <p:spPr>
          <a:xfrm>
            <a:off x="6443640" y="2092320"/>
            <a:ext cx="2533680" cy="46497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000" y="1557360"/>
            <a:ext cx="7596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Forecast of Adjusted inflation with different models, Y-O-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B697-BD5E-4CA8-9341-E7429F25FF97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Adjusted Infl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543640" y="3141720"/>
            <a:ext cx="3924360" cy="35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KORXPH … adjusted inflation 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CPIEMU … effective CPI in EU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EUR … exchange rate CZK/EUR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DCADJ_F … import prices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ULC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 … unit labour cost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  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Set of models and expert judgment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000" y="1557360"/>
            <a:ext cx="7596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Model of adjusted inflation, Y-O-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1"/>
          <a:stretch/>
        </p:blipFill>
        <p:spPr>
          <a:xfrm>
            <a:off x="108000" y="2548080"/>
            <a:ext cx="867240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D6C4-EF0A-444F-950F-4BCA4C1986E0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Objectives of the Present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24000" y="1844640"/>
            <a:ext cx="84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R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ole of NTF within the macroeconomic projection exercise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mportance of coherent framework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nterpreting economic development in a consistent wa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Brief insight into particular forecasting procedur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65C4-A660-4175-AEEB-503A74A39063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Food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50920" y="141300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Set of models and expert judgme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Example of NTF Food Prices Equation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434880" y="3027240"/>
            <a:ext cx="8672760" cy="36925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9"/>
          <p:cNvSpPr/>
          <p:nvPr/>
        </p:nvSpPr>
        <p:spPr>
          <a:xfrm>
            <a:off x="4859280" y="2276640"/>
            <a:ext cx="4429080" cy="35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FOOD_YOY_NOTXP … food prices inflation 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CZV_YOY … agricultural </a:t>
            </a:r>
            <a:r>
              <a:rPr b="0" lang="cs-CZ" sz="1400" spc="-1" strike="noStrike">
                <a:solidFill>
                  <a:srgbClr val="003f7c"/>
                </a:solidFill>
                <a:latin typeface="Arial Unicode MS"/>
              </a:rPr>
              <a:t>producer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 prices 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DCPOT_YOY … import prices of food com.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9C06-19B8-4574-B040-4E9243BDBA8C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Food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250920" y="141300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Set of models and expert judgme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21540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02F9-D4D1-4C1F-AF37-9080F8B03D91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Net infl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50920" y="1413000"/>
            <a:ext cx="8353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Calibrated estimate of inflationary pressur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impcos</a:t>
            </a:r>
            <a:r>
              <a:rPr b="0" lang="cs-CZ" sz="2000" spc="-1" strike="noStrike">
                <a:solidFill>
                  <a:srgbClr val="003f7c"/>
                </a:solidFill>
                <a:latin typeface="Arial Unicode MS"/>
              </a:rPr>
              <a:t>t</a:t>
            </a: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 = 0.9*(eur*ppiemu) + 0.1*(0.6*(usd*brent) + 0.4*(usd*gas)</a:t>
            </a:r>
            <a:r>
              <a:rPr b="0" lang="cs-CZ" sz="2000" spc="-1" strike="noStrike">
                <a:solidFill>
                  <a:srgbClr val="003f7c"/>
                </a:solidFill>
                <a:latin typeface="Arial Unicode MS"/>
              </a:rPr>
              <a:t>)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cost = 0.4*gdp_gap + 0.7*ulc(-1) + 0.3*impcos</a:t>
            </a:r>
            <a:r>
              <a:rPr b="0" lang="cs-CZ" sz="2000" spc="-1" strike="noStrike">
                <a:solidFill>
                  <a:srgbClr val="003f7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(-2)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37" name="Picture 7" descr=""/>
          <p:cNvPicPr/>
          <p:nvPr/>
        </p:nvPicPr>
        <p:blipFill>
          <a:blip r:embed="rId1"/>
          <a:stretch/>
        </p:blipFill>
        <p:spPr>
          <a:xfrm>
            <a:off x="61920" y="3279600"/>
            <a:ext cx="4510080" cy="3102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2"/>
          <a:stretch/>
        </p:blipFill>
        <p:spPr>
          <a:xfrm>
            <a:off x="4599000" y="3279600"/>
            <a:ext cx="451008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8DBE-A056-4ADF-8180-72D3B8B99EE7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Main NTF Task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24000" y="1844640"/>
            <a:ext cx="84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E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xpert</a:t>
            </a: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s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 as regards the Czech econom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mpirical data, structures, institutional and regulation framework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Based on theoretical background</a:t>
            </a: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sistent with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C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onduct of MP</a:t>
            </a: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within IT regim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U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sage of the core projection model</a:t>
            </a: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 (G3)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scussion on initial state of the econom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omparative benchmark for core model projec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roviding disaggregated economic outlook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yclical decomposition of the variabl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R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esearch activiti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567E-61D7-4EE4-B51F-F9F0017E5489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Points of view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24000" y="1844640"/>
            <a:ext cx="84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One model is risky - set of methods is better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Economic theory as basis of analysi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Emphasis on statistical data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 Unicode MS"/>
              </a:rPr>
              <a:t>Respecting not only economic theory, but also statistical data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E</a:t>
            </a: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xpert approach : possible correction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Structural changes in econom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Theory vs. measurement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Revisions of data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6F1F-33C3-49D6-B6A6-1E2616ACEA2B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Near Term Forecast (NTF)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56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ditional forecas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Foreign macroeconomic outlook from The Consensus Forecast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CPI, PPI, GDP 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–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 effective indices (relevance for Czech economy)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World energy and food prices, exchange rate USD/EUR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Standardized source 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–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 no arbitrarily changes, potential for alternative scenarios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marL="343080" indent="-343080"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ear term forecast </a:t>
            </a:r>
            <a:r>
              <a:rPr b="0" lang="en-US" sz="2400" spc="-1" strike="noStrike">
                <a:solidFill>
                  <a:srgbClr val="333399"/>
                </a:solidFill>
                <a:latin typeface="Arial Narrow"/>
              </a:rPr>
              <a:t>–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 1Q, 2Q ahead with high precis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Empirical check in mid-term horizon for the core model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08C8-8DBD-40D4-B2F6-C3AD3640F1CB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NTF - Per Part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79280" y="1413000"/>
            <a:ext cx="417672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Labour marke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Employment, unemployme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Economic productivit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Average wag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Wage bill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Other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Import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Terms of trad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Producer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861080" y="1413000"/>
            <a:ext cx="410364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Real economic activit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Domestic demand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Exports, imports, net expor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GDP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Trade balanc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Current accou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Consumer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Main components of the consumer baske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9" name="Line 9"/>
          <p:cNvSpPr/>
          <p:nvPr/>
        </p:nvSpPr>
        <p:spPr>
          <a:xfrm>
            <a:off x="3635280" y="2924280"/>
            <a:ext cx="1368360" cy="0"/>
          </a:xfrm>
          <a:prstGeom prst="line">
            <a:avLst/>
          </a:prstGeom>
          <a:ln w="9360">
            <a:solidFill>
              <a:srgbClr val="003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0" name="Line 10"/>
          <p:cNvSpPr/>
          <p:nvPr/>
        </p:nvSpPr>
        <p:spPr>
          <a:xfrm flipV="1">
            <a:off x="2627280" y="3357360"/>
            <a:ext cx="2305080" cy="934920"/>
          </a:xfrm>
          <a:prstGeom prst="line">
            <a:avLst/>
          </a:prstGeom>
          <a:ln w="9360">
            <a:solidFill>
              <a:srgbClr val="003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grpSp>
        <p:nvGrpSpPr>
          <p:cNvPr id="101" name="Group 11"/>
          <p:cNvGrpSpPr/>
          <p:nvPr/>
        </p:nvGrpSpPr>
        <p:grpSpPr>
          <a:xfrm>
            <a:off x="2627280" y="3357720"/>
            <a:ext cx="4105440" cy="1150920"/>
            <a:chOff x="2627280" y="3357720"/>
            <a:chExt cx="4105440" cy="1150920"/>
          </a:xfrm>
        </p:grpSpPr>
        <p:sp>
          <p:nvSpPr>
            <p:cNvPr id="102" name="Line 12"/>
            <p:cNvSpPr/>
            <p:nvPr/>
          </p:nvSpPr>
          <p:spPr>
            <a:xfrm>
              <a:off x="6732720" y="4076640"/>
              <a:ext cx="0" cy="43200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03" name="Line 13"/>
            <p:cNvSpPr/>
            <p:nvPr/>
          </p:nvSpPr>
          <p:spPr>
            <a:xfrm>
              <a:off x="2627280" y="4508640"/>
              <a:ext cx="2232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04" name="Line 14"/>
            <p:cNvSpPr/>
            <p:nvPr/>
          </p:nvSpPr>
          <p:spPr>
            <a:xfrm>
              <a:off x="3348000" y="3357720"/>
              <a:ext cx="1440000" cy="9349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D22D-99FE-41BD-9733-119748CFF285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Consistence through Iter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611280" y="1773360"/>
            <a:ext cx="8137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TF is in principle not an interconnected system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Threat of inconsistency of the complex forecas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sistence is achieved through: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Quasi-interconnec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One forecast is the input of other forecast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tera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sistency check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ew forecasting round if necessar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Race against time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1F3A-3CAB-4ED3-98CC-E5C04C1A6166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Multistage Forecas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908000" y="1917720"/>
            <a:ext cx="0" cy="4824360"/>
          </a:xfrm>
          <a:prstGeom prst="line">
            <a:avLst/>
          </a:prstGeom>
          <a:ln w="9360">
            <a:solidFill>
              <a:srgbClr val="003f7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79280" y="13161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Verdana"/>
              </a:rPr>
              <a:t>Data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124000" y="13161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Verdana"/>
              </a:rPr>
              <a:t>Forecast 1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grpSp>
        <p:nvGrpSpPr>
          <p:cNvPr id="113" name="Group 10"/>
          <p:cNvGrpSpPr/>
          <p:nvPr/>
        </p:nvGrpSpPr>
        <p:grpSpPr>
          <a:xfrm>
            <a:off x="179280" y="1841400"/>
            <a:ext cx="1441440" cy="4243320"/>
            <a:chOff x="179280" y="1841400"/>
            <a:chExt cx="1441440" cy="4243320"/>
          </a:xfrm>
        </p:grpSpPr>
        <p:sp>
          <p:nvSpPr>
            <p:cNvPr id="114" name="Text Box 11"/>
            <p:cNvSpPr/>
            <p:nvPr/>
          </p:nvSpPr>
          <p:spPr>
            <a:xfrm>
              <a:off x="179280" y="544212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Consum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5" name="Text Box 12"/>
            <p:cNvSpPr/>
            <p:nvPr/>
          </p:nvSpPr>
          <p:spPr>
            <a:xfrm>
              <a:off x="179280" y="3645000"/>
              <a:ext cx="144000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Labour market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6" name="Text Box 13"/>
            <p:cNvSpPr/>
            <p:nvPr/>
          </p:nvSpPr>
          <p:spPr>
            <a:xfrm>
              <a:off x="179280" y="270828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Oth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7" name="Text Box 14"/>
            <p:cNvSpPr/>
            <p:nvPr/>
          </p:nvSpPr>
          <p:spPr>
            <a:xfrm>
              <a:off x="179280" y="450864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conomic activity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8" name="Text Box 15"/>
            <p:cNvSpPr/>
            <p:nvPr/>
          </p:nvSpPr>
          <p:spPr>
            <a:xfrm>
              <a:off x="179280" y="1841400"/>
              <a:ext cx="144000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xogens (CF)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19" name="Group 16"/>
          <p:cNvGrpSpPr/>
          <p:nvPr/>
        </p:nvGrpSpPr>
        <p:grpSpPr>
          <a:xfrm>
            <a:off x="2268360" y="2708280"/>
            <a:ext cx="2374920" cy="3176640"/>
            <a:chOff x="2268360" y="2708280"/>
            <a:chExt cx="2374920" cy="3176640"/>
          </a:xfrm>
        </p:grpSpPr>
        <p:sp>
          <p:nvSpPr>
            <p:cNvPr id="120" name="Text Box 17"/>
            <p:cNvSpPr/>
            <p:nvPr/>
          </p:nvSpPr>
          <p:spPr>
            <a:xfrm>
              <a:off x="2268360" y="3645000"/>
              <a:ext cx="115128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Labour market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1" name="Text Box 18"/>
            <p:cNvSpPr/>
            <p:nvPr/>
          </p:nvSpPr>
          <p:spPr>
            <a:xfrm>
              <a:off x="2268360" y="2708280"/>
              <a:ext cx="144180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Oth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2" name="Text Box 19"/>
            <p:cNvSpPr/>
            <p:nvPr/>
          </p:nvSpPr>
          <p:spPr>
            <a:xfrm>
              <a:off x="2268360" y="4581360"/>
              <a:ext cx="179892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conomic activity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3" name="Text Box 20"/>
            <p:cNvSpPr/>
            <p:nvPr/>
          </p:nvSpPr>
          <p:spPr>
            <a:xfrm>
              <a:off x="2268360" y="5516640"/>
              <a:ext cx="2374920" cy="36828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Consum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24" name="Group 21"/>
          <p:cNvGrpSpPr/>
          <p:nvPr/>
        </p:nvGrpSpPr>
        <p:grpSpPr>
          <a:xfrm>
            <a:off x="1619280" y="2205000"/>
            <a:ext cx="3024000" cy="3311640"/>
            <a:chOff x="1619280" y="2205000"/>
            <a:chExt cx="3024000" cy="3311640"/>
          </a:xfrm>
        </p:grpSpPr>
        <p:sp>
          <p:nvSpPr>
            <p:cNvPr id="125" name="Line 22"/>
            <p:cNvSpPr/>
            <p:nvPr/>
          </p:nvSpPr>
          <p:spPr>
            <a:xfrm>
              <a:off x="1619280" y="2205000"/>
              <a:ext cx="3024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6" name="Line 23"/>
            <p:cNvSpPr/>
            <p:nvPr/>
          </p:nvSpPr>
          <p:spPr>
            <a:xfrm>
              <a:off x="2916360" y="2205000"/>
              <a:ext cx="0" cy="503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7" name="Line 24"/>
            <p:cNvSpPr/>
            <p:nvPr/>
          </p:nvSpPr>
          <p:spPr>
            <a:xfrm>
              <a:off x="3924360" y="2205000"/>
              <a:ext cx="0" cy="2376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8" name="Line 25"/>
            <p:cNvSpPr/>
            <p:nvPr/>
          </p:nvSpPr>
          <p:spPr>
            <a:xfrm>
              <a:off x="4643280" y="2205000"/>
              <a:ext cx="0" cy="3311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29" name="Group 26"/>
          <p:cNvGrpSpPr/>
          <p:nvPr/>
        </p:nvGrpSpPr>
        <p:grpSpPr>
          <a:xfrm>
            <a:off x="1619280" y="2997360"/>
            <a:ext cx="2808360" cy="2519280"/>
            <a:chOff x="1619280" y="2997360"/>
            <a:chExt cx="2808360" cy="2519280"/>
          </a:xfrm>
        </p:grpSpPr>
        <p:sp>
          <p:nvSpPr>
            <p:cNvPr id="130" name="Line 27"/>
            <p:cNvSpPr/>
            <p:nvPr/>
          </p:nvSpPr>
          <p:spPr>
            <a:xfrm>
              <a:off x="3564000" y="3357720"/>
              <a:ext cx="0" cy="1223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1" name="Line 28"/>
            <p:cNvSpPr/>
            <p:nvPr/>
          </p:nvSpPr>
          <p:spPr>
            <a:xfrm>
              <a:off x="1619280" y="299736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2" name="Line 29"/>
            <p:cNvSpPr/>
            <p:nvPr/>
          </p:nvSpPr>
          <p:spPr>
            <a:xfrm>
              <a:off x="3708360" y="2997360"/>
              <a:ext cx="7192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3" name="Line 30"/>
            <p:cNvSpPr/>
            <p:nvPr/>
          </p:nvSpPr>
          <p:spPr>
            <a:xfrm>
              <a:off x="4427640" y="2997360"/>
              <a:ext cx="0" cy="2519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34" name="Group 31"/>
          <p:cNvGrpSpPr/>
          <p:nvPr/>
        </p:nvGrpSpPr>
        <p:grpSpPr>
          <a:xfrm>
            <a:off x="1619280" y="4869000"/>
            <a:ext cx="936720" cy="865080"/>
            <a:chOff x="1619280" y="4869000"/>
            <a:chExt cx="936720" cy="865080"/>
          </a:xfrm>
        </p:grpSpPr>
        <p:sp>
          <p:nvSpPr>
            <p:cNvPr id="135" name="Line 32"/>
            <p:cNvSpPr/>
            <p:nvPr/>
          </p:nvSpPr>
          <p:spPr>
            <a:xfrm>
              <a:off x="1619280" y="486900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6" name="Line 33"/>
            <p:cNvSpPr/>
            <p:nvPr/>
          </p:nvSpPr>
          <p:spPr>
            <a:xfrm>
              <a:off x="2556000" y="5229360"/>
              <a:ext cx="0" cy="287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7" name="Line 34"/>
            <p:cNvSpPr/>
            <p:nvPr/>
          </p:nvSpPr>
          <p:spPr>
            <a:xfrm>
              <a:off x="1619280" y="573408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sp>
        <p:nvSpPr>
          <p:cNvPr id="138" name="Line 35"/>
          <p:cNvSpPr/>
          <p:nvPr/>
        </p:nvSpPr>
        <p:spPr>
          <a:xfrm>
            <a:off x="4932360" y="1916280"/>
            <a:ext cx="0" cy="4825800"/>
          </a:xfrm>
          <a:prstGeom prst="line">
            <a:avLst/>
          </a:prstGeom>
          <a:ln w="9360">
            <a:solidFill>
              <a:srgbClr val="003f7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39" name="Text Box 36"/>
          <p:cNvSpPr/>
          <p:nvPr/>
        </p:nvSpPr>
        <p:spPr>
          <a:xfrm>
            <a:off x="6588000" y="134136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Verdana"/>
              </a:rPr>
              <a:t>Forecast 2: more consisten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40" name="Text Box 37"/>
          <p:cNvSpPr/>
          <p:nvPr/>
        </p:nvSpPr>
        <p:spPr>
          <a:xfrm>
            <a:off x="4067280" y="1268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Verdana"/>
              </a:rPr>
              <a:t>New data and consistency check</a:t>
            </a: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</p:txBody>
      </p:sp>
      <p:grpSp>
        <p:nvGrpSpPr>
          <p:cNvPr id="141" name="Group 38"/>
          <p:cNvGrpSpPr/>
          <p:nvPr/>
        </p:nvGrpSpPr>
        <p:grpSpPr>
          <a:xfrm>
            <a:off x="1619280" y="3933720"/>
            <a:ext cx="2592360" cy="1582920"/>
            <a:chOff x="1619280" y="3933720"/>
            <a:chExt cx="2592360" cy="1582920"/>
          </a:xfrm>
        </p:grpSpPr>
        <p:sp>
          <p:nvSpPr>
            <p:cNvPr id="142" name="Line 39"/>
            <p:cNvSpPr/>
            <p:nvPr/>
          </p:nvSpPr>
          <p:spPr>
            <a:xfrm>
              <a:off x="1619280" y="4653000"/>
              <a:ext cx="216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3" name="Line 40"/>
            <p:cNvSpPr/>
            <p:nvPr/>
          </p:nvSpPr>
          <p:spPr>
            <a:xfrm>
              <a:off x="1619280" y="393372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4" name="Line 41"/>
            <p:cNvSpPr/>
            <p:nvPr/>
          </p:nvSpPr>
          <p:spPr>
            <a:xfrm>
              <a:off x="2556000" y="4292640"/>
              <a:ext cx="0" cy="2887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5" name="Line 42"/>
            <p:cNvSpPr/>
            <p:nvPr/>
          </p:nvSpPr>
          <p:spPr>
            <a:xfrm>
              <a:off x="3419640" y="3933720"/>
              <a:ext cx="792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6" name="Line 43"/>
            <p:cNvSpPr/>
            <p:nvPr/>
          </p:nvSpPr>
          <p:spPr>
            <a:xfrm>
              <a:off x="4211640" y="3933720"/>
              <a:ext cx="0" cy="15829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7" name="Line 44"/>
            <p:cNvSpPr/>
            <p:nvPr/>
          </p:nvSpPr>
          <p:spPr>
            <a:xfrm flipV="1">
              <a:off x="1835280" y="4149720"/>
              <a:ext cx="0" cy="503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8" name="Line 45"/>
            <p:cNvSpPr/>
            <p:nvPr/>
          </p:nvSpPr>
          <p:spPr>
            <a:xfrm>
              <a:off x="1835280" y="4149720"/>
              <a:ext cx="433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49" name="Group 46"/>
          <p:cNvGrpSpPr/>
          <p:nvPr/>
        </p:nvGrpSpPr>
        <p:grpSpPr>
          <a:xfrm>
            <a:off x="4067280" y="3500280"/>
            <a:ext cx="2736720" cy="1368720"/>
            <a:chOff x="4067280" y="3500280"/>
            <a:chExt cx="2736720" cy="1368720"/>
          </a:xfrm>
        </p:grpSpPr>
        <p:sp>
          <p:nvSpPr>
            <p:cNvPr id="150" name="Line 47"/>
            <p:cNvSpPr/>
            <p:nvPr/>
          </p:nvSpPr>
          <p:spPr>
            <a:xfrm>
              <a:off x="4067280" y="4869000"/>
              <a:ext cx="129672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1" name="Line 48"/>
            <p:cNvSpPr/>
            <p:nvPr/>
          </p:nvSpPr>
          <p:spPr>
            <a:xfrm flipV="1">
              <a:off x="5364000" y="4005000"/>
              <a:ext cx="0" cy="863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2" name="Line 49"/>
            <p:cNvSpPr/>
            <p:nvPr/>
          </p:nvSpPr>
          <p:spPr>
            <a:xfrm>
              <a:off x="5364000" y="4005360"/>
              <a:ext cx="1440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3" name="Text Box 50"/>
            <p:cNvSpPr/>
            <p:nvPr/>
          </p:nvSpPr>
          <p:spPr>
            <a:xfrm>
              <a:off x="5364000" y="3500280"/>
              <a:ext cx="136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3f7c"/>
                  </a:solidFill>
                  <a:latin typeface="Verdana"/>
                </a:rPr>
                <a:t>output gap consistency</a:t>
              </a:r>
              <a:endParaRPr b="0" lang="en-US" sz="16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54" name="Group 51"/>
          <p:cNvGrpSpPr/>
          <p:nvPr/>
        </p:nvGrpSpPr>
        <p:grpSpPr>
          <a:xfrm>
            <a:off x="4643280" y="4005360"/>
            <a:ext cx="2233800" cy="1800000"/>
            <a:chOff x="4643280" y="4005360"/>
            <a:chExt cx="2233800" cy="1800000"/>
          </a:xfrm>
        </p:grpSpPr>
        <p:sp>
          <p:nvSpPr>
            <p:cNvPr id="155" name="Line 52"/>
            <p:cNvSpPr/>
            <p:nvPr/>
          </p:nvSpPr>
          <p:spPr>
            <a:xfrm>
              <a:off x="4643280" y="5805360"/>
              <a:ext cx="86544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6" name="Line 53"/>
            <p:cNvSpPr/>
            <p:nvPr/>
          </p:nvSpPr>
          <p:spPr>
            <a:xfrm flipV="1">
              <a:off x="5508720" y="4436640"/>
              <a:ext cx="0" cy="1368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7" name="Line 54"/>
            <p:cNvSpPr/>
            <p:nvPr/>
          </p:nvSpPr>
          <p:spPr>
            <a:xfrm>
              <a:off x="5508720" y="4437000"/>
              <a:ext cx="12952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8" name="Text Box 55"/>
            <p:cNvSpPr/>
            <p:nvPr/>
          </p:nvSpPr>
          <p:spPr>
            <a:xfrm>
              <a:off x="5435640" y="400536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3f7c"/>
                  </a:solidFill>
                  <a:latin typeface="Verdana"/>
                </a:rPr>
                <a:t>real wages</a:t>
              </a:r>
              <a:endParaRPr b="0" lang="en-US" sz="16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9" name="Line 56"/>
            <p:cNvSpPr/>
            <p:nvPr/>
          </p:nvSpPr>
          <p:spPr>
            <a:xfrm>
              <a:off x="5508720" y="5157720"/>
              <a:ext cx="136836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0" name="Text Box 57"/>
            <p:cNvSpPr/>
            <p:nvPr/>
          </p:nvSpPr>
          <p:spPr>
            <a:xfrm>
              <a:off x="5435640" y="472428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3f7c"/>
                  </a:solidFill>
                  <a:latin typeface="Verdana"/>
                </a:rPr>
                <a:t>real ER</a:t>
              </a:r>
              <a:endParaRPr b="0" lang="en-US" sz="16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61" name="Group 58"/>
          <p:cNvGrpSpPr/>
          <p:nvPr/>
        </p:nvGrpSpPr>
        <p:grpSpPr>
          <a:xfrm>
            <a:off x="5148360" y="1916280"/>
            <a:ext cx="3814560" cy="4186080"/>
            <a:chOff x="5148360" y="1916280"/>
            <a:chExt cx="3814560" cy="4186080"/>
          </a:xfrm>
        </p:grpSpPr>
        <p:sp>
          <p:nvSpPr>
            <p:cNvPr id="162" name="Text Box 59"/>
            <p:cNvSpPr/>
            <p:nvPr/>
          </p:nvSpPr>
          <p:spPr>
            <a:xfrm>
              <a:off x="6804000" y="3860640"/>
              <a:ext cx="115092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Labour market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3" name="Text Box 60"/>
            <p:cNvSpPr/>
            <p:nvPr/>
          </p:nvSpPr>
          <p:spPr>
            <a:xfrm>
              <a:off x="6877080" y="4797360"/>
              <a:ext cx="179856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conomic activity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4" name="Text Box 61"/>
            <p:cNvSpPr/>
            <p:nvPr/>
          </p:nvSpPr>
          <p:spPr>
            <a:xfrm>
              <a:off x="6588000" y="5734080"/>
              <a:ext cx="2374920" cy="36828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Consum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5" name="Text Box 62"/>
            <p:cNvSpPr/>
            <p:nvPr/>
          </p:nvSpPr>
          <p:spPr>
            <a:xfrm>
              <a:off x="5148360" y="1916280"/>
              <a:ext cx="14396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xogens (CF)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6" name="Text Box 63"/>
            <p:cNvSpPr/>
            <p:nvPr/>
          </p:nvSpPr>
          <p:spPr>
            <a:xfrm>
              <a:off x="5148360" y="278136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Oth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67" name="Group 64"/>
          <p:cNvGrpSpPr/>
          <p:nvPr/>
        </p:nvGrpSpPr>
        <p:grpSpPr>
          <a:xfrm>
            <a:off x="5724360" y="2133720"/>
            <a:ext cx="3240360" cy="3600360"/>
            <a:chOff x="5724360" y="2133720"/>
            <a:chExt cx="3240360" cy="3600360"/>
          </a:xfrm>
        </p:grpSpPr>
        <p:sp>
          <p:nvSpPr>
            <p:cNvPr id="168" name="Line 65"/>
            <p:cNvSpPr/>
            <p:nvPr/>
          </p:nvSpPr>
          <p:spPr>
            <a:xfrm>
              <a:off x="8893080" y="4076640"/>
              <a:ext cx="0" cy="16574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9" name="Line 66"/>
            <p:cNvSpPr/>
            <p:nvPr/>
          </p:nvSpPr>
          <p:spPr>
            <a:xfrm>
              <a:off x="7164360" y="4508640"/>
              <a:ext cx="0" cy="2887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0" name="Line 67"/>
            <p:cNvSpPr/>
            <p:nvPr/>
          </p:nvSpPr>
          <p:spPr>
            <a:xfrm>
              <a:off x="7164360" y="5445000"/>
              <a:ext cx="0" cy="2890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1" name="Line 68"/>
            <p:cNvSpPr/>
            <p:nvPr/>
          </p:nvSpPr>
          <p:spPr>
            <a:xfrm>
              <a:off x="7956720" y="4076640"/>
              <a:ext cx="93636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2" name="Line 69"/>
            <p:cNvSpPr/>
            <p:nvPr/>
          </p:nvSpPr>
          <p:spPr>
            <a:xfrm>
              <a:off x="8820000" y="2133720"/>
              <a:ext cx="0" cy="3600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3" name="Line 70"/>
            <p:cNvSpPr/>
            <p:nvPr/>
          </p:nvSpPr>
          <p:spPr>
            <a:xfrm>
              <a:off x="6588000" y="2133720"/>
              <a:ext cx="2232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4" name="Line 71"/>
            <p:cNvSpPr/>
            <p:nvPr/>
          </p:nvSpPr>
          <p:spPr>
            <a:xfrm>
              <a:off x="5724360" y="2565360"/>
              <a:ext cx="0" cy="21600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5" name="Line 72"/>
            <p:cNvSpPr/>
            <p:nvPr/>
          </p:nvSpPr>
          <p:spPr>
            <a:xfrm>
              <a:off x="8317080" y="2133720"/>
              <a:ext cx="0" cy="2663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6" name="Line 73"/>
            <p:cNvSpPr/>
            <p:nvPr/>
          </p:nvSpPr>
          <p:spPr>
            <a:xfrm>
              <a:off x="6588000" y="3141720"/>
              <a:ext cx="237672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7" name="Line 74"/>
            <p:cNvSpPr/>
            <p:nvPr/>
          </p:nvSpPr>
          <p:spPr>
            <a:xfrm>
              <a:off x="8172360" y="3141720"/>
              <a:ext cx="0" cy="1655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8" name="Line 75"/>
            <p:cNvSpPr/>
            <p:nvPr/>
          </p:nvSpPr>
          <p:spPr>
            <a:xfrm>
              <a:off x="8964720" y="3141720"/>
              <a:ext cx="0" cy="2592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D600-613E-4CBD-9E47-7F68DA07287D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55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Small opend economy – high importance of foreign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437080" y="3141720"/>
            <a:ext cx="37069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DCADJ … import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EUR … exchange rate CZK/EUR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USD … exchange rate CZK/USD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EMU … effective PPI in EU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BRENT … oil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86886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u04267</cp:lastModifiedBy>
  <dcterms:modified xsi:type="dcterms:W3CDTF">2012-01-13T09:54:16Z</dcterms:modified>
  <cp:revision>596</cp:revision>
  <dc:subject/>
  <dc:title>Český název přednášky/akce</dc:title>
</cp:coreProperties>
</file>