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BA21475-A6B6-49C5-9BF6-66D403E6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91ED-1D38-49C4-A5A9-52D8F4BA6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9398-F3CD-48EC-A013-27887EE90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1A26-B760-4EA0-BA91-987CA772E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5F75-B505-4C5B-AC59-30805C38E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0139-6346-4E4C-BAA6-28E70B128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9B47-492F-4405-BAB0-C80A30099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79C4-0584-49D8-B1E7-F4851AFD7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6CAD-D91F-4CD5-8F3A-FABE4FD0A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08E7-DA67-4570-BD8A-1C6F6D68A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9DDA-F988-40B2-B27A-218C2237B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EB44-9CBC-4F13-A503-80EED01E4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DEDD-3B37-47E1-80A4-4D69DC075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25F-352A-4941-AD43-A5474A69866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ols for Monetary Policy with DSGE Model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1640" y="2708280"/>
            <a:ext cx="3887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7c"/>
                </a:solidFill>
                <a:latin typeface="Arial Narrow"/>
              </a:rPr>
              <a:t>g3 – 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Jaromír Tonn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f7c"/>
                </a:solidFill>
                <a:latin typeface="Arial Narrow"/>
              </a:rPr>
              <a:t>Brno, autumn, 2011</a:t>
            </a:r>
            <a:endParaRPr b="0" lang="en-US" sz="26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Real variables slump, nominal wages stick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mplies inflation pressur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odel in reduced for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nd reason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601E-A213-4B4A-AC3B-6E5B1D7C5F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E1A4-4A0D-41A3-833A-07CA2A55A7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Median of gross month salary (Kč/month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2 064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837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47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115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30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340280" y="5661000"/>
            <a:ext cx="72172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ms could keep the same wages only if fired were 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mployees with low salary and..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15772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D394-6BDC-4AFC-847E-8A571DD12A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umber of employees (thousands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38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4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32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707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61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70320" y="5375160"/>
            <a:ext cx="492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1/3 less new employees than fir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E4D5-F63A-44BC-8EE8-9813D45ED7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worked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8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3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68880" y="5375160"/>
            <a:ext cx="511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lowest hours work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95008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27B0-5CD6-4DAE-90D4-E4D1401935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of sickness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68880" y="5375160"/>
            <a:ext cx="581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highest hours of sickness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BAF1-E132-4503-9E9A-1565C8F11A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Who lost job?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wages employee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Double sickness absen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hours work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qualifi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Basic education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ncreases average wages, however we need fundamental wag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requires expert judgment…how much?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3D57-932A-41C6-8A69-B0B57BEA66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05040"/>
            <a:ext cx="87487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47D9-F6B7-4B6C-974A-431C829FC9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0F04-BEC1-4EE7-84B2-15959D5B9C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04FD-03AE-49A9-B6F8-632FF1B4BA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ensitivity analy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7981-D677-4FF6-9323-339AF0706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an increase of credit premium (interbank 3M PRIBOR rates did not follow changes of the 2W CNB’s policy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ociated with uncertainty, releasing worse and worse economic data (at the beginning of 2009) etc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shows us a trajectory of the interbank rate but does not incorporate policy rate (2W REPO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setting of 2W REPO rate is based on the model consistent trajectory of 3M PRIBOR interbank rate and a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9DC2-D3D5-41C7-BAE0-0C72F3177B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olution outside the model ! necessity of assumption about a premium to recognize required trajectory of the policy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umption that the premium in the Czech economy corresponds to a European Area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pproximation using monthly data: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Cred premt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= 3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mPribor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−(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1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)/3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7723-2D64-46DB-8194-9875DBC907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1751040" y="1773360"/>
            <a:ext cx="585936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7C9E-B94C-49AC-B8CF-C3686481F4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deep and equivalent slumps of export and import volum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Czech economy case: large import intensity of exports (not only value added is traded ..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ecause slumps of volumes implies a fall in re-exports, the decrease of GDP is small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lanation: cut-off of some logistics centres with relatively low added valu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BDA9-D4E8-4B6D-AADC-1D0B39DDBD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s well-suited for this situation and provides a tool for a soluti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ncorporates the openness technology to capture the different (and significant in reality) growth rates of trade volumes with respect to output growth (re-export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C839-5EAE-45C4-A8D2-4D53F74C40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Initial conditions (model filtration): we observed a decrease of the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art of volume slumps can be attributed to a decrease of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n the other hand, the near-term-forecast (NTF) reassesses the nowcast of trade volumes in order to have deeper slump of exports than imports (see the figure in the introduction) -&gt; a decrease of outpu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327C-1197-41C8-BE25-A59F36AC9C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ubsidies in some European countries raise demand for Czech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industry is very significant in the Czech Republic (Skoda, TCPA - Toyota Peugeot Citroen Automobile, Hyundai, many supplier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ignificant mostly for lower class cars (the majority of Czech production) ! we observe an increase of car production, and hence expor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subsidies in 2009, strong uncertainty for 2010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15A7-3385-403C-90A6-8CD9BD7C84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Foreign demand modelled exogenousl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ert judgement for foreign demand: significant increase in 2009, but a decrease in 2010 with the termination of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eople will exploit subsidies before the termination with subsequent fall in demand for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ference paper: Adda, J. and Cooper R. (2000): Balladurette and Juppette: A Discrete Analysis of Scrapping Subsidies. 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The Journal of Political Economy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108:4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6DDA-31C4-455D-A669-9D86BFCFD6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latively high steady-state growth rates before the cri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Uncertainty with the after-crisis growth (in the short- as well in the long-run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4BCB-D547-4459-8817-7E694F260E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keep the same steady-state to have historical filtrations unchang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for the forecast the steady-state growth rates of technologies are decreased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(assumption about the gradual recovery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simulate various scenarios with (lower growth rates in middle-run and long-run, lower wages, negatively shocks to technologies etc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0418-BB98-4A99-B967-BDD18B4990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easurement erro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asonal adjust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 on filt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n foreca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BA7E-A3D2-4779-B7FC-DC73FEB7E2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vs. Fan charts (graphs with confidence intervals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is constructed to capture uncertainty of the produced forecast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also serves the purpose of gaining better intuition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s may differ not only in alternative paths of exogenous variables but also whether and what variables are anticipated or unanticipated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ur decomposition tools are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ecomposition of alternative scenarios into factors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analysis of sources of a difference between two successive forecast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ynamics decomposition of a forecast w.r.t the steady state.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A6F7-9B87-47F3-B340-B6184BD7C2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 and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deman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nergy pric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change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D6E4-4521-4956-BEEF-DE63C2C793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 experi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due to high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due to low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4394-E983-41B1-94CC-5DF39997A9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8C4A-054F-4A93-BCE5-F88E0A3D05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E285-322C-4D1A-B047-6845EBBD95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Rectangl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CD9E-37F6-47A2-A859-0A87D9C82B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foreign dema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D60A-4A1E-4B6C-859A-17B4C5335F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nergy pri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290A-EC12-409C-8D53-EB80526147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xchange rat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2000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E302-6757-40C4-828A-88AAF31F9D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reflect our priors concerning data reliability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brings some problems in distinguishing between structural shock and measurement error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ven in case of ME, a significant portion of information can be used by the model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nother problem is that filtered vars need not match exactly raw data, so then 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we investigate factors for that discrepancy...what are models or data deficienci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084D-1DD7-4D8B-811D-3B32724B5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982800" y="1773360"/>
            <a:ext cx="73962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1461-3A59-4A66-B70E-1A4DC1D5B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asonal adjust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34544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2519-10A8-4F7F-AB1F-2F8B26D5E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ilt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71192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2C2A-ED4F-45CF-8523-B987BA4EAC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orecas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ll forecasts are judgemental forecast (calibration of the model, filtering setup, trajectories of structural shocks), bu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we may impose judgements on the development of a particular variable by endogenizing structural shocks innovations, but.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question is... what shock or set of shocks to choose and whether these shocks should be treated as anticipated or unanticipated...in which period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pecial case represents explaining of a current development of a given variable by future innovations...these must be treated as anticipated by all agents in the econom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olution is not unique, we can choose the set of shocks that is the most likel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AAE8-C42E-4F2E-8F52-B0D87C68CC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ncrease of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trade fall and opennes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r scrapping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After-crisis steady states growth rat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CA00-D8FF-4A22-8576-7FB087319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13Z</dcterms:modified>
  <cp:revision>203</cp:revision>
  <dc:subject/>
  <dc:title>Český název přednášky/akce</dc:title>
</cp:coreProperties>
</file>