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19A-E251-41AC-894A-6DD50725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60A-BAC6-4906-A769-650AB8FD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62A-474E-447C-817C-D14E4A83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786-7D37-419B-9A12-17DA4476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ACD-92AF-4EBF-A66A-8A113B06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60B-ABE7-4D7A-990D-3B23527D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20B-6A2B-4E13-9036-4BDA3273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4B8-DB44-419B-A735-0C2D41BF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5F4-FD67-44D0-941F-6C818A34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681-F98A-4053-B840-4AC7E214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CEA-9E9B-42EF-BE40-05FDA594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959-F83E-466D-942D-8C451810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3925-1F7C-4226-AD51-F4C147F4B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eter.toth@cnb.cz" TargetMode="External"/><Relationship Id="rId2" Type="http://schemas.openxmlformats.org/officeDocument/2006/relationships/hyperlink" Target="mailto:peter.toth@cnb.cz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ar-Term Forecasting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068280"/>
            <a:ext cx="835164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ter Tó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croeconomic Forecasting Div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zech Nation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4653000"/>
            <a:ext cx="388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ter.tot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cnb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20 22441 37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03280" y="545940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 (HTK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2565360"/>
            <a:ext cx="334800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 (HTK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 to find any other robust relationship between investment and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1280" y="2687760"/>
            <a:ext cx="550872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(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6000" y="1773360"/>
            <a:ext cx="3348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ort (IM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um of C+G (SD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 (HT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ecasts of the C, G, I and EX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280" y="2573280"/>
            <a:ext cx="53643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(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1640" y="2565360"/>
            <a:ext cx="334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r open economy, export is most important for the demand of imported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ffects of investment and consumption (C+G) ar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of the variation is cut off by the HP smoother (effects don’t add up to the blue 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500724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3148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CPI forecast and an AR(1) term, seasonally adjusted 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CPI forecast, wages in the non-business sector (colleague’s forecast) and an AR(1) term, seasonally adjusted 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forecasts of import deflator, CPI and AR(1) term, seasonally adjusted y-o-y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X and 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 by colleague (D. Havrlant). Linked to the forecasts of import and export price index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P defl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forecasts of CPI, X and M deflators, AR(1) term, seasonally adjusted y-o-y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 of the GDP forec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eighted average of year-on-year growth rates of GDP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: nominal weights of components in the same period of the preceding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-post smoothening of the GDP forecast by adding expert judgement into some components, mainly investment (uncertainty) or import (has big w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reflect on the GDP forecast of benchmark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TF of GDP at the CNB: users, goals,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dels within the cor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P + exp. components forecast 1Q ahead is treated “as history” in the medium-term model (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Q-s ahead (1-2 years) serves as a benchmark for the medium-term model (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cast precision a few (1-3) quarters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smooth components forecast in q-o-q growths (required by g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-telling based on expenditur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benchmark for g3 1-2 years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equation econometric models for I, X, M + all deflators (C, I, G, X,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ly interpolation of G based on a nominal annual forecast (made at another department) + quarterly forecast of the def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 forecast of private consumption with disposable income broken down into components + smoothing by the savings rate and some components of disp.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-term models of GDP using monthly leading indicators: principal components, dynamic factor models, bridge equations, and averaged bivariate V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892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hold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mpose disposable income (DI) to components: operating surplus, wages and salaries, social contributions, transfers, tax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nents are forecast by our colleagues (quarterly or annually), others are jud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n idea of the new consumption forecast based on where the labor market and the fiscal forecast are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to account the assumptions on DI components, smoothen consumption forecast by the savings rate and some DI components that are highly un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8000" y="2424240"/>
            <a:ext cx="87138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031840"/>
            <a:ext cx="8218440" cy="44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Consumption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annual fiscal forecast from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olate nominal G into quarters by matching the annual sums (levels) in the fiscal forecast (quadratic interpolation from annual to quarterly data in E-Vi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the quarterly G deflator and deflate the forecast of nominal G to get real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(E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2643120"/>
            <a:ext cx="5257800" cy="3449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96000" y="1268280"/>
            <a:ext cx="3348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zone GDP (HDP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 exchange rate deflated by relative PPI-s (RERP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mmy: period of EU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DP_EU and RER_PPI  are forecast by colleag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model is quite robust to new observation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(E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6000" y="2133720"/>
            <a:ext cx="3348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zone GDP is mo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of real exchange rate is typically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e significant persistence (AR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e a lot of unexplained variation during the recession (periods ’08-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 variation is cut off by the HP smoother (effects don’t add up to the black 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53640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0:16:40Z</dcterms:created>
  <dc:creator>u03999</dc:creator>
  <dc:description/>
  <dc:language>en-US</dc:language>
  <cp:lastModifiedBy>u04267</cp:lastModifiedBy>
  <dcterms:modified xsi:type="dcterms:W3CDTF">2012-01-13T08:10:46Z</dcterms:modified>
  <cp:revision>8</cp:revision>
  <dc:subject/>
  <dc:title>Near-Term Forecasting of GDP at the CNB</dc:title>
</cp:coreProperties>
</file>