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292F-27D8-452B-8968-88D83A3BF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DF79-182F-40E1-9562-38FEC7EE4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A61B-11FF-4C04-ACAE-55870B1EB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458D-F185-45BE-9CA0-A7790E886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153F-89B6-42AB-A317-77857DB79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A7D5-132D-4A2D-93DB-9C97A2DCB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8EA1-7A8C-45BA-9C5C-706A185B3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657A-C683-4957-B5D0-5394430B2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A391-5B58-4461-8EDF-D6F5E2E7B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FF3A-F55B-4403-83B3-F147AAACF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E86B-C9EB-438B-A1B0-003A00A3C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EF2B-3436-47C4-B791-4DF7D67E8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211D-39CD-4392-94F0-A7D8AAF98EF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9.xml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orecasting and Policy Analysi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System in the Czech National Ba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"/>
              </a:rPr>
              <a:t>Tibor Hlédik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4221000"/>
            <a:ext cx="4464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Masaryk University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Brno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27 September</a:t>
            </a:r>
            <a:r>
              <a:rPr b="0" lang="en-US" sz="2000" spc="-1" strike="noStrike">
                <a:solidFill>
                  <a:srgbClr val="5f9bc8"/>
                </a:solidFill>
                <a:latin typeface="Arial"/>
              </a:rPr>
              <a:t>, 20</a:t>
            </a: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989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Near-term forecast (NTF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del (g3) mechanisms are valid for medium-term horiz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nowcast and 1Q ahead forecast are based on a wide range of high frequency inform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hort-run idiosyncratic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igh degree of detail and structural insigh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nomic intuition based on accumulated expert knowledg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n important role of empirical evidence, statistical data and econometric metho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rreplaceable task: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TF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enchmark for the model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 (Kalma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filter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based forecast d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mposition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87700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436572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4094-DDA6-4C7A-BD40-BE779E18B7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Departmental forecasting team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y a separate forecasting team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orecast is made by the staff not by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clusivity and collective view are essentia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ible for a conduct of the forecasting proces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pecifies deadlines and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poses with technical background with a seamless databas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- and prediction syste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F5DC-97A1-4EF4-8BA5-776D1EE8E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Composition of the forecasting team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 (FT)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H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ad of the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, representative of the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 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croeconomic Forecasting Division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the near-term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2 representatives of Monetary Policy and Strategy Division (Editor + Fiscal expert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External Economic Relations Divis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1 model operator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otentially some other members of the department (training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FC8D-698F-4955-B769-C6989567F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23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proces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Departmental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f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recasting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eam builds up a macroeconomic forecast as a main support for MP decision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Provides an unconditional medium term forecast using the model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NTF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and own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Incorporating out-of-model information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(fiscal policy, indirect taxes, structural insight etc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The main goal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 a macro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conomic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tory consistent with economic theory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empirical evidence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an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608200" y="21859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4A09-312C-4D38-BDF9-2C426780EC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ssues meeting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1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forecasting techniques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2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300"/>
              </a:spcBef>
              <a:buClr>
                <a:srgbClr val="4086b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on initial cond. and IT fulfillment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: first version of the forecast + alter.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the final approval of the forecas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4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rafting of the Inflation Repor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5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Official MP BB meeting </a:t>
            </a:r>
            <a:r>
              <a:rPr b="1" lang="en-US" sz="2400" spc="-1" strike="noStrike">
                <a:solidFill>
                  <a:srgbClr val="003f7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 MP decision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6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74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Post mortem meet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cs-CZ" sz="2500" spc="-1" strike="noStrike">
                <a:solidFill>
                  <a:srgbClr val="ff3300"/>
                </a:solidFill>
                <a:latin typeface="Arial Narrow"/>
              </a:rPr>
              <a:t>W7</a:t>
            </a:r>
            <a:endParaRPr b="0" lang="en-US" sz="25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6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58136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082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213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086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844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445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54F5-0871-4896-8FBD-1925CBA7A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Issue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s</a:t>
            </a: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 Meeting: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Collective and intuitive view among the staff where the economy is and what the current economic issue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Designed to address a wide range of quest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staff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C42D-70C8-4068-BBEF-F395DEB84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Forecasting Techniques: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operties of main forecasting tools are reintroduced and re-examin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pportunity to introduce changes and assess their significan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freshes the staff´s and forecasting team´s familiarity with the techniqu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 (change in the model calibration, exte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on of the model, etc.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7E88-2395-4BF8-8451-463E271CD4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Initial Conditions and Inflation Forecast Fulfill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tructural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ut-of-model information (example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s there any significant change in underlying sectoral productivity trends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ternal assumptions (CF) and their expected impact on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itial exchange rate scenario for NTF - mix of model consistent UIP and order flow forecast (BoP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flation forecast fulfillm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on “Initial Conditions” with the Bank Boar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349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FD9F-4FE7-475E-B2C5-F6A3BD4A1F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989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1</a:t>
            </a: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.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TF is already incorporated into the model forecast (residual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first draft of the forecast introduc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e of management and expert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oom for modification or tuning the message of the baseline scenario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cussing the motivation for alternativ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with the Bank Board on alternative scenarios: which risks are to be quantifi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7CCE-8B4C-4B74-85E1-0DB0813FF8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Final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pproval of the baseline scenario of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inal consistency check and fin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un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eparing alternatives and MP experiment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244A-09A7-41F8-AA08-740994A443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motivation for FPAS and main objectiv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elements of the system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forecasting process and its organiz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Conclu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7787-3609-4053-B41D-4D9D44190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Post Mortem Meeting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Opportunity to systematically asses what went wrong and what should be improved (technically vs. in terms of organization of the proces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department is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fficient tool to transform fresh emotions into immediate measures for the next tim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9699-5FD4-413C-9180-3A9BAAB44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186840"/>
            <a:ext cx="64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855B-0CD2-4583-ACA2-35F0A47F46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ructured debate about risks and policy issues enabled due to common languag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orecast with active MP (includes rates trajectory consistent with forecast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volvement of MSD resources but manageable discussion: F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onsistently incorporate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time pressures well tackled due to automatis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ory-centered discus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igh level of transparenc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C3D8-05BB-40C7-9A81-A1EC3CB78A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2923920"/>
            <a:ext cx="79898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Tibor.Hledik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D455-10D9-46D5-BC0D-A6BD09133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Backup slid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6BAE-BF06-4656-BD0F-233477993E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duction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Rectangl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A60A-70A1-4AE6-90EB-D978BC6DD5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61240" y="64198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ice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8583-1361-4CF0-A3B5-141D26570B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66BE-BBBE-4447-97B8-D57A47EB5B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60280"/>
            <a:ext cx="64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700280"/>
            <a:ext cx="42840" cy="4103640"/>
          </a:xfrm>
          <a:prstGeom prst="line">
            <a:avLst/>
          </a:prstGeom>
          <a:ln w="38160">
            <a:solidFill>
              <a:srgbClr val="003f7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5803920"/>
            <a:ext cx="7924680" cy="0"/>
          </a:xfrm>
          <a:prstGeom prst="line">
            <a:avLst/>
          </a:prstGeom>
          <a:ln w="38160">
            <a:solidFill>
              <a:srgbClr val="003f7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5920" y="2205000"/>
            <a:ext cx="3024360" cy="360036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5920" y="3429000"/>
            <a:ext cx="7923240" cy="107964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6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10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00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2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068640"/>
            <a:ext cx="3960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3000" y="3068640"/>
            <a:ext cx="3348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98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1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3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596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2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5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9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4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3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6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5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7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10720" y="439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1360" y="335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9520" y="4581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Times New Roman"/>
              </a:rPr>
              <a:t>NTF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925720"/>
            <a:ext cx="3810240" cy="304920"/>
          </a:xfrm>
          <a:prstGeom prst="leftRightArrow">
            <a:avLst>
              <a:gd name="adj1" fmla="val 50000"/>
              <a:gd name="adj2" fmla="val 248760"/>
            </a:avLst>
          </a:prstGeom>
          <a:solidFill>
            <a:srgbClr val="cc0000"/>
          </a:solidFill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4040" y="23749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Integration process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580536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205000"/>
            <a:ext cx="792000" cy="93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3000" y="3933720"/>
            <a:ext cx="345600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028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120" y="186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77360" y="357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cc0000"/>
                </a:solidFill>
                <a:uFillTx/>
                <a:latin typeface="Times New Roman"/>
              </a:rPr>
              <a:t>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557360"/>
            <a:ext cx="10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p</a:t>
            </a:r>
            <a:r>
              <a:rPr b="1" lang="en-US" sz="1600" spc="-1" strike="noStrike">
                <a:solidFill>
                  <a:srgbClr val="003f7c"/>
                </a:solidFill>
                <a:latin typeface="Arial Narrow"/>
              </a:rPr>
              <a:t>rojection accuracy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38C1-1B62-4066-BA44-2DF4EA6A0C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5720" y="461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DDA7-7780-4F55-9E1C-3958124504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PAS is most importantly a </a:t>
            </a:r>
            <a:r>
              <a:rPr b="0" i="1" lang="cs-CZ" sz="2400" spc="-1" strike="noStrike">
                <a:solidFill>
                  <a:srgbClr val="003f7c"/>
                </a:solidFill>
                <a:latin typeface="Arial Narrow"/>
              </a:rPr>
              <a:t>system</a:t>
            </a: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!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ts main goals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ll know-how at department level should be channeled into the analysis and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lear division of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ffective execution of specialized tasks but…emphasis on high quality synthesi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Good coordination of mutually linked activ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ransforming the technical results into a digestible 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tight dead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B11A-819E-432B-BE04-46042600C0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sitivity to foreign demand assump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4072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9C57-0C71-41BB-8DF6-4AF85BC4C9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Endogenous interest-  and exchange r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3M PRIBOR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5960" y="1773360"/>
            <a:ext cx="3919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Exchange rate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067280" cy="410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41E4-1A05-40F0-839E-7024CE0379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 – initial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1840" cy="4535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A2C3-FC01-4CAF-822D-F4D0E2AEB4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ecomposition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175A-9AE0-48E1-9E1C-4B58C5E387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structure of nominal disposable in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C357-FA0C-4E5F-8FC1-2C9CBCEE433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585D-D16C-4254-9482-B29D205AE3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4072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404B-0E52-4240-85E9-9E4C162514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556080" y="-2666880"/>
            <a:ext cx="16256160" cy="1219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0BC1-34DB-4B4D-940C-4DFFBCFB80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532720" y="616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735A-89CB-4571-BC66-2FE71BC280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77662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e difference between forecasting in a CB compared, for instance, with the academia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dividual vs. Team work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wn views vs. Communication within the forecasting team and with policy maker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nap-shot  vs. Regular task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dium-term research vs. Real-time pressur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o memory” vs. Last forecast relative to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actual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on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road picture vs. Detail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echnical language vs. Macro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conomic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arget groups for “external” communication are differ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8275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4676-59AD-4484-A44D-E46A3AF3A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dium-term approac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ctive MP and unconditional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sight into decision making of economic agents and monetary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process organized around a relatively simple (QMP) resp. less simple (g3) core structural model: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ow important it is to have a state-of-the art core model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ommunication aspects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epartmental forecasting team: responsible for the successful conduct of the process and co-operation of all division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A83E-8BD9-455E-B50F-2C51233101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motivation for FPAS and main o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bjectives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have consistent and clear methodology to derive a consistent macroeconomic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shape inflation expectations and behave systematically in line with the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communicate the basic massage of the forecast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ere the economy is and what the current trend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i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ikely evolution in the futu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implicit ris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underlying pressures in terms of MP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4200-911E-47A4-9359-C99F84A36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372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NB relied on near-term methods when the IT introduc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QPM introduced into forecasting in mid-2002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witch from constant IRs assumption to endogenous IR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uccessful switch to ‘g3’ in mid-2008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tegration with near-term 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nowcasting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robustness check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expert judgment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79F6-4543-4C40-AADE-8014FB9EBD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ultisectoral SOE model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No ad-hoc detrend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explicit treatment of sectoral trend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BGP with constant nominal expenditure shares and trends in relative pric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ascade of price and wage rigiditi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frictions (habit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formation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new vs. old capital, ..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erfect exchange rate pass-throug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ort intensity of exports, increase in trade opennes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gulated prices included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A081-B64C-4AE4-8FDD-333F02AB69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 (cont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efinition of the key features of the econom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structure of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ck-flow equilibriu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alibr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Kalman filtering, identification of structural shoc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model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generates an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interest rates trajectory consistent with the overall projec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ome other use: alternative scenarios, MP experiments, stochastic simulations of shocks etc.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478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7242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6240" y="54212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9765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3FA8-EDC8-4B11-887A-D8176C5977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42Z</dcterms:modified>
  <cp:revision>123</cp:revision>
  <dc:subject/>
  <dc:title>Český název přednášky/akce</dc:title>
</cp:coreProperties>
</file>