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244-6980-4C13-BBD5-7A378D3A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1B5-C70C-4786-9646-0428D91F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2A9-8B9E-4E39-95ED-A3EE9D1C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087-D436-4E76-A550-0D81B7D4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BC2-E283-434B-9200-FD8E63EC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CD6-7E71-4DFE-87DE-20F8430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059-05F2-456D-97EC-EBCEB054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B43-FB28-495D-9D54-FF52BCCD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5A9-B3C5-4421-A637-104EBF8C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9A0-F1CB-469E-8861-0BDB6A24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73B-4221-4159-BCE1-35BB080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362-3335-4170-8984-499CD19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CBE-5D5C-46E5-9EF2-CC388EFC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9280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rt-term Forecasting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zech Quarterly GDP Using Monthl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. Arnoštová, D. Havrlant, L. Růžička and P.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static factors by principal components, number of factors based on Bai and Ng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the parameters of dyn. factors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umber of dyn. factors based on Bai and 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parameters from the previous step, we estimate  dynamic factors and idiosyncratic terms by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exible assumptions on the idiosyncratic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gregate forecasted factors to quarterly freq.:    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gress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 quarterly data; h is the forecas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. &amp;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yn.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idging with facto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4000" y="2259000"/>
                <a:ext cx="266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9560" y="3152880"/>
                <a:ext cx="300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546408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203720"/>
            <a:ext cx="3168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indicators are aggregated to quarter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lancing by EM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FM is estimated on the combined database of quarterly indicators and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. no. of dyn. and stat. factors fixed, actual numbers selected by information criteria of Bai and 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is derived directly from the factor model as the forecast of comm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a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DF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592360" cy="6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65640"/>
            <a:ext cx="251928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5452920"/>
            <a:ext cx="3456000" cy="78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23200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indicators (98 ser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y, construction and services (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trade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data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dicators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confidence indicators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leading indicators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electricity consumptio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stment of GDP and monthl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adjustment, quarterly grow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monthly indicators further differenced to achieve statio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3044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ator pre-selection – our rule of thu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nly for large-scale models (5.-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focus on indicators with most relevant information for GDP when estimating fa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if abs(corr.) with GDP growth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bs(corr.) between any two indicators is &gt; 0.9, only the one more correlated with GDP i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full set of 98 only 27 series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reduced forecast errors for models 5.,7.,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197000"/>
          <a:ext cx="74898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197000"/>
                    <a:ext cx="74898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aluation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RMSE overall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RM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 ahead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09444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rel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calculate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-à-vis th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moving ave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982960"/>
            <a:ext cx="7416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F of GDP by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8281800" cy="365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661000"/>
            <a:ext cx="82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s: model ranking based on RMSE, out of the 7 main models + 4 additional models listed in the tabl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 rank, for example: = rank of PC – rank of PC ful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ebold-Mariano Test Statistic for the H0 of Equal Squared Forecast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19200"/>
            <a:ext cx="84978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ur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9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5940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T, HU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59280" y="4732200"/>
            <a:ext cx="5976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9680" y="1557360"/>
            <a:ext cx="8913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Z data, most models are more accurate than the na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erforms best overall, thus it is a good idea to condition the forecast on “many” but relevant monthly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forecast (NTF) did at least as well as the best model (PC) 1Q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did quite well overall (PC and DFM better than VAR and B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improve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if the indicator set was reduced to the most relevant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errors of PC and PC-Q, timeliness of inform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model rankings) are not quite generalizable acros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2493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 of GDP –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cca. 10 weeks after the end of the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monthly indicators are available (~7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early, i.e. end of a month or just a few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ls recently available in the literature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 with mixed frequency data and unbalanc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he forecast on a large se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forecast errors as opposed to univari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rehensive study of recent short-term models for Czech GDP is missing. It is useful for forecasting at CN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ollow the ECB study Barhoumi etal. (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F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d bivariate VAR-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M ala Forni etal. 200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s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of last 4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-Term Forecasting (NTF)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= smoothed sum of expendit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henceforth denoted 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variate 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 i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, i = 1..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stimate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(2,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237200"/>
            <a:ext cx="3816360" cy="106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3598920"/>
                <a:ext cx="2305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"/>
                        <m:endChr m:val="}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23344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200" y="5302080"/>
            <a:ext cx="273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 (B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95892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02436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4946760"/>
            <a:ext cx="3024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sta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greg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ing with facto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6720" y="5186520"/>
                <a:ext cx="4680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656160"/>
            <a:ext cx="2738520" cy="114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908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lternative princip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-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PC in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s estimated on the quarterly aggre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atic factors is selected by the Kaiser criterion (PC eigenvalues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quarters of monthly indicators are simply o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51:04Z</dcterms:created>
  <dc:creator>u03999</dc:creator>
  <dc:description/>
  <dc:language>en-US</dc:language>
  <cp:lastModifiedBy>u04267</cp:lastModifiedBy>
  <dcterms:modified xsi:type="dcterms:W3CDTF">2012-01-13T08:09:19Z</dcterms:modified>
  <cp:revision>266</cp:revision>
  <dc:subject/>
  <dc:title>Near-term forecasts of GDP using dynamic factor models</dc:title>
</cp:coreProperties>
</file>