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wmf" ContentType="image/x-wmf"/>
  <Override PartName="/ppt/media/image13.wmf" ContentType="image/x-wmf"/>
  <Override PartName="/ppt/media/image5.png" ContentType="image/png"/>
  <Override PartName="/ppt/media/image18.jpeg" ContentType="image/jpeg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D4CE-6741-43C7-B181-C507902E4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EBEB-5E78-4F98-B64F-FD498FB04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3910-9609-457F-B017-7DF8D570B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9A09-1818-4FC1-86E2-941EDCE16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7EA90-834C-462F-B7CC-B072E180A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C372E-36C1-4C0C-8F33-1BFEA93FE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2F72-E340-43DD-8D48-AF235525C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6C6D-D0A8-4CB3-A292-887A1069E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BB8B-B80F-49ED-AA5C-1D15CCE3C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F3F10-17F2-40CA-B39F-50581374F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197B-7AE2-45D0-885F-0A5A8E33E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828F-DE52-417D-897D-84DB6ECEB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3f7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31F3-1498-4796-BE44-D8CCA554B7BC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2920" y="193320"/>
            <a:ext cx="6049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" Target="slide9.xml"/><Relationship Id="rId4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72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Forecasting and Policy Analysis 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System in the Czech National Ban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"/>
          <p:cNvSpPr/>
          <p:nvPr/>
        </p:nvSpPr>
        <p:spPr>
          <a:xfrm>
            <a:off x="1258920" y="3213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"/>
              </a:rPr>
              <a:t>Tibor Hlédik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4221000"/>
            <a:ext cx="4464000" cy="22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Masaryk University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Brno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27 September</a:t>
            </a:r>
            <a:r>
              <a:rPr b="0" lang="en-US" sz="2000" spc="-1" strike="noStrike">
                <a:solidFill>
                  <a:srgbClr val="5f9bc8"/>
                </a:solidFill>
                <a:latin typeface="Arial"/>
              </a:rPr>
              <a:t>, 20</a:t>
            </a: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989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"/>
              </a:rPr>
              <a:t>Macroeconomic Forecasting Division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"/>
              </a:rPr>
              <a:t>Monetary and Statistics Department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989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Near-term forecast (NTF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odel (g3) mechanisms are valid for medium-term horiz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nowcast and 1Q ahead forecast are based on a wide range of high frequency informati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dentification of short-run idiosyncratic shocks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High degree of detail and structural insigh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conomic intuition based on accumulated expert knowledge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An important role of empirical evidence, statistical data and econometric method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rreplaceable task: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NTF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benchmark for the model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ample (Kalman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filter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based forecast d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composition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7596360" y="587700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44000" y="436572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0764-CCA9-4DD9-8F6E-B22AAB3E16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v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Departmental forecasting team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y a separate forecasting team?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Forecast is made by the staff not by the mod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clusivity and collective view are essentia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esponsible for a conduct of the forecasting proces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pecifies deadlines and responsibiliti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Disposes with technical background with a seamless database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- and prediction system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E850-3276-4453-9961-C31DEDC3F4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Composition of the forecasting team</a:t>
            </a:r>
            <a:r>
              <a:rPr b="0" lang="cs-CZ" sz="2400" spc="-1" strike="noStrike" u="sng">
                <a:solidFill>
                  <a:srgbClr val="003f7c"/>
                </a:solidFill>
                <a:uFillTx/>
                <a:latin typeface="Arial Narrow"/>
              </a:rPr>
              <a:t> (FT)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H</a:t>
            </a: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ad of the forecasting team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, representative of the</a:t>
            </a: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 M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acroeconomic Forecasting Division (MAFD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Representative of the near-term forecasting team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(MAFD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2 representatives of Monetary Policy and Strategy Division (Editor + Fiscal expert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Representative of External Economic Relations Division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1 model operator (MAFD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Potentially some other members of the department (training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v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B327-6CAB-4580-B64F-9E4E5C6875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6230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The process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Departmental 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f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orecasting 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t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eam builds up a macroeconomic forecast as a main support for MP decision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Provides an unconditional medium term forecast using the model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, 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NTF 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and own judg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Incorporating out-of-model information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 (fiscal policy, indirect taxes, structural insight etc.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The main goal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: a macro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economic 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tory consistent with economic theory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,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 empirical evidence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 and judg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2608200" y="21859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7951-01F1-45DE-B0F2-DBF7CEF6D4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84428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ssues meeting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1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eeting on forecasting techniques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2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300"/>
              </a:spcBef>
              <a:buClr>
                <a:srgbClr val="4086b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Meeting with the BB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on initial cond. and IT fulfillment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3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Meeting with the BB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: first version of the forecast + alter.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eeting on the final approval of the forecast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4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Drafting of the Inflation Report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5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Official MP BB meeting </a:t>
            </a:r>
            <a:r>
              <a:rPr b="1" lang="en-US" sz="2400" spc="-1" strike="noStrike">
                <a:solidFill>
                  <a:srgbClr val="003f7c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 MP decision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6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74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Post mortem meeting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cs-CZ" sz="2500" spc="-1" strike="noStrike">
                <a:solidFill>
                  <a:srgbClr val="ff3300"/>
                </a:solidFill>
                <a:latin typeface="Arial Narrow"/>
              </a:rPr>
              <a:t>W7</a:t>
            </a:r>
            <a:endParaRPr b="0" lang="en-US" sz="25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697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458136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227664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270828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21300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00868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07664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84464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544500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7712-E0B7-4E2B-87EA-21290EE2DE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989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Issue</a:t>
            </a:r>
            <a:r>
              <a:rPr b="0" lang="cs-CZ" sz="2400" spc="-1" strike="noStrike" u="sng">
                <a:solidFill>
                  <a:srgbClr val="003f7c"/>
                </a:solidFill>
                <a:uFillTx/>
                <a:latin typeface="Arial Narrow"/>
              </a:rPr>
              <a:t>s</a:t>
            </a: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 Meeting: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Collective and intuitive view among the staff where the economy is and what the current economic issues ar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Designed to address a wide range of question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Broad participation of the staff encourag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xampl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3728-FAE0-4BF5-B015-CDEBC45D90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9898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Meeting on Forecasting Techniques: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Properties of main forecasting tools are reintroduced and re-examin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Opportunity to introduce changes and assess their significanc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efreshes the staff´s and forecasting team´s familiarity with the techniqu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amples (change in the model calibration, exten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s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on of the model, etc.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8A802-4E70-49E4-A8DF-0597B22DD8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Meeting on Initial Conditions and Inflation Forecast Fulfill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dentification of structural shocks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Out-of-model information (examples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s there any significant change in underlying sectoral productivity trends?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ternal assumptions (CF) and their expected impact on the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itial exchange rate scenario for NTF - mix of model consistent UIP and order flow forecast (BoP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flation forecast fulfillmen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eting on “Initial Conditions” with the Bank Boar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ampl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234936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6056-FA03-4C4A-966A-38E39D6058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989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1</a:t>
            </a: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. Forecast Round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NTF is already incorporated into the model forecast (residuals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first draft of the forecast introduc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esponse of management and experts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oom for modification or tuning the message of the baseline scenario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Discussing the motivation for alternativ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eting with the Bank Board on alternative scenarios: which risks are to be quantifi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5BAA4-6030-4129-B034-8827DD30AA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i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989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Final Forecast Round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Approval of the baseline scenario of the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Final consistency check and fine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uning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Preparing alternatives and MP experiment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8DC1-14FB-4A58-9CDB-FB8C72F82E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9898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motivation for FPAS and main objective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elements of the system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forecasting process and its organizat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Conclus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E53BA-273A-4BEC-9A6D-3A454B6DFD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ii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9898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Post Mortem Meeting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Opportunity to systematically asses what went wrong and what should be improved (technically vs. in terms of organization of the process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Broad participation of the department is encourag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fficient tool to transform fresh emotions into immediate measures for the next tim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xampl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0F40-2B5D-41B3-A691-038764DA6F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68360" y="186840"/>
            <a:ext cx="6407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2" name="Rectangle 3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1CA0-DCF1-49D4-ABD4-FF94E7E982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989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tructured debate about risks and policy issues enabled due to common language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Forecast with active MP (includes rates trajectory consistent with forecast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nvolvement of MSD resources but manageable discussion: F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Consistently incorporated judg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al time pressures well tackled due to automatisat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tory-centered discuss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High level of transparency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C297-C981-4296-8662-A2CD912434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2923920"/>
            <a:ext cx="798984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ank you for your attention !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185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185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Tibor.Hledik</a:t>
            </a: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@cnb.cz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BEDF-7B8C-4A9E-9555-C6AD9DAD21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Backup slid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A144-2403-428C-89FF-0678E46E91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roduction structure – g3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9" name="Rectangle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640720" cy="439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AE2E-CE8E-43AF-B88B-B6414D26A6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351640" cy="4392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661240" y="641988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rice structure – g3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0259-41A8-461F-9685-55D6ABA4C9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Identification of structural shock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5" name="Rectangle 3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62EC-720D-4EB4-BAED-4C90748951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00000" y="260280"/>
            <a:ext cx="648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recasting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ocess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(i)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700280"/>
            <a:ext cx="42840" cy="4103640"/>
          </a:xfrm>
          <a:prstGeom prst="line">
            <a:avLst/>
          </a:prstGeom>
          <a:ln w="38160">
            <a:solidFill>
              <a:srgbClr val="003f7c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14480" y="5803920"/>
            <a:ext cx="7924680" cy="0"/>
          </a:xfrm>
          <a:prstGeom prst="line">
            <a:avLst/>
          </a:prstGeom>
          <a:ln w="38160">
            <a:solidFill>
              <a:srgbClr val="003f7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15920" y="2205000"/>
            <a:ext cx="3024360" cy="3600360"/>
          </a:xfrm>
          <a:prstGeom prst="line">
            <a:avLst/>
          </a:prstGeom>
          <a:ln w="381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15920" y="3429000"/>
            <a:ext cx="7923240" cy="1079640"/>
          </a:xfrm>
          <a:prstGeom prst="line">
            <a:avLst/>
          </a:prstGeom>
          <a:ln w="381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76240" y="5803920"/>
            <a:ext cx="0" cy="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76240" y="5803920"/>
            <a:ext cx="0" cy="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7624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108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0048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6224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36640" y="3068640"/>
            <a:ext cx="39600" cy="2735280"/>
          </a:xfrm>
          <a:prstGeom prst="line">
            <a:avLst/>
          </a:prstGeom>
          <a:ln w="9360">
            <a:solidFill>
              <a:srgbClr val="003f7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2436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8648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6264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53000" y="3068640"/>
            <a:ext cx="33480" cy="2735280"/>
          </a:xfrm>
          <a:prstGeom prst="line">
            <a:avLst/>
          </a:prstGeom>
          <a:ln w="9360">
            <a:solidFill>
              <a:srgbClr val="003f7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4980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1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9772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3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5964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2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2160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5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5984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4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8372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6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4584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7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10720" y="4397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81360" y="3357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Times New Roman"/>
              </a:rPr>
              <a:t>g3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39520" y="45813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Times New Roman"/>
              </a:rPr>
              <a:t>NTF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36640" y="2925720"/>
            <a:ext cx="3810240" cy="304920"/>
          </a:xfrm>
          <a:prstGeom prst="leftRightArrow">
            <a:avLst>
              <a:gd name="adj1" fmla="val 50000"/>
              <a:gd name="adj2" fmla="val 248760"/>
            </a:avLst>
          </a:prstGeom>
          <a:solidFill>
            <a:srgbClr val="cc0000"/>
          </a:solidFill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34040" y="237492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imes New Roman"/>
              </a:rPr>
              <a:t>Integration process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02520" y="5805360"/>
            <a:ext cx="5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f7c"/>
                </a:solidFill>
                <a:latin typeface="Arial Narrow"/>
              </a:rPr>
              <a:t>time</a:t>
            </a:r>
            <a:endParaRPr b="0" lang="en-US" sz="16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2205000"/>
            <a:ext cx="792000" cy="9349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53000" y="3933720"/>
            <a:ext cx="345600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40280" y="371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20120" y="18684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</a:rPr>
              <a:t>Integrated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77360" y="3573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cc0000"/>
                </a:solidFill>
                <a:uFillTx/>
                <a:latin typeface="Times New Roman"/>
              </a:rPr>
              <a:t>Forecast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557360"/>
            <a:ext cx="104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f7c"/>
                </a:solidFill>
                <a:latin typeface="Arial Narrow"/>
              </a:rPr>
              <a:t>p</a:t>
            </a:r>
            <a:r>
              <a:rPr b="1" lang="en-US" sz="1600" spc="-1" strike="noStrike">
                <a:solidFill>
                  <a:srgbClr val="003f7c"/>
                </a:solidFill>
                <a:latin typeface="Arial Narrow"/>
              </a:rPr>
              <a:t>rojection accuracy</a:t>
            </a:r>
            <a:endParaRPr b="0" lang="en-US" sz="16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BF8C-38FF-47C1-94D0-F14F8A3D5D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55640" y="33336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recasting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ocess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(ii)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05720" y="4613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39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7885080" y="6453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9144000" cy="466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0170-93D7-4A1C-B3D1-ADDBBA8AFF0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2060640"/>
            <a:ext cx="79185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FPAS is most importantly a </a:t>
            </a:r>
            <a:r>
              <a:rPr b="0" i="1" lang="cs-CZ" sz="2400" spc="-1" strike="noStrike">
                <a:solidFill>
                  <a:srgbClr val="003f7c"/>
                </a:solidFill>
                <a:latin typeface="Arial Narrow"/>
              </a:rPr>
              <a:t>system</a:t>
            </a:r>
            <a:r>
              <a:rPr b="0" i="1" lang="en-US" sz="2400" spc="-1" strike="noStrike">
                <a:solidFill>
                  <a:srgbClr val="003f7c"/>
                </a:solidFill>
                <a:latin typeface="Arial Narrow"/>
              </a:rPr>
              <a:t>!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ts main goals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All know-how at department level should be channeled into the analysis and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Clear division of responsibiliti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ffective execution of specialized tasks but…emphasis on high quality synthesi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Good coordination of mutually linked activiti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ransforming the technical results into a digestible story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eting tight deadlin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motivation for FPAS and main o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bjectives (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9B08-EA5A-4BBC-8560-399606BEA8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nsitivity to foreign demand assump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8" name="Rectangl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07280" cy="4535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740720" y="6381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4382-BA93-4663-8A48-813AD02D14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Endogenous interest-  and exchange rat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3917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"/>
              </a:rPr>
              <a:t>3M PRIBOR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5960" y="1773360"/>
            <a:ext cx="39193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"/>
              </a:rPr>
              <a:t>Exchange rate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4067280" cy="4103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716360" y="2421000"/>
            <a:ext cx="4032360" cy="388764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B6A9-1926-44F8-B17C-AFBCF80F3F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Identification of structural shocks – initial condi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7" name="Rectangle 3" descr=""/>
          <p:cNvPicPr/>
          <p:nvPr/>
        </p:nvPicPr>
        <p:blipFill>
          <a:blip r:embed="rId1"/>
          <a:stretch/>
        </p:blipFill>
        <p:spPr>
          <a:xfrm>
            <a:off x="0" y="1773360"/>
            <a:ext cx="8421840" cy="4535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BEDF-2536-41F0-BA6E-4C61B0F3C5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Decomposition too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211" name="Rectangle 3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6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B8DB7-42DF-42D0-ADD6-1F9E6D9AC6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The structure of nominal disposable inco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3" name="Rectangl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56944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6E1F-DB8A-4D23-B543-6CF5C5A117C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The analysis of 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minal wage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growth (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-9360" y="1484280"/>
            <a:ext cx="915336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8EE5-4184-4F54-88CE-4E74FAAA854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The analysis of 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minal wage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growth (i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53360" cy="4686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740720" y="630864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37A5-EE00-4B4F-82C5-83CB4DA0E9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4360" y="3265200"/>
            <a:ext cx="7989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1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27152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34928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237960"/>
            <a:ext cx="1440" cy="10335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-3556080" y="-2666880"/>
            <a:ext cx="16256160" cy="1219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1ECB-6875-4062-8F76-1AF3C260DE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360" y="3265200"/>
            <a:ext cx="7989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c"/>
                </a:solidFill>
                <a:latin typeface="Arial Narrow"/>
              </a:rPr>
              <a:t>Thank You for Your Attention !</a:t>
            </a:r>
            <a:endParaRPr b="0" lang="en-US" sz="32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31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27152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34928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56720" y="237960"/>
            <a:ext cx="1440" cy="10335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8532720" y="6165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9A862-09AF-44F1-BD9F-8CEAAFB9376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26560" y="1844280"/>
            <a:ext cx="77662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T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he difference between forecasting in a CB compared, for instance, with the academia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dividual vs. Team work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Own views vs. Communication within the forecasting team and with policy maker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nap-shot  vs. Regular task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dium-term research vs. Real-time pressur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No memory” vs. Last forecast relative to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the actual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on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Broad picture vs. Detail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echnical language vs. Macro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economic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tory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arget groups for “external” communication are differen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motivation for FPAS and main o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bjectives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5038560" y="38275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D075-BC48-423F-B516-2588746EA2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motivation for FPAS and main o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bjectives (i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7777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edium-term approach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active MP and unconditional inflation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nsight into decision making of economic agents and monetary authority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process organized around a relatively simple (QMP) resp. less simple (g3) core structural model: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How important it is to have a state-of-the art core model?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Communication aspects 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Departmental forecasting team: responsible for the successful conduct of the process and co-operation of all division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0204-B76C-4034-B4AE-2F495D53FE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motivation for FPAS and main o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bjectives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989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o have consistent and clear methodology to derive a consistent macroeconomic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o shape inflation expectations and behave systematically in line with the inflation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o communicate the basic massage of the forecast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ere the economy is and what the current trends ar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at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is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the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likely evolution in the futur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at are the implicit risk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at are the underlying pressures in terms of MP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43DD-E000-4DD5-BD9E-BFB0A9B335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3917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3933720"/>
            <a:ext cx="77724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CNB relied on near-term methods when the IT introduced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QPM introduced into forecasting in mid-2002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witch from constant IRs assumption to endogenous IRs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uccessful switch to ‘g3’ in mid-2008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ntegration with near-term forecast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nowcasting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+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robustness check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+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expert judgments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569440" cy="21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CDED-28FC-4D7D-90D9-A3AF224CB6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Core model (g3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ultisectoral SOE model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f7c"/>
                </a:solidFill>
                <a:latin typeface="Arial Narrow"/>
              </a:rPr>
              <a:t>No ad-hoc detrending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, explicit treatment of sectoral trends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BGP with constant nominal expenditure shares and trends in relative price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Cascade of price and wage rigiditie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al frictions (habit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 formation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, new vs. old capital, ...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mperfect exchange rate pass-through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mport intensity of exports, increase in trade opennes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gulated prices included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C1D5-2225-45FD-B171-B497A04418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Core model (g3) (cont.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Definition of the key features of the economy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structure of the mod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tock-flow equilibrium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Calibrati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Kalman filtering, identification of structural shock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model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generates an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interest rates trajectory consistent with the overall projecti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ome other use: alternative scenarios, MP experiments, stochastic simulations of shocks etc. 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4427640" y="274788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472428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56240" y="542124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397656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5A0E-2A36-4BC3-85AC-0D08636BA8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u04267</cp:lastModifiedBy>
  <dcterms:modified xsi:type="dcterms:W3CDTF">2012-01-13T09:55:42Z</dcterms:modified>
  <cp:revision>123</cp:revision>
  <dc:subject/>
  <dc:title>Český název přednášky/akce</dc:title>
</cp:coreProperties>
</file>