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508-955B-4D3C-B500-956A4D25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A7B-5EC0-4407-B7A0-20012167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9D0-E68F-4F26-B2DF-F1A640C3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16E-B967-4D16-8883-78A47820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CCC-0DDD-4BD8-8DCB-1EF99D4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D5A-C823-43CD-B1A8-958B1C25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3D5-6E81-454F-ADEF-699536B8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A07-5938-4444-9C16-D0EAB705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DB1-A1B6-4B71-A73F-93626BAE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747-DF69-4E85-9194-8C66E819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C9C-B283-41D8-9330-9303208E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617-43AE-4D9B-9769-AC91FC7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06A6-017C-4DDD-AB90-7B657850D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toth@cnb.cz" TargetMode="External"/><Relationship Id="rId2" Type="http://schemas.openxmlformats.org/officeDocument/2006/relationships/hyperlink" Target="mailto:peter.toth@cnb.cz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ar-Term Forecasting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068280"/>
            <a:ext cx="835164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ter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roeconomic Forecasting Div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65300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to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cnb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20 22441 37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0328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(HT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2565360"/>
            <a:ext cx="33480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 to find any other robust relationship between investment and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280" y="2687760"/>
            <a:ext cx="5508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1773360"/>
            <a:ext cx="334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 (IM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m of C+G (SD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casts of the C, G, I and EX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2573280"/>
            <a:ext cx="5364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565360"/>
            <a:ext cx="334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open economy, export is most important for the demand of imported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investment and consumption (C+G) ar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of the variation is cut off by the HP smoother (effects don’t add up to the blue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0072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, wages in the non-business sector (colleague’s forecast)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import deflator, CPI and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X and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by colleague (D. Havrlant). Linked to the forecasts of import and export price inde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def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CPI, X and M deflators,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of the GDP forec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eighted average of year-on-year growth rates of GDP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: nominal weights of components in the same period of the preceding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-post smoothening of the GDP forecast by adding expert judgement into some components, mainly investment (uncertainty) or import (has big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reflect on the GDP forecast of benchmar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TF of GDP at the CNB: users, goals,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+ exp. components forecast 1Q ahead is treated “as history” in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Q-s ahead (1-2 years) serves as a benchmark for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precision a few (1-3) quarte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mooth components forecast in q-o-q growths (required by 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-telling based on expenditur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benchmark for g3 1-2 yea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equation econometric models for I, X, M + all deflators (C, I, G, X,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interpolation of G based on a nominal annual forecast (made at another department) + quarterly forecast of the def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forecast of private consumption with disposable income broken down into components + smoothing by the savings rate and some components of disp.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-term models of GDP using monthly leading indicators: principal components, dynamic factor models, bridge equations, and averaged bivariate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892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disposable income (DI) to components: operating surplus, wages and salaries, social contributions, transfers, tax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nents are forecast by our colleagues (quarterly or annually), others are ju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 idea of the new consumption forecast based on where the labor market and the fiscal forecast are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the assumptions on DI components, smoothen consumption forecast by the savings rate and some DI components that are highly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2424240"/>
            <a:ext cx="8713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031840"/>
            <a:ext cx="821844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onsumption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nnual fiscal forecast from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 nominal G into quarters by matching the annual sums (levels) in the fiscal forecast (quadratic interpolation from annual to quarterly data in E-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the quarterly G deflator and deflate the forecast of nominal G to get re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43120"/>
            <a:ext cx="5257800" cy="344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6000" y="1268280"/>
            <a:ext cx="3348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zone GDP (HD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exchange rate deflated by relative PPI-s (RERP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mmy: period of EU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DP_EU and RER_PPI  are forecast by 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odel is quite robust to new observation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2133720"/>
            <a:ext cx="334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zone GDP is 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real exchange rate is typical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significant persistence (A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a lot of unexplained variation during the recession (periods ’08-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variation is cut off by the HP smoother (effects don’t add up to the black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5364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0:16:40Z</dcterms:created>
  <dc:creator>u03999</dc:creator>
  <dc:description/>
  <dc:language>en-US</dc:language>
  <cp:lastModifiedBy>u04267</cp:lastModifiedBy>
  <dcterms:modified xsi:type="dcterms:W3CDTF">2012-01-13T08:10:46Z</dcterms:modified>
  <cp:revision>8</cp:revision>
  <dc:subject/>
  <dc:title>Near-Term Forecasting of GDP at the CNB</dc:title>
</cp:coreProperties>
</file>