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18A-B4DC-411C-9C9E-BF6BEE2C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248-5B55-43F6-8B92-AD738BCA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CBD-E2E9-4294-A01D-501903AD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78A-3C43-4082-AE20-5290C74E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F1C-880F-40B7-A02C-A3EC1B39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C4C-2C97-4873-AA5B-D1286CEC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6DE-A0B2-4759-832E-6E272549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AA3-64B9-432F-B485-DB6C0166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31D-3D52-4E06-B663-50B36F5E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FC9-E6CA-4F60-8AB3-F4C0A87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DDA-B6CF-4CF7-A2C4-62403B5E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5E5-F035-4A8E-A860-AF978B4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3A6B-2AD2-476D-BD27-613A7B1F45D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7280" y="2349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MECHANISMY  </a:t>
            </a:r>
            <a:r>
              <a:rPr b="1" i="1" lang="cs-CZ" sz="2400" spc="-1" strike="noStrike">
                <a:solidFill>
                  <a:srgbClr val="cc0000"/>
                </a:solidFill>
                <a:latin typeface="Arial"/>
              </a:rPr>
              <a:t>ELASTICKÉ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 DEFORMAC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490920" y="2852640"/>
            <a:ext cx="1800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95640" y="40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?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08000" y="355680"/>
            <a:ext cx="8928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transp-6cz"/>
          <p:cNvPicPr/>
          <p:nvPr/>
        </p:nvPicPr>
        <p:blipFill>
          <a:blip r:embed="rId1"/>
          <a:stretch/>
        </p:blipFill>
        <p:spPr>
          <a:xfrm>
            <a:off x="179280" y="274680"/>
            <a:ext cx="878544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textura-E"/>
          <p:cNvPicPr/>
          <p:nvPr/>
        </p:nvPicPr>
        <p:blipFill>
          <a:blip r:embed="rId1"/>
          <a:stretch/>
        </p:blipFill>
        <p:spPr>
          <a:xfrm>
            <a:off x="4500720" y="981000"/>
            <a:ext cx="446220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2133720"/>
          <a:ext cx="3889080" cy="3108240"/>
        </p:xfrm>
        <a:graphic>
          <a:graphicData uri="http://schemas.openxmlformats.org/drawingml/2006/table">
            <a:tbl>
              <a:tblPr/>
              <a:tblGrid>
                <a:gridCol w="998280"/>
                <a:gridCol w="1446480"/>
                <a:gridCol w="144432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v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fr-FR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GPa]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fr-FR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GPa]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1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4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4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6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2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20"/>
          <p:cNvSpPr/>
          <p:nvPr/>
        </p:nvSpPr>
        <p:spPr>
          <a:xfrm>
            <a:off x="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Text Box 131"/>
          <p:cNvSpPr/>
          <p:nvPr/>
        </p:nvSpPr>
        <p:spPr>
          <a:xfrm>
            <a:off x="97164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ANIZOTROPIE  ELASTICKÝCH KONSTAN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Text Box 132"/>
          <p:cNvSpPr/>
          <p:nvPr/>
        </p:nvSpPr>
        <p:spPr>
          <a:xfrm>
            <a:off x="611280" y="1268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MONOKRYSTAL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Text Box 133"/>
          <p:cNvSpPr/>
          <p:nvPr/>
        </p:nvSpPr>
        <p:spPr>
          <a:xfrm>
            <a:off x="6877080" y="126828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TEXTUR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E-mechanismy"/>
          <p:cNvPicPr/>
          <p:nvPr/>
        </p:nvPicPr>
        <p:blipFill>
          <a:blip r:embed="rId1"/>
          <a:stretch/>
        </p:blipFill>
        <p:spPr>
          <a:xfrm>
            <a:off x="1898640" y="836640"/>
            <a:ext cx="4937040" cy="5773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7164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TALPICK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A </a:t>
            </a:r>
            <a:r>
              <a:rPr b="1" lang="cs-CZ" sz="2400" spc="-1" strike="noStrike">
                <a:solidFill>
                  <a:srgbClr val="cc0000"/>
                </a:solidFill>
                <a:latin typeface="Arial"/>
              </a:rPr>
              <a:t> ENTROPICKÁ  ELASTICIT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transp-9cz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0:05:51Z</dcterms:created>
  <dc:creator>UFM</dc:creator>
  <dc:description/>
  <dc:language>en-US</dc:language>
  <cp:lastModifiedBy>Kruml Tomas</cp:lastModifiedBy>
  <dcterms:modified xsi:type="dcterms:W3CDTF">2013-10-01T09:36:50Z</dcterms:modified>
  <cp:revision>36</cp:revision>
  <dc:subject/>
  <dc:title>Snímek 1</dc:title>
</cp:coreProperties>
</file>