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582-AB68-452D-B53C-B328C052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1D4-7799-4FA9-9F9B-C28E494B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944-C760-4E9B-89A5-2A837308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937-D44D-436C-AAF8-89CB56ED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615-1DC0-49C8-AFF0-9CA173F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40C-985F-4F58-9105-3562168C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247-5D9E-4AAD-BD70-73ABB8C3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2C8-8767-4BEC-9C97-5ABC973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B74-BA9B-49DC-88E8-1762D612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CF0-E94D-4DE1-BEDF-75137E0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FD9-ECC2-4D11-BB1E-23C72CC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B07-CF82-4E13-AD25-8ED6B64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1BF-EE66-4808-9AAD-760509BF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istá mě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53074" t="18040" r="-1032" b="40277"/>
          <a:stretch/>
        </p:blipFill>
        <p:spPr>
          <a:xfrm>
            <a:off x="324000" y="213372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76720" y="1628640"/>
            <a:ext cx="3743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ení mřížky za RT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zanedbatel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fektivní napětí jen pokud jsou přítomny příměsové a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roveň napětí nutného k plastické deformaci (flow stress) záleží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dislokace –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zrn (ECAP měď – mez kluz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S oc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484280"/>
            <a:ext cx="3960720" cy="29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ritické nebo FM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3% 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částice 2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práškovou metalu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teplota 650-700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 kluzu 1100 – 1700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ekávání oxidů není 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ramové slit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916280"/>
            <a:ext cx="460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422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ehce-tvárný přechod (rozšířené jádro šroubových dislok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sticita pro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500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tenzi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 výzkum, dosud žádné strojírenské aplikace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FG materiály – zvýšení tvárnosti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M sli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2205000"/>
            <a:ext cx="5256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623 °C, nízký koef. teplotní rozta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 1000 °C lepší mechanické vlastnosti než Ni supersli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1600 °C mez kluzu 350 MPa, E = 155 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olává korozi pro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30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1932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5 Ti, 0.1 Zr, 99 % Mo,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268280"/>
            <a:ext cx="345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 738 kg/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ální skluz´+ dvojča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etrie tah-t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řla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: šrouby, spojky degradující v tě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29" descr=""/>
          <p:cNvPicPr/>
          <p:nvPr/>
        </p:nvPicPr>
        <p:blipFill>
          <a:blip r:embed="rId1"/>
          <a:srcRect l="0" t="0" r="10267" b="0"/>
          <a:stretch/>
        </p:blipFill>
        <p:spPr>
          <a:xfrm>
            <a:off x="4246560" y="1341360"/>
            <a:ext cx="47181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1557360"/>
            <a:ext cx="547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ůhledný“ pro neutrony, obaly palivových tyčí v jaderných reakto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smatický skluz - basální skluz nefungu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a zvýhodňující basální sk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štěpení dislokací v prismatické rov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fr-CH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341360"/>
            <a:ext cx="547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us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aná sl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er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ní anomálie meze klu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ig4"/>
          <p:cNvPicPr/>
          <p:nvPr/>
        </p:nvPicPr>
        <p:blipFill>
          <a:blip r:embed="rId1"/>
          <a:stretch/>
        </p:blipFill>
        <p:spPr>
          <a:xfrm>
            <a:off x="611280" y="2708280"/>
            <a:ext cx="40338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Čistý 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413000"/>
            <a:ext cx="597672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obné mechanismy jako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ta tání: 660 °C – při RT funguje difú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: vyšší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tedy nižší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rozdíl stačí k tomu, že během cyklického zatěžování se tvoří jiné 3D dislokační sub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4%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prec4"/>
          <p:cNvPicPr/>
          <p:nvPr/>
        </p:nvPicPr>
        <p:blipFill>
          <a:blip r:embed="rId1"/>
          <a:stretch/>
        </p:blipFill>
        <p:spPr>
          <a:xfrm>
            <a:off x="179280" y="1197000"/>
            <a:ext cx="4783320" cy="511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prec4b"/>
          <p:cNvPicPr/>
          <p:nvPr/>
        </p:nvPicPr>
        <p:blipFill>
          <a:blip r:embed="rId2"/>
          <a:stretch/>
        </p:blipFill>
        <p:spPr>
          <a:xfrm>
            <a:off x="5580000" y="1268280"/>
            <a:ext cx="2513160" cy="2544840"/>
          </a:xfrm>
          <a:prstGeom prst="rect">
            <a:avLst/>
          </a:prstGeom>
          <a:ln w="0">
            <a:noFill/>
          </a:ln>
        </p:spPr>
      </p:pic>
      <p:sp>
        <p:nvSpPr>
          <p:cNvPr id="49" name="Obdélník 6"/>
          <p:cNvSpPr/>
          <p:nvPr/>
        </p:nvSpPr>
        <p:spPr>
          <a:xfrm>
            <a:off x="6015240" y="105264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uinier – Prestonovy z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05360"/>
            <a:ext cx="4357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vyšší pevnost: obtékání a přesekávání precipitátů stejně nároč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úze = stárnutí i za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řev – ztráta pe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ém - kor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pecimens 1 and 2"/>
          <p:cNvPicPr/>
          <p:nvPr/>
        </p:nvPicPr>
        <p:blipFill>
          <a:blip r:embed="rId1"/>
          <a:srcRect l="0" t="4889" r="0" b="0"/>
          <a:stretch/>
        </p:blipFill>
        <p:spPr>
          <a:xfrm>
            <a:off x="539640" y="1335240"/>
            <a:ext cx="5256360" cy="513864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6"/>
          <p:cNvSpPr/>
          <p:nvPr/>
        </p:nvSpPr>
        <p:spPr>
          <a:xfrm>
            <a:off x="6161400" y="2565360"/>
            <a:ext cx="262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tevin – Le Châte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slo locking x un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fúze 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7"/>
          <p:cNvSpPr/>
          <p:nvPr/>
        </p:nvSpPr>
        <p:spPr>
          <a:xfrm>
            <a:off x="6159960" y="1471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1%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365720"/>
            <a:ext cx="31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- odolnost proti kor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l-Mg-Portevin"/>
          <p:cNvPicPr/>
          <p:nvPr/>
        </p:nvPicPr>
        <p:blipFill>
          <a:blip r:embed="rId1"/>
          <a:stretch/>
        </p:blipFill>
        <p:spPr>
          <a:xfrm>
            <a:off x="755640" y="1335240"/>
            <a:ext cx="4940280" cy="4470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7"/>
          <p:cNvSpPr/>
          <p:nvPr/>
        </p:nvSpPr>
        <p:spPr>
          <a:xfrm>
            <a:off x="5871240" y="1844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tevin – Le Châte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1%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l – 2-3%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628640"/>
            <a:ext cx="37432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ížení měrné hmo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ční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é šíření únavových trhlin (tex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našel použití v průmyslu (raketopl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enitická o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19320"/>
            <a:ext cx="741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304, 316: 17.5Cr, 14Ni, 2.5Mo, 1.5Mn, 0.4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mi malá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planární skluz, vrstevné chyby, snadné dvojča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šina zpevňující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nízkých T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pěťově indukovaný martenz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é využití: nerezavě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tepelná 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51853" t="58157" r="0" b="0"/>
          <a:stretch/>
        </p:blipFill>
        <p:spPr>
          <a:xfrm>
            <a:off x="4572000" y="3713040"/>
            <a:ext cx="42879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plexní o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19320"/>
            <a:ext cx="29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Cr, 5Ni, 3Mo, 1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8738" t="39605" r="39376" b="24479"/>
          <a:stretch/>
        </p:blipFill>
        <p:spPr>
          <a:xfrm>
            <a:off x="4643280" y="1125360"/>
            <a:ext cx="388800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3816360" cy="326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59280" y="4076640"/>
            <a:ext cx="3960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fcc + 50% 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šší pevnost i korozivzdornost než jednofázové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 fáze pevnější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 únavové trhliny iniciují v bcc (vyšší stupeň lokaliz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ční oce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484280"/>
            <a:ext cx="3960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šechny druhy zpev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řehce-tvárný přechod (rozšířené jádro šroubových disloka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 nízkých teplot – dvojčatění i martenzitická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P a TRIP oc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8:57:31Z</dcterms:created>
  <dc:creator>UFM</dc:creator>
  <dc:description/>
  <dc:language>en-US</dc:language>
  <cp:lastModifiedBy>UFM</cp:lastModifiedBy>
  <dcterms:modified xsi:type="dcterms:W3CDTF">2012-05-01T21:25:09Z</dcterms:modified>
  <cp:revision>9</cp:revision>
  <dc:subject/>
  <dc:title>Čistá měď</dc:title>
</cp:coreProperties>
</file>