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4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44.jpeg" ContentType="image/jpeg"/>
  <Override PartName="/ppt/media/image30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5.jpeg" ContentType="image/jpeg"/>
  <Override PartName="/ppt/media/image46.jpeg" ContentType="image/jpeg"/>
  <Override PartName="/ppt/media/image50.png" ContentType="image/png"/>
  <Override PartName="/ppt/media/image13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C341-CE6A-4603-A833-3552CE59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42CD-4596-40C7-8CA4-05EF361F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CEB-712E-4ADB-A3E7-F1B2BE20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2F3F-1055-44B2-B48D-D59FB98C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24D4-1CF6-41D7-82EC-F079CB9B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52DE-FC08-4041-A69A-44A30757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6BB1-5C6E-4263-BA84-8B7DBBFC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9E20-2B59-4118-A33B-084CB9CF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87F8-B566-439B-A01E-79E9A659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CC8B-619F-4B0B-83D3-20BCC649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0BA-F72E-4EEB-9697-9AC82763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6194-1667-41FB-B69B-7AC966CA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4628-6D70-4710-8153-CD4AF1A7C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692280"/>
            <a:ext cx="7848720" cy="41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slokace – literatur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tručná shrnutí základních faktů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. Hull, D.J. Bacon: Introduction to dislocations, Pergamon Press 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. Pluhař, A. Puškár, J. Koutský, K. Macek, V. Beneš : Fyzikální metalurgie a mezní stavy materiálu, SNTL, 19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L. Ptáček, D. Just, J. Švejcar: Fyzika kov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 Pokluda, F. Kroupa, L. Obdr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žálek: Mechanické vlastnosti a struktura pevných látek, učební texty VUT, PCDIR Brno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Kroupa, A. Machov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á: Fyzika kovů I (Teorie dislokací), skripta ČVUT, 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etailní knih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.P. Hirth, J. Lothe : Theory of dislocations, John Wiley, 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. Friedel: Dislocations, Pergamon Press 19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.R. Nabarro: Theory of crystal dislocations, Dover 198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01600" y="1905120"/>
            <a:ext cx="69408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1627200"/>
            <a:ext cx="871380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541440"/>
            <a:ext cx="878544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1960" y="1757520"/>
            <a:ext cx="747864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5411520" cy="5479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19280" y="549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SKLUZOV</a:t>
            </a:r>
            <a:r>
              <a:rPr b="1" lang="cs-CZ" sz="2400" spc="-1" strike="noStrike">
                <a:solidFill>
                  <a:srgbClr val="000000"/>
                </a:solidFill>
                <a:latin typeface="Bookman Old Style"/>
              </a:rPr>
              <a:t>Á  DISLOKAČNÍ  SMY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640640" cy="5375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1280" y="3333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VAKANTNÍ PRIZMATICKÁ  DISLOKAČNÍ  SMY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352440"/>
            <a:ext cx="87854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19160" y="2009880"/>
            <a:ext cx="53056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060640"/>
                <a:ext cx="657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340000" y="2060640"/>
                <a:ext cx="67608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393840" y="956160"/>
            <a:ext cx="303840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roubová dislok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řadné osy jsou zvoleny ta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dislokace lež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ose x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14640" y="200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708360" y="204840"/>
          <a:ext cx="5257800" cy="66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4840"/>
                    <a:ext cx="5257800" cy="66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755640" y="2060640"/>
                <a:ext cx="6573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93840" y="956160"/>
            <a:ext cx="303840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anov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lok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řadné osy jsou zvoleny ta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dislokace lež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ose x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55640" y="2421000"/>
                <a:ext cx="67644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78" name=""/>
          <p:cNvGraphicFramePr/>
          <p:nvPr/>
        </p:nvGraphicFramePr>
        <p:xfrm>
          <a:off x="3924360" y="404640"/>
          <a:ext cx="4755960" cy="619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404640"/>
                    <a:ext cx="4755960" cy="619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527280" cy="2508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8360" y="3213000"/>
            <a:ext cx="3087720" cy="3100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63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ětelný mikrosk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189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LUZOVÉ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I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56000" y="83664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vrch fcc materiálů po tahové deform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211640" y="2205000"/>
            <a:ext cx="44625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964720" cy="6165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2554560" cy="3313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211640" y="4581360"/>
            <a:ext cx="4618080" cy="1751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843280" y="1197000"/>
            <a:ext cx="604836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12800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8000" y="77760"/>
            <a:ext cx="8209080" cy="5921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932360" y="3500280"/>
            <a:ext cx="3720960" cy="357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708360" y="4211640"/>
            <a:ext cx="526248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5192640" cy="6002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4365720"/>
            <a:ext cx="3878280" cy="287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547640" y="5157720"/>
            <a:ext cx="2610000" cy="1314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716360" y="1484280"/>
            <a:ext cx="4248360" cy="3527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4788000" y="3716280"/>
            <a:ext cx="3986280" cy="2727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4859280" y="6551640"/>
            <a:ext cx="3762360" cy="3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189000"/>
            <a:ext cx="8659800" cy="61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9280" y="449280"/>
            <a:ext cx="878544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322200"/>
            <a:ext cx="87854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83944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382680"/>
            <a:ext cx="871380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6624360" cy="5301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92360" y="33336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ízkoúhlov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ranice – sklonov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á hra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tilt bound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694640" y="476280"/>
            <a:ext cx="349200" cy="610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H="1">
            <a:off x="4788000" y="6165720"/>
            <a:ext cx="17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88000" y="6165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57340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590920" y="404640"/>
            <a:ext cx="43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ie hranice z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280" y="892080"/>
            <a:ext cx="87868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564000" y="4292640"/>
            <a:ext cx="3009960" cy="1971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1771920" cy="2295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924360" y="1773360"/>
            <a:ext cx="2362320" cy="2104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042920" y="1773360"/>
            <a:ext cx="2400480" cy="2057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55640" y="404640"/>
            <a:ext cx="77770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ISLOKAČNÍ  MIKROSTRUKTURA  PO ÚNAV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obře definované 3D uspořádání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6948360" y="1989000"/>
            <a:ext cx="16495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19280" y="1890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ízkoúhlov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ranice – z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rutová hrani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vo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ená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šroubovým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dislokacemi (twist bound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3645000" cy="5448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284720" y="1268280"/>
            <a:ext cx="46260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619280" y="33336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IHILACE x MULTIPLIKACE DISLOK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2200" y="12160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hilace :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+ (-b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27240" y="2187720"/>
            <a:ext cx="668808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619280" y="33336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IHILACE x MULTIPLIKACE DISLOK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1440" y="100008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ank-Readův zdr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24528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24720" cy="4998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619280" y="33336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ŘÍČNÝ SKLUZ  (zjednodušená ver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03280" y="1341360"/>
          <a:ext cx="6569280" cy="4937040"/>
        </p:xfrm>
        <a:graphic>
          <a:graphicData uri="http://schemas.openxmlformats.org/drawingml/2006/table">
            <a:tbl>
              <a:tblPr/>
              <a:tblGrid>
                <a:gridCol w="1641600"/>
                <a:gridCol w="1641600"/>
                <a:gridCol w="1414440"/>
                <a:gridCol w="187164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K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c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 z experimen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[MPa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[GPa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zlomek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th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/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th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 vypočtené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jako G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84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27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3 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78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3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46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3 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3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9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4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7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4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1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7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29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7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2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5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whisker 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.1 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 (lo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84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0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0" y="530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204840"/>
            <a:ext cx="871380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5000" y="189000"/>
            <a:ext cx="8540640" cy="65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85440" cy="59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51040" y="1446120"/>
            <a:ext cx="564192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1:15:26Z</dcterms:created>
  <dc:creator>UFM</dc:creator>
  <dc:description/>
  <dc:language>en-US</dc:language>
  <cp:lastModifiedBy>UFM</cp:lastModifiedBy>
  <dcterms:modified xsi:type="dcterms:W3CDTF">2012-03-14T12:41:44Z</dcterms:modified>
  <cp:revision>42</cp:revision>
  <dc:subject/>
  <dc:title>Snímek 1</dc:title>
</cp:coreProperties>
</file>