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246D-29BC-42C1-B34F-1E6112AF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4A5-09C9-43A1-8045-EC2C382F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9A0-5A23-44F8-86EE-0A0A6061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2CF-C1DB-4960-958A-7DCC2371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F87-BDAB-43E9-8427-A03021E1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31C-5C51-413B-BE3F-EA3EE621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FBD-646A-4337-A92D-5CF77559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B0B-83ED-4A32-B793-949457C6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990-0930-4ED0-97D6-0C94633F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6993-642B-4FA1-B9ED-665ACCED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6EBC-9936-44AB-9C5E-B1A565CB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6E3-5E21-4108-8543-BFC7A97C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D4B8-C928-42D2-B5D6-271936089D7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87280" y="234936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MECHANISMY  </a:t>
            </a:r>
            <a:r>
              <a:rPr b="1" i="1" lang="cs-CZ" sz="2400" spc="-1" strike="noStrike">
                <a:solidFill>
                  <a:srgbClr val="cc0000"/>
                </a:solidFill>
                <a:latin typeface="Arial"/>
              </a:rPr>
              <a:t>ELASTICKÉ</a:t>
            </a: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  DEFORMAC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490920" y="2852640"/>
            <a:ext cx="1800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995640" y="40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?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108000" y="355680"/>
            <a:ext cx="89280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transp-6cz"/>
          <p:cNvPicPr/>
          <p:nvPr/>
        </p:nvPicPr>
        <p:blipFill>
          <a:blip r:embed="rId1"/>
          <a:stretch/>
        </p:blipFill>
        <p:spPr>
          <a:xfrm>
            <a:off x="179280" y="274680"/>
            <a:ext cx="878544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textura-E"/>
          <p:cNvPicPr/>
          <p:nvPr/>
        </p:nvPicPr>
        <p:blipFill>
          <a:blip r:embed="rId1"/>
          <a:stretch/>
        </p:blipFill>
        <p:spPr>
          <a:xfrm>
            <a:off x="4500720" y="981000"/>
            <a:ext cx="4462200" cy="5381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2133720"/>
          <a:ext cx="3889080" cy="3108240"/>
        </p:xfrm>
        <a:graphic>
          <a:graphicData uri="http://schemas.openxmlformats.org/drawingml/2006/table">
            <a:tbl>
              <a:tblPr/>
              <a:tblGrid>
                <a:gridCol w="998280"/>
                <a:gridCol w="1446480"/>
                <a:gridCol w="144432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v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fr-FR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[GPa]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fr-FR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[GPa]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1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.4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4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6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2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120"/>
          <p:cNvSpPr/>
          <p:nvPr/>
        </p:nvSpPr>
        <p:spPr>
          <a:xfrm>
            <a:off x="0" y="425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Text Box 131"/>
          <p:cNvSpPr/>
          <p:nvPr/>
        </p:nvSpPr>
        <p:spPr>
          <a:xfrm>
            <a:off x="971640" y="1890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ANIZOTROPIE  ELASTICKÝCH KONSTANT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Text Box 132"/>
          <p:cNvSpPr/>
          <p:nvPr/>
        </p:nvSpPr>
        <p:spPr>
          <a:xfrm>
            <a:off x="611280" y="1268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MONOKRYSTAL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Text Box 133"/>
          <p:cNvSpPr/>
          <p:nvPr/>
        </p:nvSpPr>
        <p:spPr>
          <a:xfrm>
            <a:off x="6877080" y="126828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TEXTURA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E-mechanismy"/>
          <p:cNvPicPr/>
          <p:nvPr/>
        </p:nvPicPr>
        <p:blipFill>
          <a:blip r:embed="rId1"/>
          <a:stretch/>
        </p:blipFill>
        <p:spPr>
          <a:xfrm>
            <a:off x="1898640" y="836640"/>
            <a:ext cx="4937040" cy="5773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971640" y="1890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NTALPICK</a:t>
            </a: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A </a:t>
            </a: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 ENTROPICKÁ  ELASTICITA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transp-9cz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0:05:51Z</dcterms:created>
  <dc:creator>UFM</dc:creator>
  <dc:description/>
  <dc:language>en-US</dc:language>
  <cp:lastModifiedBy>Kruml Tomas</cp:lastModifiedBy>
  <dcterms:modified xsi:type="dcterms:W3CDTF">2013-10-01T09:36:50Z</dcterms:modified>
  <cp:revision>36</cp:revision>
  <dc:subject/>
  <dc:title>Snímek 1</dc:title>
</cp:coreProperties>
</file>