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44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5.jpeg" ContentType="image/jpeg"/>
  <Override PartName="/ppt/media/image46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C26-9C76-4544-98AB-6B791C82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2E3-1CB4-4511-8E1E-7D6A75D4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794-A45F-4F5A-B1AF-B370AE3B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1C9-E1B5-4689-B3F2-DE0B4F0E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C9B-7192-4E3C-83E5-2D6FC620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81D-3CD8-4B71-A363-3E1EFDE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AAD-3357-41A6-B479-F6250C53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7B6-7FE3-4EDB-9616-E7DBB3CB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3C5-1C50-4DFD-8D4F-5D879FC5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CCB-790F-405D-A07D-2F649109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70E-EE0E-4DD4-8D36-09CE6AEF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4B4-CBF7-490D-8E84-A1FD38EB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62D5-B581-4172-88CC-880DAF6E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692280"/>
            <a:ext cx="784872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– literatu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tručná shrnutí základních fakt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. Hull, D.J. Bacon: Introduction to dislocations, Pergamon Press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. Pluhař, A. Puškár, J. Koutský, K. Macek, V. Beneš : Fyzikální metalurgie a mezní stavy materiálu, SNTL, 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. Ptáček, D. Just, J. Švejcar: Fyzika kov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Pokluda, F. Kroupa, L. Obd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álek: Mechanické vlastnosti a struktura pevných látek, učební texty VUT, PCDIR Brno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Kroupa, A. Ma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: Fyzika kovů I (Teorie dislokací), skripta ČVUT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tailní knih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.P. Hirth, J. Lothe : Theory of dislocations, John Wiley, 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. Friedel: Dislocations, Pergamon Press 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.R. Nabarro: Theory of crystal dislocations, Dover 198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01600" y="1905120"/>
            <a:ext cx="6940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627200"/>
            <a:ext cx="87138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541440"/>
            <a:ext cx="87854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1960" y="1757520"/>
            <a:ext cx="74786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11520" cy="547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19280" y="549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KLUZOV</a:t>
            </a:r>
            <a:r>
              <a:rPr b="1" lang="cs-CZ" sz="2400" spc="-1" strike="noStrike">
                <a:solidFill>
                  <a:srgbClr val="000000"/>
                </a:solidFill>
                <a:latin typeface="Bookman Old Style"/>
              </a:rPr>
              <a:t>Á  DISLOKAČNÍ  SMY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40640" cy="537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33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VAKANTNÍ PRIZMATICKÁ  DISLOKAČNÍ  SMY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352440"/>
            <a:ext cx="8785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19160" y="2009880"/>
            <a:ext cx="5305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060640"/>
                <a:ext cx="657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340000" y="2060640"/>
                <a:ext cx="676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93840" y="956160"/>
            <a:ext cx="3038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roubová 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řadné osy jsou zvoleny t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dislokace lež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ose x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14640" y="20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708360" y="204840"/>
          <a:ext cx="52578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4840"/>
                    <a:ext cx="52578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55640" y="2060640"/>
                <a:ext cx="657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93840" y="956160"/>
            <a:ext cx="3038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anov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řadné osy jsou zvoleny t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dislokace lež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ose x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55640" y="2421000"/>
                <a:ext cx="6764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3924360" y="404640"/>
          <a:ext cx="4755960" cy="619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04640"/>
                    <a:ext cx="475596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527280" cy="2508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3087720" cy="310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ětelný mikros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LUZOVÉ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836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rch fcc materiálů po tahové defo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11640" y="2205000"/>
            <a:ext cx="44625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16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2554560" cy="3313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211640" y="4581360"/>
            <a:ext cx="4618080" cy="1751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843280" y="1197000"/>
            <a:ext cx="60483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12800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8000" y="77760"/>
            <a:ext cx="8209080" cy="5921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3720960" cy="357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4211640"/>
            <a:ext cx="52624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192640" cy="6002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878280" cy="28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47640" y="5157720"/>
            <a:ext cx="2610000" cy="131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4248360" cy="352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88000" y="3716280"/>
            <a:ext cx="3986280" cy="272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859280" y="6551640"/>
            <a:ext cx="376236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598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449280"/>
            <a:ext cx="87854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22200"/>
            <a:ext cx="87854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3944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382680"/>
            <a:ext cx="87138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624360" cy="5301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333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ízkoúhl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ranice – sklono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á hr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tilt bound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94640" y="476280"/>
            <a:ext cx="349200" cy="610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4788000" y="616572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6165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90920" y="4046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ie hranice z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892080"/>
            <a:ext cx="87868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30099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771920" cy="229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24360" y="177336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042920" y="1773360"/>
            <a:ext cx="240048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404640"/>
            <a:ext cx="7777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SLOKAČNÍ  MIKROSTRUKTURA  PO ÚNAV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obře definované 3D uspořádání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948360" y="1989000"/>
            <a:ext cx="16495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19280" y="18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ízkoúhl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ranice –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utová hran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v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ená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šroubovým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dislokacemi (twist bound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645000" cy="5448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46260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19280" y="333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HILACE x MULTIPLIKACE DISLOK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200" y="12160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hilac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+ (-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27240" y="2187720"/>
            <a:ext cx="66880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19280" y="333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HILACE x MULTIPLIKACE DISLOK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1440" y="10000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nk-Readův zd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2452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4998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19280" y="333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ČNÝ SKLUZ  (zjednodušená ve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1341360"/>
          <a:ext cx="6569280" cy="4937040"/>
        </p:xfrm>
        <a:graphic>
          <a:graphicData uri="http://schemas.openxmlformats.org/drawingml/2006/table">
            <a:tbl>
              <a:tblPr/>
              <a:tblGrid>
                <a:gridCol w="1641600"/>
                <a:gridCol w="1641600"/>
                <a:gridCol w="1414440"/>
                <a:gridCol w="187164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z experimen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[MP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[GP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zlomek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/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vypočten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jako G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8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7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7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7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5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whisker 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.1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(l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8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53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04840"/>
            <a:ext cx="87138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5000" y="189000"/>
            <a:ext cx="854064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1040" y="1446120"/>
            <a:ext cx="56419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1:15:26Z</dcterms:created>
  <dc:creator>UFM</dc:creator>
  <dc:description/>
  <dc:language>en-US</dc:language>
  <cp:lastModifiedBy>UFM</cp:lastModifiedBy>
  <dcterms:modified xsi:type="dcterms:W3CDTF">2012-03-14T12:41:44Z</dcterms:modified>
  <cp:revision>42</cp:revision>
  <dc:subject/>
  <dc:title>Snímek 1</dc:title>
</cp:coreProperties>
</file>