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D55-0389-4815-A7FB-76536749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C731-9828-472F-A3BA-4FDAB0F9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299-A24B-4C5F-A985-1F4DAEA5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420-E929-42E2-A4E0-D28F27A3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563-69F0-4628-B4D6-6CE455AA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3497-90B1-4A7B-B2C3-840B31B0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B90-B928-4F51-9A4D-A772F53E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7AF-964D-448A-A443-933E1F35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D71-019B-4FB7-8325-03DA45EF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4952-583F-4543-AA0C-14779BB9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6A6-5D2A-4C1C-BB65-1708876C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98CC-82DD-46A7-9FC6-C2370A8C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AA3E-2DA8-494B-AED2-7B7E1DA4F26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87280" y="234936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MECHANISMY  </a:t>
            </a:r>
            <a:r>
              <a:rPr b="1" i="1" lang="cs-CZ" sz="2400" spc="-1" strike="noStrike">
                <a:solidFill>
                  <a:srgbClr val="cc0000"/>
                </a:solidFill>
                <a:latin typeface="Arial"/>
              </a:rPr>
              <a:t>ELASTICKÉ</a:t>
            </a: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  DEFORMAC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490920" y="2852640"/>
            <a:ext cx="1800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995640" y="40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?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08000" y="355680"/>
            <a:ext cx="8928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transp-6cz"/>
          <p:cNvPicPr/>
          <p:nvPr/>
        </p:nvPicPr>
        <p:blipFill>
          <a:blip r:embed="rId1"/>
          <a:stretch/>
        </p:blipFill>
        <p:spPr>
          <a:xfrm>
            <a:off x="179280" y="274680"/>
            <a:ext cx="878544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textura-E"/>
          <p:cNvPicPr/>
          <p:nvPr/>
        </p:nvPicPr>
        <p:blipFill>
          <a:blip r:embed="rId1"/>
          <a:stretch/>
        </p:blipFill>
        <p:spPr>
          <a:xfrm>
            <a:off x="4500720" y="981000"/>
            <a:ext cx="4462200" cy="5381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2133720"/>
          <a:ext cx="3889080" cy="3108240"/>
        </p:xfrm>
        <a:graphic>
          <a:graphicData uri="http://schemas.openxmlformats.org/drawingml/2006/table">
            <a:tbl>
              <a:tblPr/>
              <a:tblGrid>
                <a:gridCol w="998280"/>
                <a:gridCol w="1446480"/>
                <a:gridCol w="144432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v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fr-FR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[GPa]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fr-FR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[GPa]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1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.4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4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6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2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120"/>
          <p:cNvSpPr/>
          <p:nvPr/>
        </p:nvSpPr>
        <p:spPr>
          <a:xfrm>
            <a:off x="0" y="425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Text Box 131"/>
          <p:cNvSpPr/>
          <p:nvPr/>
        </p:nvSpPr>
        <p:spPr>
          <a:xfrm>
            <a:off x="971640" y="1890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ANIZOTROPIE  ELASTICKÝCH KONSTANT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Text Box 132"/>
          <p:cNvSpPr/>
          <p:nvPr/>
        </p:nvSpPr>
        <p:spPr>
          <a:xfrm>
            <a:off x="611280" y="1268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MONOKRYSTAL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Text Box 133"/>
          <p:cNvSpPr/>
          <p:nvPr/>
        </p:nvSpPr>
        <p:spPr>
          <a:xfrm>
            <a:off x="6877080" y="126828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TEXTUR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E-mechanismy"/>
          <p:cNvPicPr/>
          <p:nvPr/>
        </p:nvPicPr>
        <p:blipFill>
          <a:blip r:embed="rId1"/>
          <a:stretch/>
        </p:blipFill>
        <p:spPr>
          <a:xfrm>
            <a:off x="1898640" y="836640"/>
            <a:ext cx="4937040" cy="5773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971640" y="1890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NTALPICK</a:t>
            </a: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A </a:t>
            </a: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 ENTROPICKÁ  ELASTICIT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transp-9cz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0:05:51Z</dcterms:created>
  <dc:creator>UFM</dc:creator>
  <dc:description/>
  <dc:language>en-US</dc:language>
  <cp:lastModifiedBy>Kruml Tomas</cp:lastModifiedBy>
  <dcterms:modified xsi:type="dcterms:W3CDTF">2013-10-01T09:36:50Z</dcterms:modified>
  <cp:revision>36</cp:revision>
  <dc:subject/>
  <dc:title>Snímek 1</dc:title>
</cp:coreProperties>
</file>