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7CC3-5AE5-42C8-B344-C4F1B6D03DD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2BF-2678-4EE5-9291-47332A85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7AA-657A-4801-AD0D-4D41E716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165-0B44-4F5D-AD84-2CC51CB6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44C-180B-47BF-9832-0DFFF796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D2EC-3CF8-40DA-977D-25973C28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8067-ED14-428F-B365-208FF34B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CF13-AC93-47F2-A526-B0AD1712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499E-E9BA-4E69-B169-E27A5F09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15CF-0900-4288-9831-6A013D0D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FD82-A0EA-4AF6-9BAA-A3330858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D3AE-4CBC-4627-9F6F-AE110FED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947-C735-4A7B-AE4C-AC0041E5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08A1-C1BF-4ACC-BEB3-A5FBA874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419A-F72F-4837-AF12-A8383522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004D-7E2F-46F3-B0A5-743F5E82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7D7A-9F87-45A2-BAFE-9510DFA6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2756-4B35-4A10-95D5-9CE8ED27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397-81AF-40E4-AD40-C56AADFB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D1D-1A8A-43F5-BE88-6B8DCF98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813-DDC3-48D8-921A-685D4020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13A-AC1E-45FC-85EB-3E7A87BE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C8A-CEB2-43E0-9546-18296957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FEF-3286-4D03-B6C5-60F09782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F14-AA9E-43B5-937A-004D51D1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8C8F-1999-4D95-887C-DB38FC65307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5067-8537-48BE-A030-A169E409258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5544;predmet=647316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1tyden_uvod\01a_Glossary_CZ.doc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1tyden_uvod\01_Nomenklatura.ti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Úvodní přednáška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ázové rovnováhy kolem nás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google.com</a:t>
            </a: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 (klíčová slova: phase equilibrium, microstructure, „phase diagram“,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říklady mikrostruktur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203" h="21600">
                <a:moveTo>
                  <a:pt x="7075" y="3985"/>
                </a:moveTo>
                <a:lnTo>
                  <a:pt x="14072" y="3985"/>
                </a:lnTo>
                <a:lnTo>
                  <a:pt x="18128" y="7484"/>
                </a:lnTo>
                <a:lnTo>
                  <a:pt x="18128" y="17615"/>
                </a:lnTo>
                <a:lnTo>
                  <a:pt x="7075" y="17615"/>
                </a:lnTo>
                <a:close/>
              </a:path>
              <a:path fill="darken" w="25203" h="21600">
                <a:moveTo>
                  <a:pt x="14072" y="3985"/>
                </a:moveTo>
                <a:lnTo>
                  <a:pt x="18128" y="7484"/>
                </a:lnTo>
                <a:lnTo>
                  <a:pt x="14072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ministrati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otace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Časový harmonogram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á nomenklatu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é rovnováhy kolem n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dministrativa a kontak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řednášející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oštovní adresa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Kotlářská 2, 611 37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dresa pracoviště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Univerzitní kampus Bohunce (UKB), Kamenice 5, 625 00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E-mail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sopouse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@mail.muni.c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ontaktn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í data a obor posluchačů: 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notace </a:t>
            </a: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6730 Fázové rovnováhy (Informační systém MU)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(podmínky získání klasifik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ditace dle oboru posluchačů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5720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3733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likni na ikonu k zobrazení sylabu přednášk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74880"/>
            <a:ext cx="8381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Black"/>
              </a:rPr>
              <a:t>Č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sový harmonogram přednášky  v PS 2010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143000"/>
          <a:ext cx="8382240" cy="483876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ní přednášk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 (Exkurse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4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elektronické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Interaktivní osnova na IS M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Učebnice: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 Peter Atkins, Julio de Paula:  Physical chemistry, 8th ed., Oxford University Press, 2006. http://ebooks.bfwpub.com/pchemoup.php (user: knihovna, heslo: uzivatel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omentář k metodě CALPHA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eznam u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žitečn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ých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 lin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: http://www.uic.edu:80/~mansoori/Thermodynamic.Data.and.Property_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omentá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teriálový slovníč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7150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Less" w="21600" h="32375">
                <a:moveTo>
                  <a:pt x="5273" y="9372"/>
                </a:moveTo>
                <a:lnTo>
                  <a:pt x="12271" y="9372"/>
                </a:lnTo>
                <a:lnTo>
                  <a:pt x="16327" y="12871"/>
                </a:lnTo>
                <a:lnTo>
                  <a:pt x="16327" y="23002"/>
                </a:lnTo>
                <a:lnTo>
                  <a:pt x="5273" y="23002"/>
                </a:lnTo>
                <a:close/>
              </a:path>
              <a:path fill="darken" w="21600" h="32375">
                <a:moveTo>
                  <a:pt x="12271" y="9372"/>
                </a:moveTo>
                <a:lnTo>
                  <a:pt x="16327" y="12871"/>
                </a:lnTo>
                <a:lnTo>
                  <a:pt x="12271" y="128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6386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Less" w="21600" h="30248">
                <a:moveTo>
                  <a:pt x="5273" y="8309"/>
                </a:moveTo>
                <a:lnTo>
                  <a:pt x="12271" y="8309"/>
                </a:lnTo>
                <a:lnTo>
                  <a:pt x="16327" y="11808"/>
                </a:lnTo>
                <a:lnTo>
                  <a:pt x="16327" y="21939"/>
                </a:lnTo>
                <a:lnTo>
                  <a:pt x="5273" y="21939"/>
                </a:lnTo>
                <a:close/>
              </a:path>
              <a:path fill="darken" w="21600" h="30248">
                <a:moveTo>
                  <a:pt x="12271" y="8309"/>
                </a:moveTo>
                <a:lnTo>
                  <a:pt x="16327" y="11808"/>
                </a:lnTo>
                <a:lnTo>
                  <a:pt x="12271" y="1180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knihy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kins P.W.: Physical Chemistry, Oxford Univ.Press, Oxford 19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er D. A., Easterling K. E. : Phase transformations in Metals and Alloys, The Thetford Press Ltd. (1986), Engla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vid R. Gaskel: Introduction to the Thermodynamics of Materials, 5th edition, Tayl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amp;Francis, New York.London, 200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. –C. Zhao: Methods for Phase Diagram Determination, ELSEVIER, 2007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. Saunders, and A. P. Miodovnik: ‘CALPHAD (Calculation of Phase Diagram) - A Comprehensive Guide’, Pergamon Materials Series, Vol. 1, Elsevier Science, Amsterodam, 199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a doporučená literatur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lub R., Voňka P.: Chemická rovnováha heterogenních a kondenzovaných soustav, Academia Praha 198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řešťál J., Kuchař L.: Hutnické Listy, vol 45, yr 1990, 28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nsdale A.T.: Calphad, vol 15,yr 1991, 31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akov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4864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Less" w="21600" h="25203">
                <a:moveTo>
                  <a:pt x="5273" y="5786"/>
                </a:moveTo>
                <a:lnTo>
                  <a:pt x="12271" y="5786"/>
                </a:lnTo>
                <a:lnTo>
                  <a:pt x="16327" y="9285"/>
                </a:lnTo>
                <a:lnTo>
                  <a:pt x="16327" y="19416"/>
                </a:lnTo>
                <a:lnTo>
                  <a:pt x="5273" y="19416"/>
                </a:lnTo>
                <a:close/>
              </a:path>
              <a:path fill="darken" w="21600" h="25203">
                <a:moveTo>
                  <a:pt x="12271" y="5786"/>
                </a:moveTo>
                <a:lnTo>
                  <a:pt x="16327" y="9285"/>
                </a:lnTo>
                <a:lnTo>
                  <a:pt x="12271" y="9285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Nomenklatura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ákladní pojm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429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ší pojm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>
            <a:hlinkClick r:id="rId3"/>
          </p:cNvPr>
          <p:cNvSpPr/>
          <p:nvPr/>
        </p:nvSpPr>
        <p:spPr>
          <a:xfrm>
            <a:off x="3124080" y="3733920"/>
            <a:ext cx="609840" cy="9144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0200" y="30981"/>
                </a:lnTo>
                <a:lnTo>
                  <a:pt x="20200" y="140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1400" y="30981"/>
                </a:lnTo>
                <a:lnTo>
                  <a:pt x="20200" y="309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81"/>
                </a:lnTo>
                <a:close/>
              </a:path>
              <a:path fill="darkenLess" w="21600" h="32381">
                <a:moveTo>
                  <a:pt x="5273" y="9375"/>
                </a:moveTo>
                <a:lnTo>
                  <a:pt x="12271" y="9375"/>
                </a:lnTo>
                <a:lnTo>
                  <a:pt x="16327" y="12874"/>
                </a:lnTo>
                <a:lnTo>
                  <a:pt x="16327" y="23005"/>
                </a:lnTo>
                <a:lnTo>
                  <a:pt x="5273" y="23005"/>
                </a:lnTo>
                <a:close/>
              </a:path>
              <a:path fill="darken" w="21600" h="32381">
                <a:moveTo>
                  <a:pt x="12271" y="9375"/>
                </a:moveTo>
                <a:lnTo>
                  <a:pt x="16327" y="12874"/>
                </a:lnTo>
                <a:lnTo>
                  <a:pt x="12271" y="1287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105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rystalografie na MU: Krystalografická učebnice na MU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>
            <a:hlinkClick r:id="rId5"/>
          </p:cNvPr>
          <p:cNvSpPr/>
          <p:nvPr/>
        </p:nvSpPr>
        <p:spPr>
          <a:xfrm>
            <a:off x="3048120" y="20574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Less" w="21600" h="32400">
                <a:moveTo>
                  <a:pt x="5273" y="9385"/>
                </a:moveTo>
                <a:lnTo>
                  <a:pt x="12271" y="9385"/>
                </a:lnTo>
                <a:lnTo>
                  <a:pt x="16327" y="12884"/>
                </a:lnTo>
                <a:lnTo>
                  <a:pt x="16327" y="23015"/>
                </a:lnTo>
                <a:lnTo>
                  <a:pt x="5273" y="23015"/>
                </a:lnTo>
                <a:close/>
              </a:path>
              <a:path fill="darken" w="21600" h="32400">
                <a:moveTo>
                  <a:pt x="12271" y="9385"/>
                </a:moveTo>
                <a:lnTo>
                  <a:pt x="16327" y="12884"/>
                </a:lnTo>
                <a:lnTo>
                  <a:pt x="12271" y="128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1T11:12:22Z</dcterms:modified>
  <cp:revision>28</cp:revision>
  <dc:subject/>
  <dc:title>C6730 Fázové rovnováhy</dc:title>
</cp:coreProperties>
</file>