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1FC3-B73B-4D99-A7C0-CE2F866C5CC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8AC-16F0-43A1-914D-7E10D0C6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D98-B41F-4F31-9D68-03F01DDE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ADB-7A51-4A5F-BF1D-5EE25494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655-F2B7-453B-9F7C-3A3C2663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59A3-B139-4EAC-8F97-69296809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3AC2-3F23-4F32-98B8-42072F4A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08FB-58C5-47CD-BE40-14932F8D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F3C2-84EF-415B-A1C7-D03CA80C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C15E-1F1E-47FA-B8F0-C4F1CFE6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46CB-4245-4E14-8F82-9A72B22C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4EF4-73A0-4454-8A8F-0857E45D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933-DF4A-4C6A-8EE1-D67A2FB4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9173-6C54-425D-8D1E-794C4E83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BF13-1ED4-48E7-BD8B-9E31ADA9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BFE4-F23B-42AE-99B6-EC76D594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5972-4490-464A-AC3A-A01AF4E2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C687-580B-40E0-BF8F-774BF675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A51-9917-467C-AEB1-F9A88E8D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596-69C6-4589-ADBD-2C065D44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4B2-E6D9-40C3-9D88-849B8441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5D3-50BB-4243-B995-81C8023D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CF2-0874-40C0-9597-8697A09B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C06-86B6-4F5E-A942-7574807A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18B-44A9-4802-BDE1-809852C3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2949-C644-48E8-AC38-F774BE38661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13AF-4328-41F1-BB79-61E27573FBC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is.muni.cz/auth/predmety/uplny_vypis.pl?fakulta=1431;obdobi=5544;predmet=647316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1tyden_uvod\01a_Glossary_CZ.doc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1tyden_uvod\01_Nomenklatura.ti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Úvodní přednáška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Fázové rovnováhy kolem nás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google.com</a:t>
            </a: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 (klíčová slova: phase equilibrium, microstructure, „phase diagram“, 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říklady mikrostruktur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203" h="21600">
                <a:moveTo>
                  <a:pt x="7075" y="3985"/>
                </a:moveTo>
                <a:lnTo>
                  <a:pt x="14072" y="3985"/>
                </a:lnTo>
                <a:lnTo>
                  <a:pt x="18128" y="7484"/>
                </a:lnTo>
                <a:lnTo>
                  <a:pt x="18128" y="17615"/>
                </a:lnTo>
                <a:lnTo>
                  <a:pt x="7075" y="17615"/>
                </a:lnTo>
                <a:close/>
              </a:path>
              <a:path fill="darken" w="25203" h="21600">
                <a:moveTo>
                  <a:pt x="14072" y="3985"/>
                </a:moveTo>
                <a:lnTo>
                  <a:pt x="18128" y="7484"/>
                </a:lnTo>
                <a:lnTo>
                  <a:pt x="14072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ministrativ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otace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Časový harmonogram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udijní materiál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á nomenklatur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é rovnováhy kolem n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dministrativa a kontakt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řednášející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oštovní adresa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Kotlářská 2, 611 37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Adresa pracoviště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Univerzitní kampus Bohunce (UKB), Kamenice 5, 625 00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E-mail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sopouse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@mail.muni.c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ontaktn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í data a obor posluchačů: 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notace </a:t>
            </a: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6730 Fázové rovnováhy (Informační systém MU)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(podmínky získání klasifikac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ditace dle oboru posluchačů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5720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3733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likni na ikonu k zobrazení sylabu přednášk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74880"/>
            <a:ext cx="83818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Black"/>
              </a:rPr>
              <a:t>Č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sový harmonogram přednášky  v PS 2010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143000"/>
          <a:ext cx="8382240" cy="4838760"/>
        </p:xfrm>
        <a:graphic>
          <a:graphicData uri="http://schemas.openxmlformats.org/drawingml/2006/table">
            <a:tbl>
              <a:tblPr/>
              <a:tblGrid>
                <a:gridCol w="914400"/>
                <a:gridCol w="2971800"/>
                <a:gridCol w="762120"/>
                <a:gridCol w="3733920"/>
              </a:tblGrid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 (det. viz anotace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Úvodní přednášk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álné rovnováhy (destilace, extrakce, oceli, pájky bez olova, …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áklady Termodynamiky, opakování fyzikální chemi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ýpočty fázových diagramů (Metoda CALPHAD, ThermoCalc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e a materiál, základní pravidla. Popis rovnovážných stavů, podmínka fázové rovnováh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transformace (poruchy krystalové mříže, nukleace, kinetika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diagramy, výpočty, konstrukce použití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chanismy difúze, mobilita, TD+Kin fak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perimentální metody sledování FR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inetika reálných soustav technické materiály, svary ocelí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kurse na AVČR UFM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uvislosti mezi fáz. a fyz.-mech vlastnostmi reál. soust. (Exkurse VUT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4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elektronické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Interaktivní osnova na IS M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Učebnice: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 Peter Atkins, Julio de Paula:  Physical chemistry, 8th ed., Oxford University Press, 2006. http://ebooks.bfwpub.com/pchemoup.php (user: knihovna, heslo: uzivatel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Komentář k metodě CALPHAD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Seznam u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žitečn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ých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 link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ů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: http://www.uic.edu:80/~mansoori/Thermodynamic.Data.and.Property_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562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omentá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teriálový slovníč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57150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Less" w="21600" h="32375">
                <a:moveTo>
                  <a:pt x="5273" y="9372"/>
                </a:moveTo>
                <a:lnTo>
                  <a:pt x="12271" y="9372"/>
                </a:lnTo>
                <a:lnTo>
                  <a:pt x="16327" y="12871"/>
                </a:lnTo>
                <a:lnTo>
                  <a:pt x="16327" y="23002"/>
                </a:lnTo>
                <a:lnTo>
                  <a:pt x="5273" y="23002"/>
                </a:lnTo>
                <a:close/>
              </a:path>
              <a:path fill="darken" w="21600" h="32375">
                <a:moveTo>
                  <a:pt x="12271" y="9372"/>
                </a:moveTo>
                <a:lnTo>
                  <a:pt x="16327" y="12871"/>
                </a:lnTo>
                <a:lnTo>
                  <a:pt x="12271" y="128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56386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Less" w="21600" h="30248">
                <a:moveTo>
                  <a:pt x="5273" y="8309"/>
                </a:moveTo>
                <a:lnTo>
                  <a:pt x="12271" y="8309"/>
                </a:lnTo>
                <a:lnTo>
                  <a:pt x="16327" y="11808"/>
                </a:lnTo>
                <a:lnTo>
                  <a:pt x="16327" y="21939"/>
                </a:lnTo>
                <a:lnTo>
                  <a:pt x="5273" y="21939"/>
                </a:lnTo>
                <a:close/>
              </a:path>
              <a:path fill="darken" w="21600" h="30248">
                <a:moveTo>
                  <a:pt x="12271" y="8309"/>
                </a:moveTo>
                <a:lnTo>
                  <a:pt x="16327" y="11808"/>
                </a:lnTo>
                <a:lnTo>
                  <a:pt x="12271" y="1180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knihy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kins P.W.: Physical Chemistry, Oxford Univ.Press, Oxford 19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er D. A., Easterling K. E. : Phase transformations in Metals and Alloys, The Thetford Press Ltd. (1986), Engla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vid R. Gaskel: Introduction to the Thermodynamics of Materials, 5th edition, Tayl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amp;Francis, New York.London, 200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. –C. Zhao: Methods for Phase Diagram Determination, ELSEVIER, 2007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. Saunders, and A. P. Miodovnik: ‘CALPHAD (Calculation of Phase Diagram) - A Comprehensive Guide’, Pergamon Materials Series, Vol. 1, Elsevier Science, Amsterodam, 199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a doporučená literatur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lub R., Voňka P.: Chemická rovnováha heterogenních a kondenzovaných soustav, Academia Praha 198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řešťál J., Kuchař L.: Hutnické Listy, vol 45, yr 1990, 28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nsdale A.T.: Calphad, vol 15,yr 1991, 31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pakov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4864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Less" w="21600" h="25203">
                <a:moveTo>
                  <a:pt x="5273" y="5786"/>
                </a:moveTo>
                <a:lnTo>
                  <a:pt x="12271" y="5786"/>
                </a:lnTo>
                <a:lnTo>
                  <a:pt x="16327" y="9285"/>
                </a:lnTo>
                <a:lnTo>
                  <a:pt x="16327" y="19416"/>
                </a:lnTo>
                <a:lnTo>
                  <a:pt x="5273" y="19416"/>
                </a:lnTo>
                <a:close/>
              </a:path>
              <a:path fill="darken" w="21600" h="25203">
                <a:moveTo>
                  <a:pt x="12271" y="5786"/>
                </a:moveTo>
                <a:lnTo>
                  <a:pt x="16327" y="9285"/>
                </a:lnTo>
                <a:lnTo>
                  <a:pt x="12271" y="9285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Nomenklatura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ákladní pojmy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429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lší pojm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>
            <a:hlinkClick r:id="rId3"/>
          </p:cNvPr>
          <p:cNvSpPr/>
          <p:nvPr/>
        </p:nvSpPr>
        <p:spPr>
          <a:xfrm>
            <a:off x="3124080" y="3733920"/>
            <a:ext cx="609840" cy="9144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381">
                <a:moveTo>
                  <a:pt x="0" y="0"/>
                </a:moveTo>
                <a:lnTo>
                  <a:pt x="21600" y="0"/>
                </a:lnTo>
                <a:lnTo>
                  <a:pt x="21600" y="32381"/>
                </a:lnTo>
                <a:lnTo>
                  <a:pt x="0" y="32381"/>
                </a:lnTo>
                <a:close/>
              </a:path>
              <a:path fill="lightenLess" w="21600" h="323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81">
                <a:moveTo>
                  <a:pt x="21600" y="0"/>
                </a:moveTo>
                <a:lnTo>
                  <a:pt x="21600" y="32381"/>
                </a:lnTo>
                <a:lnTo>
                  <a:pt x="20200" y="30981"/>
                </a:lnTo>
                <a:lnTo>
                  <a:pt x="20200" y="1400"/>
                </a:lnTo>
                <a:close/>
              </a:path>
              <a:path fill="darkenLess" w="21600" h="32381">
                <a:moveTo>
                  <a:pt x="21600" y="32381"/>
                </a:moveTo>
                <a:lnTo>
                  <a:pt x="0" y="32381"/>
                </a:lnTo>
                <a:lnTo>
                  <a:pt x="1400" y="30981"/>
                </a:lnTo>
                <a:lnTo>
                  <a:pt x="20200" y="30981"/>
                </a:lnTo>
                <a:close/>
              </a:path>
              <a:path fill="lighten" w="21600" h="32381">
                <a:moveTo>
                  <a:pt x="0" y="3238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81"/>
                </a:lnTo>
                <a:close/>
              </a:path>
              <a:path fill="darkenLess" w="21600" h="32381">
                <a:moveTo>
                  <a:pt x="5273" y="9375"/>
                </a:moveTo>
                <a:lnTo>
                  <a:pt x="12271" y="9375"/>
                </a:lnTo>
                <a:lnTo>
                  <a:pt x="16327" y="12874"/>
                </a:lnTo>
                <a:lnTo>
                  <a:pt x="16327" y="23005"/>
                </a:lnTo>
                <a:lnTo>
                  <a:pt x="5273" y="23005"/>
                </a:lnTo>
                <a:close/>
              </a:path>
              <a:path fill="darken" w="21600" h="32381">
                <a:moveTo>
                  <a:pt x="12271" y="9375"/>
                </a:moveTo>
                <a:lnTo>
                  <a:pt x="16327" y="12874"/>
                </a:lnTo>
                <a:lnTo>
                  <a:pt x="12271" y="1287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105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rystalografie na MU: Krystalografická učebnice na MU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>
            <a:hlinkClick r:id="rId5"/>
          </p:cNvPr>
          <p:cNvSpPr/>
          <p:nvPr/>
        </p:nvSpPr>
        <p:spPr>
          <a:xfrm>
            <a:off x="3048120" y="205740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Less" w="21600" h="32400">
                <a:moveTo>
                  <a:pt x="5273" y="9385"/>
                </a:moveTo>
                <a:lnTo>
                  <a:pt x="12271" y="9385"/>
                </a:lnTo>
                <a:lnTo>
                  <a:pt x="16327" y="12884"/>
                </a:lnTo>
                <a:lnTo>
                  <a:pt x="16327" y="23015"/>
                </a:lnTo>
                <a:lnTo>
                  <a:pt x="5273" y="23015"/>
                </a:lnTo>
                <a:close/>
              </a:path>
              <a:path fill="darken" w="21600" h="32400">
                <a:moveTo>
                  <a:pt x="12271" y="9385"/>
                </a:moveTo>
                <a:lnTo>
                  <a:pt x="16327" y="12884"/>
                </a:lnTo>
                <a:lnTo>
                  <a:pt x="12271" y="128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1T11:12:22Z</dcterms:modified>
  <cp:revision>28</cp:revision>
  <dc:subject/>
  <dc:title>C6730 Fázové rovnováhy</dc:title>
</cp:coreProperties>
</file>