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12.wmf" ContentType="image/x-wmf"/>
  <Override PartName="/ppt/media/image4.png" ContentType="image/png"/>
  <Override PartName="/ppt/media/image23.wmf" ContentType="image/x-wmf"/>
  <Override PartName="/ppt/media/image22.wmf" ContentType="image/x-wmf"/>
  <Override PartName="/ppt/media/image10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.png" ContentType="image/pn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AD60-05CB-4491-963B-444B89BFB74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8A0-E195-41C4-A388-DFCF58D9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338C-806A-43C6-90D5-BD811FE4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8FD-A8F2-4FDB-9728-1681A015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0207-0D2C-4D7E-BBCD-08A076F2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A995-1649-4CDE-9CAA-CA42BD7B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7125-4E41-4DEC-9248-99F5ECC4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4127-A70B-46F3-8269-B838612B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1AC5-41F6-4D64-89EE-D79AAD5C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B0D8-B296-4C54-8972-67745BFB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1E82-91A7-4AB3-8BCE-5EDD6D46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C506-981F-455A-91CD-24D147CB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9CE7-E084-441E-A218-028F1583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328C-77FF-4837-87A1-969B344E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D35A-8BA3-4602-8140-216E3EA5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8274-0CB9-467F-8D23-CD59A882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F2AC-A564-40C6-8D50-3CAE31D4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3455-726D-42BD-B932-DE62C71E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F2F-7FDE-4D53-B89E-FF6481B2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9035-71A4-4BC7-8487-204A6990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843D-6984-44D2-AA1F-FFAFEEDE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D00-5246-4D1C-8DB6-E4BF4C3E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985C-209C-401F-A816-957657BA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52B-0B5A-4DC0-9EB3-E649FF5A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4C3-21D4-4C9E-8E2F-32EB3922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543E-009D-4BD1-AF27-088DC89122A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26D9-6C71-4E6C-9F3B-0931641B706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3a_Gplocha_H2O.xls" TargetMode="External"/><Relationship Id="rId3" Type="http://schemas.openxmlformats.org/officeDocument/2006/relationships/image" Target="../media/image1.png"/><Relationship Id="rId4" Type="http://schemas.openxmlformats.org/officeDocument/2006/relationships/hyperlink" Target="D:\Vyuka\C6730 Term_FR\p&#345;edn&#225;&#353;ka_CZ\02tyden_\03_P&#345;&#237;klad vypo&#269;tu G vody.tif" TargetMode="External"/><Relationship Id="rId5" Type="http://schemas.openxmlformats.org/officeDocument/2006/relationships/hyperlink" Target="D:\Vyuka\C6730 Term_FR\p&#345;edn&#225;&#353;ka_CZ\02tyden_\03_P&#345;&#237;klad vypo&#269;tu G vody.tif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2tyden_\02_Termodynamick&#233; funkce.pdf" TargetMode="External"/><Relationship Id="rId4" Type="http://schemas.openxmlformats.org/officeDocument/2006/relationships/image" Target="../media/image1.png"/><Relationship Id="rId5" Type="http://schemas.openxmlformats.org/officeDocument/2006/relationships/hyperlink" Target="D:\Vyuka\C6730 Term_FR\p&#345;edn&#225;&#353;ka_CZ\02tyden_\02a_lectintro.pdf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2 Základní termodynamik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entro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2013120"/>
            <a:ext cx="77724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Gibbsovy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2241720"/>
            <a:ext cx="777240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ávislost Gibbsovy energie na tlak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5800" y="2054160"/>
            <a:ext cx="77724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Kondenzovaný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1167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lynný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96920" y="1981080"/>
            <a:ext cx="5148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D funkce sloučen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23880" y="1065240"/>
            <a:ext cx="58676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Grafická souvislost TD funkc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442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liv p a T na Gibbsovu energi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06640" y="1981080"/>
            <a:ext cx="692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46512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Klasifikace fázových přechod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01532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13680"/>
            <a:ext cx="8381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Gibbsova energie fází jednosložkové soustavy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752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říklad výpočtu G fází vod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>
            <a:hlinkClick r:id="rId2"/>
          </p:cNvPr>
          <p:cNvSpPr/>
          <p:nvPr/>
        </p:nvSpPr>
        <p:spPr>
          <a:xfrm>
            <a:off x="4343400" y="3962520"/>
            <a:ext cx="914400" cy="11430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143000"/>
              <a:gd name="textAreaBottom" fmla="*/ 1083960 h 1143000"/>
            </a:gdLst>
            <a:ahLst/>
            <a:rect l="textAreaLeft" t="textAreaTop" r="textAreaRight" b="textAreaBottom"/>
            <a:pathLst>
              <a:path w="21600" h="26998">
                <a:moveTo>
                  <a:pt x="0" y="0"/>
                </a:moveTo>
                <a:lnTo>
                  <a:pt x="21600" y="0"/>
                </a:lnTo>
                <a:lnTo>
                  <a:pt x="21600" y="26998"/>
                </a:lnTo>
                <a:lnTo>
                  <a:pt x="0" y="26998"/>
                </a:lnTo>
                <a:close/>
              </a:path>
              <a:path fill="lightenLess" w="21600" h="26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8">
                <a:moveTo>
                  <a:pt x="21600" y="0"/>
                </a:moveTo>
                <a:lnTo>
                  <a:pt x="21600" y="26998"/>
                </a:lnTo>
                <a:lnTo>
                  <a:pt x="20200" y="25598"/>
                </a:lnTo>
                <a:lnTo>
                  <a:pt x="20200" y="1400"/>
                </a:lnTo>
                <a:close/>
              </a:path>
              <a:path fill="darkenLess" w="21600" h="26998">
                <a:moveTo>
                  <a:pt x="21600" y="26998"/>
                </a:moveTo>
                <a:lnTo>
                  <a:pt x="0" y="26998"/>
                </a:lnTo>
                <a:lnTo>
                  <a:pt x="1400" y="25598"/>
                </a:lnTo>
                <a:lnTo>
                  <a:pt x="20200" y="25598"/>
                </a:lnTo>
                <a:close/>
              </a:path>
              <a:path fill="lighten" w="21600" h="26998">
                <a:moveTo>
                  <a:pt x="0" y="26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8"/>
                </a:lnTo>
                <a:close/>
              </a:path>
              <a:path fill="darkenLess" w="21600" h="26998">
                <a:moveTo>
                  <a:pt x="5273" y="6684"/>
                </a:moveTo>
                <a:lnTo>
                  <a:pt x="12271" y="6684"/>
                </a:lnTo>
                <a:lnTo>
                  <a:pt x="16327" y="10183"/>
                </a:lnTo>
                <a:lnTo>
                  <a:pt x="16327" y="20314"/>
                </a:lnTo>
                <a:lnTo>
                  <a:pt x="5273" y="20314"/>
                </a:lnTo>
                <a:close/>
              </a:path>
              <a:path fill="darken" w="21600" h="26998">
                <a:moveTo>
                  <a:pt x="12271" y="6684"/>
                </a:moveTo>
                <a:lnTo>
                  <a:pt x="16327" y="10183"/>
                </a:lnTo>
                <a:lnTo>
                  <a:pt x="12271" y="10183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8862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Hyperplocha G fází vod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>
            <a:hlinkClick r:id="rId4"/>
          </p:cNvPr>
          <p:cNvSpPr/>
          <p:nvPr/>
        </p:nvSpPr>
        <p:spPr>
          <a:xfrm>
            <a:off x="6248520" y="312408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Less" w="21600" h="25532">
                <a:moveTo>
                  <a:pt x="5273" y="5951"/>
                </a:moveTo>
                <a:lnTo>
                  <a:pt x="12271" y="5951"/>
                </a:lnTo>
                <a:lnTo>
                  <a:pt x="16327" y="9450"/>
                </a:lnTo>
                <a:lnTo>
                  <a:pt x="16327" y="19581"/>
                </a:lnTo>
                <a:lnTo>
                  <a:pt x="5273" y="19581"/>
                </a:lnTo>
                <a:close/>
              </a:path>
              <a:path fill="darken" w="21600" h="25532">
                <a:moveTo>
                  <a:pt x="12271" y="5951"/>
                </a:moveTo>
                <a:lnTo>
                  <a:pt x="16327" y="9450"/>
                </a:lnTo>
                <a:lnTo>
                  <a:pt x="12271" y="9450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>
            <a:hlinkClick r:id="rId5"/>
          </p:cNvPr>
          <p:cNvSpPr/>
          <p:nvPr/>
        </p:nvSpPr>
        <p:spPr>
          <a:xfrm>
            <a:off x="4191120" y="182880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Less" w="21600" h="31199">
                <a:moveTo>
                  <a:pt x="5273" y="8784"/>
                </a:moveTo>
                <a:lnTo>
                  <a:pt x="12271" y="8784"/>
                </a:lnTo>
                <a:lnTo>
                  <a:pt x="16327" y="12283"/>
                </a:lnTo>
                <a:lnTo>
                  <a:pt x="16327" y="22414"/>
                </a:lnTo>
                <a:lnTo>
                  <a:pt x="5273" y="22414"/>
                </a:lnTo>
                <a:close/>
              </a:path>
              <a:path fill="darken" w="21600" h="31199">
                <a:moveTo>
                  <a:pt x="12271" y="8784"/>
                </a:moveTo>
                <a:lnTo>
                  <a:pt x="16327" y="12283"/>
                </a:lnTo>
                <a:lnTo>
                  <a:pt x="12271" y="12283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304812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Zpracování v tabulkovém procesoru (EXCEL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cké funkce (opakování) </a:t>
            </a:r>
            <a:r>
              <a:rPr b="0" lang="cs-CZ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Stanovení termodynamických funkcí jednosložkové soustav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datkové příspěvky k Gibbsově energii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Fázový diagram jednosložkové soustavy (vod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Clausius Clapeyronova rovn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571500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baseline="30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 C.H.P. Lupis: Chemical Thermodynamics of Materials, Elsevier, 1983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ázový diagram vody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8" name="FG10_28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492768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ázový diagram vody za extrémních podmínek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1" name="voda1" descr=""/>
          <p:cNvPicPr/>
          <p:nvPr/>
        </p:nvPicPr>
        <p:blipFill>
          <a:blip r:embed="rId2"/>
          <a:stretch/>
        </p:blipFill>
        <p:spPr>
          <a:xfrm>
            <a:off x="1224000" y="2505240"/>
            <a:ext cx="532908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lausius clapeyronova rovn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8487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tner a kol.: Fázové rovnováhy, scripta VŠChT Prah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nitřní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3424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80880" y="51814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inice termodynamických funkcí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>
            <a:hlinkClick r:id="rId3"/>
          </p:cNvPr>
          <p:cNvSpPr/>
          <p:nvPr/>
        </p:nvSpPr>
        <p:spPr>
          <a:xfrm>
            <a:off x="4876920" y="51814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991" h="21600">
                <a:moveTo>
                  <a:pt x="6469" y="3985"/>
                </a:moveTo>
                <a:lnTo>
                  <a:pt x="13467" y="3985"/>
                </a:lnTo>
                <a:lnTo>
                  <a:pt x="17522" y="7484"/>
                </a:lnTo>
                <a:lnTo>
                  <a:pt x="17522" y="17615"/>
                </a:lnTo>
                <a:lnTo>
                  <a:pt x="6469" y="17615"/>
                </a:lnTo>
                <a:close/>
              </a:path>
              <a:path fill="darken" w="23991" h="21600">
                <a:moveTo>
                  <a:pt x="13467" y="3985"/>
                </a:moveTo>
                <a:lnTo>
                  <a:pt x="17522" y="7484"/>
                </a:lnTo>
                <a:lnTo>
                  <a:pt x="13467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7150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rmodynamické vztah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>
            <a:hlinkClick r:id="rId5"/>
          </p:cNvPr>
          <p:cNvSpPr/>
          <p:nvPr/>
        </p:nvSpPr>
        <p:spPr>
          <a:xfrm>
            <a:off x="4114800" y="58672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  <a:path fill="darkenLess" w="21600" h="37775">
                <a:moveTo>
                  <a:pt x="5273" y="12072"/>
                </a:moveTo>
                <a:lnTo>
                  <a:pt x="12271" y="12072"/>
                </a:lnTo>
                <a:lnTo>
                  <a:pt x="16327" y="15571"/>
                </a:lnTo>
                <a:lnTo>
                  <a:pt x="16327" y="25702"/>
                </a:lnTo>
                <a:lnTo>
                  <a:pt x="5273" y="25702"/>
                </a:lnTo>
                <a:close/>
              </a:path>
              <a:path fill="darken" w="21600" h="37775">
                <a:moveTo>
                  <a:pt x="12271" y="12072"/>
                </a:moveTo>
                <a:lnTo>
                  <a:pt x="16327" y="15571"/>
                </a:lnTo>
                <a:lnTo>
                  <a:pt x="12271" y="1557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Ental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85840" y="1981080"/>
            <a:ext cx="6772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Entro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Gibbsova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lmholzova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7724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Molární veličiny a standardní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73160" y="1981080"/>
            <a:ext cx="699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ental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7T13:19:14Z</dcterms:modified>
  <cp:revision>47</cp:revision>
  <dc:subject/>
  <dc:title>C6730 Fázové rovnováhy</dc:title>
</cp:coreProperties>
</file>