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10.wmf" ContentType="image/x-wmf"/>
  <Override PartName="/ppt/media/image4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18.wmf" ContentType="image/x-wmf"/>
  <Override PartName="/ppt/media/image23.wmf" ContentType="image/x-wmf"/>
  <Override PartName="/ppt/media/image11.jpeg" ContentType="image/jpeg"/>
  <Override PartName="/ppt/media/image9.jpeg" ContentType="image/jpeg"/>
  <Override PartName="/ppt/media/image8.png" ContentType="image/png"/>
  <Override PartName="/ppt/media/image13.jpeg" ContentType="image/jpeg"/>
  <Override PartName="/ppt/media/image30.png" ContentType="image/png"/>
  <Override PartName="/ppt/media/image2.gif" ContentType="image/gif"/>
  <Override PartName="/ppt/media/image12.jpeg" ContentType="image/jpeg"/>
  <Override PartName="/ppt/media/image28.png" ContentType="image/png"/>
  <Override PartName="/ppt/media/image31.wmf" ContentType="image/x-wmf"/>
  <Override PartName="/ppt/media/image7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6.jpeg" ContentType="image/jpeg"/>
  <Override PartName="/ppt/media/image22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7767-B244-4E27-AB2E-4555293FD50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DADC-AFD2-4CA3-8CF0-A54A312B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50B-458B-45E8-84E5-19C74CC9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4B45-FF96-4D35-B6E4-C8B83670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7C43-AD90-428C-8008-60DAE2C5B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E87E-0CFD-4D26-B332-998129AD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FA5C-DC4C-4B6A-860B-DCAB2495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DB97-5896-42A2-860A-2F2BF1ED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6360-FD7E-448C-ADEB-377FB1AC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4C42-FCBC-4F5E-91E6-26D24131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1A59-97A4-4191-97F7-B62F0C1F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6CA0-8205-4D28-8CF7-8C4805D2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4D31-391D-439C-8364-D573ADA5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2FAF-55FE-4366-AD78-F5B96A15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CFF1-6466-4828-9CF9-4A4B2212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B546-9189-4861-A5F9-3DCE2389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FCFE-EA4C-4219-8951-39334D9D9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CC8F-155F-4243-A4F7-BCC3EAA0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6EDF-134F-4F46-8024-03DAB5D1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DA94-5B77-4838-A646-ECC6E8E5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9D32-852D-46D4-89FB-DC13A939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2F8-27FB-4665-9484-5425677B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8408-CD33-420D-90D3-1AAF8989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26E8-0207-4F62-BCA7-ED2E1F36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C2B4-41B5-4CEA-A3A8-24E33D4F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B4AE-7798-4BDA-AD74-A0DFFAE9DB31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E2F9-0E00-4D2E-8F59-FF6AB995199D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D:\Vyuka\C6730 Term_FR\p&#345;edn&#225;&#353;ka_CZ\03tyden_jednoduch&#233; FD\Z&#225;kladn&#237; termodynamika sm&#283;s&#237;.pdf" TargetMode="External"/><Relationship Id="rId4" Type="http://schemas.openxmlformats.org/officeDocument/2006/relationships/hyperlink" Target="D:\Vyuka\C6730 Term_FR\p&#345;edn&#225;&#353;ka_CZ\03tyden_jednoduch&#233; FD\Termodynamika m&#237;sen&#237;.pdf" TargetMode="External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hyperlink" Target="D:\Vyuka\C6730 Term_FR\p&#345;edn&#225;&#353;ka_CZ\03tyden_jednoduch&#233; FD\07_FR_p&#345;&#237;klady_polymery.tif" TargetMode="Externa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Vyuka\C6730 Term_FR\p&#345;edn&#225;&#353;ka_CZ\02tyden_\04_mg p&#345;&#237;sp&#283;vek a FD vody.tif" TargetMode="External"/><Relationship Id="rId3" Type="http://schemas.openxmlformats.org/officeDocument/2006/relationships/hyperlink" Target="http://www.techmania.cz/edutorium/art_exponaty.php?xkat=fyzika&amp;xser=456c656b74f8696e612061206d61676e657469736d7573h&amp;key=444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Vyuka\C6730 Term_FR\p&#345;edn&#225;&#353;ka_CZ\02tyden_\04_mg p&#345;&#237;sp&#283;vek a FD vody.tif" TargetMode="External"/><Relationship Id="rId3" Type="http://schemas.openxmlformats.org/officeDocument/2006/relationships/hyperlink" Target="http://www.google.cz/imgres?q=ferromagnetic+transformation&amp;hl=cs&amp;biw=997&amp;bih=522&amp;tbm=isch&amp;tbnid=LhiQhsOSiBf0GM:&amp;imgrefurl=http://jpsj.ipap.jp/news/jpsj-nc_73.html&amp;docid=fJQ7kLWBc1mA3M&amp;w=250&amp;h=222&amp;ei=QfuSTsOzA4nU4QTP5_iFAQ&amp;zoom=1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z/imgres?q=energie+povrchu&amp;hl=cs&amp;sa=X&amp;biw=997&amp;bih=522&amp;tbm=isch&amp;prmd=imvns&amp;tbnid=onlm-lJt0mJFjM:&amp;imgrefurl=http://fyzweb.cz/clanky/index.php%3Fid%3D144&amp;docid=q0JtXT8ZJr_euM&amp;w=607&amp;h=416&amp;ei=wwOTTty1O-ig4gTK45C_AQ&amp;zoom=1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kof.zcu.cz/vusc/pg/termo09/termodynamics/phase/phase2.htm" TargetMode="External"/><Relationship Id="rId5" Type="http://schemas.openxmlformats.org/officeDocument/2006/relationships/hyperlink" Target="http://www.google.cz/imgres?q=entalpie+f&#225;zov&#233;ho+rozhran&#237;&amp;hl=cs&amp;biw=997&amp;bih=522&amp;tbm=isch&amp;tbnid=dlGBjdWMtN6XjM:&amp;imgrefurl=http://www.vscht.cz/fch/cz/vyzkum/equilibria.html&amp;docid=aZ3ciVfBsiVR8M&amp;w=72&amp;h=61&amp;ei=3AWTTtWgH-fj4QTloemoAQ&amp;zoom=1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3 Vybrané kapitoly pro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Binární směs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Základní termodynamika směsí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ermodynamika míšení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">
            <a:hlinkClick r:id="rId3"/>
          </p:cNvPr>
          <p:cNvSpPr/>
          <p:nvPr/>
        </p:nvSpPr>
        <p:spPr>
          <a:xfrm>
            <a:off x="7696080" y="205740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64780" h="21600">
                <a:moveTo>
                  <a:pt x="26863" y="3985"/>
                </a:moveTo>
                <a:lnTo>
                  <a:pt x="33861" y="3985"/>
                </a:lnTo>
                <a:lnTo>
                  <a:pt x="37917" y="7484"/>
                </a:lnTo>
                <a:lnTo>
                  <a:pt x="37917" y="17615"/>
                </a:lnTo>
                <a:lnTo>
                  <a:pt x="26863" y="17615"/>
                </a:lnTo>
                <a:close/>
              </a:path>
              <a:path fill="darken" w="64780" h="21600">
                <a:moveTo>
                  <a:pt x="33861" y="3985"/>
                </a:moveTo>
                <a:lnTo>
                  <a:pt x="37917" y="7484"/>
                </a:lnTo>
                <a:lnTo>
                  <a:pt x="33861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>
            <a:hlinkClick r:id="rId4"/>
          </p:cNvPr>
          <p:cNvSpPr/>
          <p:nvPr/>
        </p:nvSpPr>
        <p:spPr>
          <a:xfrm>
            <a:off x="7696080" y="25909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69104" h="21600">
                <a:moveTo>
                  <a:pt x="29025" y="3985"/>
                </a:moveTo>
                <a:lnTo>
                  <a:pt x="36023" y="3985"/>
                </a:lnTo>
                <a:lnTo>
                  <a:pt x="40079" y="7484"/>
                </a:lnTo>
                <a:lnTo>
                  <a:pt x="40079" y="17615"/>
                </a:lnTo>
                <a:lnTo>
                  <a:pt x="29025" y="17615"/>
                </a:lnTo>
                <a:close/>
              </a:path>
              <a:path fill="darken" w="69104" h="21600">
                <a:moveTo>
                  <a:pt x="36023" y="3985"/>
                </a:moveTo>
                <a:lnTo>
                  <a:pt x="40079" y="7484"/>
                </a:lnTo>
                <a:lnTo>
                  <a:pt x="36023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6172200"/>
            <a:ext cx="64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Zušková: Fyzikální chemie, Praha, Karlova univ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533520" y="3809880"/>
            <a:ext cx="81532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Proč vzniká fázová rovnováha?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5543280" cy="55436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562720" y="1295280"/>
            <a:ext cx="358128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Odmíšen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09480" y="1195560"/>
            <a:ext cx="800100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6576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Dvoufázová rovnováha kapalné fáz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0867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70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Spinoda a konoda (tie-line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6610320" cy="5329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3" name="">
            <a:hlinkClick r:id="rId2"/>
          </p:cNvPr>
          <p:cNvSpPr/>
          <p:nvPr/>
        </p:nvSpPr>
        <p:spPr>
          <a:xfrm>
            <a:off x="7772400" y="571500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0098" h="21600">
                <a:moveTo>
                  <a:pt x="14522" y="3985"/>
                </a:moveTo>
                <a:lnTo>
                  <a:pt x="21520" y="3985"/>
                </a:lnTo>
                <a:lnTo>
                  <a:pt x="25576" y="7484"/>
                </a:lnTo>
                <a:lnTo>
                  <a:pt x="25576" y="17615"/>
                </a:lnTo>
                <a:lnTo>
                  <a:pt x="14522" y="17615"/>
                </a:lnTo>
                <a:close/>
              </a:path>
              <a:path fill="darken" w="40098" h="21600">
                <a:moveTo>
                  <a:pt x="21520" y="3985"/>
                </a:moveTo>
                <a:lnTo>
                  <a:pt x="25576" y="7484"/>
                </a:lnTo>
                <a:lnTo>
                  <a:pt x="21520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0" y="50292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Příklad: Organické soustavy a polyme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Rovnováha liguid- gas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1692360" y="-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43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Jednoduchá destila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1692360" y="-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7150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ělitelnost směs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410080" cy="30366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78678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estilace - experimen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57819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FD etanol – vod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37396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datkové příspěvky k Gibbsově energii (magnetický příspěvek, povrch, …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rmodynamika jednoduchých směsí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Proč vznikají fázové rovnováhy 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Odmíšení (spinodální rozpad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Rovnováha kapalné a plynné fáz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49" name=""/>
          <p:cNvSpPr/>
          <p:nvPr/>
        </p:nvSpPr>
        <p:spPr>
          <a:xfrm>
            <a:off x="6403680" y="914400"/>
            <a:ext cx="19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4d4d4d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Výroba lihovi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0" name="ViewImage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3992760" cy="2994120"/>
          </a:xfrm>
          <a:prstGeom prst="rect">
            <a:avLst/>
          </a:prstGeom>
          <a:ln w="0">
            <a:noFill/>
          </a:ln>
        </p:spPr>
      </p:pic>
      <p:pic>
        <p:nvPicPr>
          <p:cNvPr id="251" name="jednokotl1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11480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03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Dodatkové příspěvky k Gibbsově energii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etický příspěv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">
            <a:hlinkClick r:id="rId2"/>
          </p:cNvPr>
          <p:cNvSpPr/>
          <p:nvPr/>
        </p:nvSpPr>
        <p:spPr>
          <a:xfrm>
            <a:off x="7467480" y="685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8520" y="183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8520" y="18381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5640" y="29988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981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Magnetismu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1676520"/>
            <a:ext cx="312408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Látky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Diamagnetické… nulový mg. Moment (C, Cu, S, H2O,..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Paramagnetické … vlastní mg. Moment (Al, Pt, Mg, O, bez mg. Pole uspořádání mizí)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Silný Paramagnetický efekt: Ferromagnetické (Fe, Co, Ni, Gd), Ferrimagnetické (ferrity, Oxidy Fe3+Tc=622stC))) uspořádání bez mg. Pole zůstává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Antiferromagnetické (střífání mg. Momentů) Cr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0" name="uspořádání%20domén" descr=""/>
          <p:cNvPicPr/>
          <p:nvPr/>
        </p:nvPicPr>
        <p:blipFill>
          <a:blip r:embed="rId4"/>
          <a:stretch/>
        </p:blipFill>
        <p:spPr>
          <a:xfrm>
            <a:off x="228600" y="2514600"/>
            <a:ext cx="5486400" cy="2664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14400" y="5486400"/>
            <a:ext cx="746748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Zrušení uspořádání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Currieho teplota: feromagnetic (nebo ferrimagnerické) – paramagnetické (Fe: Tc=768stC (1041K), Ni: Tc=358stC, Co: Tc=1130stC), Oxidy Fe3+ Tc=622stC))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Times New Roman"/>
              </a:rPr>
              <a:t>Neelova teplota: Antiferomagnetické  mění na paramagnetické, Cr: Tn=35st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etické vlastnost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">
            <a:hlinkClick r:id="rId2"/>
          </p:cNvPr>
          <p:cNvSpPr/>
          <p:nvPr/>
        </p:nvSpPr>
        <p:spPr>
          <a:xfrm>
            <a:off x="6094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8520" y="183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8520" y="18381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5640" y="29988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7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1371600"/>
            <a:ext cx="2590920" cy="2290680"/>
          </a:xfrm>
          <a:prstGeom prst="rect">
            <a:avLst/>
          </a:prstGeom>
          <a:ln w="0">
            <a:noFill/>
          </a:ln>
        </p:spPr>
      </p:pic>
      <p:pic>
        <p:nvPicPr>
          <p:cNvPr id="168" name="00314" descr=""/>
          <p:cNvPicPr/>
          <p:nvPr/>
        </p:nvPicPr>
        <p:blipFill>
          <a:blip r:embed="rId5"/>
          <a:stretch/>
        </p:blipFill>
        <p:spPr>
          <a:xfrm>
            <a:off x="380880" y="2133720"/>
            <a:ext cx="3581640" cy="2217600"/>
          </a:xfrm>
          <a:prstGeom prst="rect">
            <a:avLst/>
          </a:prstGeom>
          <a:ln w="0">
            <a:noFill/>
          </a:ln>
        </p:spPr>
      </p:pic>
      <p:pic>
        <p:nvPicPr>
          <p:cNvPr id="169" name="epl12802fig5" descr=""/>
          <p:cNvPicPr/>
          <p:nvPr/>
        </p:nvPicPr>
        <p:blipFill>
          <a:blip r:embed="rId6"/>
          <a:stretch/>
        </p:blipFill>
        <p:spPr>
          <a:xfrm>
            <a:off x="4495680" y="3730680"/>
            <a:ext cx="37339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Experimentaální TD data 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1" name="image_1309527580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124080" cy="2416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80880" y="1676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1600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G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4" name="MG%20entropy%20Gd" descr=""/>
          <p:cNvPicPr/>
          <p:nvPr/>
        </p:nvPicPr>
        <p:blipFill>
          <a:blip r:embed="rId3"/>
          <a:stretch/>
        </p:blipFill>
        <p:spPr>
          <a:xfrm>
            <a:off x="4572000" y="2133720"/>
            <a:ext cx="39924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9920" cy="4732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048120" y="5638680"/>
            <a:ext cx="571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g(</a:t>
            </a: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)…funkce jejíž tvar závisi na typu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T…teplota přechodu pro danou látku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Mg. Vlastnosti nanočástic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Nanočástice" descr=""/>
          <p:cNvPicPr/>
          <p:nvPr/>
        </p:nvPicPr>
        <p:blipFill>
          <a:blip r:embed="rId1"/>
          <a:stretch/>
        </p:blipFill>
        <p:spPr>
          <a:xfrm>
            <a:off x="838080" y="1611360"/>
            <a:ext cx="701064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vrchový příspěvek 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150192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01920" y="17859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89040" y="294624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762120"/>
            <a:ext cx="3097440" cy="2125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3352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Kritický polomě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388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880" y="1857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360" y="3017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73240" y="25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73240" y="25066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1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3200400"/>
            <a:ext cx="81108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480" y="4038480"/>
            <a:ext cx="72392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ovrchové nap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í i povrchová energie popisují stejný jev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mají i stejný rozm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r (N.m-1=J.m-2=kg.s-2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ermín „povrchové nap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í“ se pou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ž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ívá 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č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ast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ě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ji pr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kapalinová mezifází (LL,LG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„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ovrchová energie“ se pou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ž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ívá zejména p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ř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i popis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mezifází tvo</a:t>
            </a:r>
            <a:r>
              <a:rPr b="0" lang="en-US" sz="1600" spc="-1" strike="noStrike">
                <a:solidFill>
                  <a:srgbClr val="000066"/>
                </a:solidFill>
                <a:latin typeface="TimesNewRomanPSMT"/>
              </a:rPr>
              <a:t>ř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ícího povrch pevné látce (SS,SL,SG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3" name="dG" descr=""/>
          <p:cNvPicPr/>
          <p:nvPr/>
        </p:nvPicPr>
        <p:blipFill>
          <a:blip r:embed="rId7"/>
          <a:stretch/>
        </p:blipFill>
        <p:spPr>
          <a:xfrm>
            <a:off x="5638680" y="5334120"/>
            <a:ext cx="3154320" cy="92556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4786200" y="2967120"/>
            <a:ext cx="5562720" cy="360"/>
            <a:chOff x="4786200" y="2967120"/>
            <a:chExt cx="5562720" cy="360"/>
          </a:xfrm>
        </p:grpSpPr>
        <p:sp>
          <p:nvSpPr>
            <p:cNvPr id="195" name=""/>
            <p:cNvSpPr/>
            <p:nvPr/>
          </p:nvSpPr>
          <p:spPr>
            <a:xfrm>
              <a:off x="4786200" y="2967120"/>
              <a:ext cx="556272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4786200" y="2967120"/>
              <a:ext cx="5562720" cy="360"/>
              <a:chOff x="4786200" y="2967120"/>
              <a:chExt cx="5562720" cy="360"/>
            </a:xfrm>
          </p:grpSpPr>
          <p:sp>
            <p:nvSpPr>
              <p:cNvPr id="197" name=""/>
              <p:cNvSpPr/>
              <p:nvPr/>
            </p:nvSpPr>
            <p:spPr>
              <a:xfrm>
                <a:off x="4786200" y="2967120"/>
                <a:ext cx="55627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786200" y="2967120"/>
                <a:ext cx="55627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6248520" y="40384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rmodynamika povrchů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0" name="dw" descr=""/>
          <p:cNvPicPr/>
          <p:nvPr/>
        </p:nvPicPr>
        <p:blipFill>
          <a:blip r:embed="rId8"/>
          <a:stretch/>
        </p:blipFill>
        <p:spPr>
          <a:xfrm>
            <a:off x="6781680" y="4876920"/>
            <a:ext cx="1325520" cy="239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9"/>
          <a:stretch/>
        </p:blipFill>
        <p:spPr>
          <a:xfrm>
            <a:off x="914400" y="1447920"/>
            <a:ext cx="243828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01920" y="17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01920" y="17859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89040" y="294624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3880" y="18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360" y="3017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7" name="images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495680" cy="16365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073240" y="25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1447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máčecí energi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60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říspěvek energie hranic fáz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066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Mechanická rovnována na rozhraní fází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884920" y="3657600"/>
            <a:ext cx="2840040" cy="29955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4191120"/>
            <a:ext cx="4572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NewRomanPS-BoldMT"/>
              </a:rPr>
              <a:t>Gibbs-Thomsonova rovnice </a:t>
            </a:r>
            <a:r>
              <a:rPr b="0" lang="cs-CZ" sz="1600" spc="-1" strike="noStrike">
                <a:solidFill>
                  <a:srgbClr val="000066"/>
                </a:solidFill>
                <a:latin typeface="TimesNewRomanPSMT"/>
              </a:rPr>
              <a:t>umožňuje vypočítat přebyte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NewRomanPSMT"/>
              </a:rPr>
              <a:t>Gibbsovy energie, které malé částice (zrna) mají. Pro kulovité objekty v matrici platí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76520" y="5715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G=-2 V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5880" y="3048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Oswaldovo zrán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40080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Viz např: Pochody na fázových rozhraní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943600" y="2236680"/>
            <a:ext cx="251460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17T15:02:39Z</dcterms:modified>
  <cp:revision>60</cp:revision>
  <dc:subject/>
  <dc:title>C6730 Fázové rovnováhy</dc:title>
</cp:coreProperties>
</file>