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29.wmf" ContentType="image/x-wmf"/>
  <Override PartName="/ppt/media/image1.png" ContentType="image/png"/>
  <Override PartName="/ppt/media/image27.png" ContentType="image/png"/>
  <Override PartName="/ppt/media/image33.jpeg" ContentType="image/jpeg"/>
  <Override PartName="/ppt/media/image3.png" ContentType="image/png"/>
  <Override PartName="/ppt/media/image17.jpeg" ContentType="image/jpeg"/>
  <Override PartName="/ppt/media/image10.wmf" ContentType="image/x-wmf"/>
  <Override PartName="/ppt/media/image4.jpeg" ContentType="image/jpeg"/>
  <Override PartName="/ppt/media/image5.jpeg" ContentType="image/jpeg"/>
  <Override PartName="/ppt/media/image32.jpeg" ContentType="image/jpeg"/>
  <Override PartName="/ppt/media/image20.wmf" ContentType="image/x-wmf"/>
  <Override PartName="/ppt/media/image18.wmf" ContentType="image/x-wmf"/>
  <Override PartName="/ppt/media/image23.wmf" ContentType="image/x-wmf"/>
  <Override PartName="/ppt/media/image11.jpeg" ContentType="image/jpeg"/>
  <Override PartName="/ppt/media/image9.jpeg" ContentType="image/jpeg"/>
  <Override PartName="/ppt/media/image8.png" ContentType="image/png"/>
  <Override PartName="/ppt/media/image13.jpeg" ContentType="image/jpeg"/>
  <Override PartName="/ppt/media/image30.png" ContentType="image/png"/>
  <Override PartName="/ppt/media/image2.gif" ContentType="image/gif"/>
  <Override PartName="/ppt/media/image12.jpeg" ContentType="image/jpeg"/>
  <Override PartName="/ppt/media/image28.png" ContentType="image/png"/>
  <Override PartName="/ppt/media/image31.wmf" ContentType="image/x-wmf"/>
  <Override PartName="/ppt/media/image7.jpeg" ContentType="image/jpeg"/>
  <Override PartName="/ppt/media/image14.png" ContentType="image/png"/>
  <Override PartName="/ppt/media/image15.png" ContentType="image/png"/>
  <Override PartName="/ppt/media/image16.png" ContentType="image/png"/>
  <Override PartName="/ppt/media/image19.wmf" ContentType="image/x-wmf"/>
  <Override PartName="/ppt/media/image21.wmf" ContentType="image/x-wmf"/>
  <Override PartName="/ppt/media/image6.jpeg" ContentType="image/jpeg"/>
  <Override PartName="/ppt/media/image22.wmf" ContentType="image/x-wmf"/>
  <Override PartName="/ppt/media/image24.wmf" ContentType="image/x-wmf"/>
  <Override PartName="/ppt/media/image25.wmf" ContentType="image/x-wmf"/>
  <Override PartName="/ppt/media/image2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E370F-0873-4259-97F8-6A467726FB0C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hodnout termín a místo konání přednášky, seznam posluchačů (vč. jejich zaměření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hodnout termín a místo konání přednášky, seznam posluchačů (vč. jejich zaměření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hodnout termín a místo konání přednášky, seznam posluchačů (vč. jejich zaměření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F0916-5D33-42EF-BCA0-02C66E39B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EA33D-3FD8-47DC-92AF-83D2F694A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62B60-72F9-44D4-A588-E2522A182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947E8-197E-40E6-9B55-855EA186D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ED070-DAB5-4FDF-8CF7-3A882D4FA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AE5E1-6C33-4DDF-B2B2-BCD02863A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DCE38-2E0E-496F-B7C3-2BD90DEEF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E978E-FA68-493F-8540-26A5E436F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3BBA9-DBD3-49DC-AB92-473F6E0A3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B7D1E-6029-4830-BE46-F5ABDDB1B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0C2D3-C48B-4642-89AD-883AA8D25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726F7-25AB-4EE7-AA1C-8392010FF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F390F-1D02-4150-8F76-5E0DF7B17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AEEB9-A4BA-4A83-ACF3-9B74AA9CD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50529-F200-435E-9304-5C09CB14D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51766-75FE-4569-B2F4-3D27282B0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83CCB-2D9A-43EA-AEEA-1DD28EAE7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BACBC-00E1-4957-BE5D-97506E73D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FD547-2F4B-41EA-B28C-A45F25E56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2879F-8552-4701-AE07-178C2A1DE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B09A5-C572-4AF5-9632-4D60DE9CB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3E7FB-6733-4115-AE15-FDB3A075F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9CED7-34DB-4587-9A38-CA52DF477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EDE13-5E3A-45AA-A270-54B06772A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4d4d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39E6D-7642-41CE-8A08-7CF7F21E6CA5}" type="slidenum">
              <a:rPr b="0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9cc2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pic>
          <p:nvPicPr>
            <p:cNvPr id="99" name="BTZBUL1A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DF5C8-FC9A-489A-A3CA-C6795BD99C67}" type="slidenum">
              <a:rPr b="0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hyperlink" Target="D:\Vyuka\C6730 Term_FR\p&#345;edn&#225;&#353;ka_CZ\03tyden_jednoduch&#233; FD\Z&#225;kladn&#237; termodynamika sm&#283;s&#237;.pdf" TargetMode="External"/><Relationship Id="rId4" Type="http://schemas.openxmlformats.org/officeDocument/2006/relationships/hyperlink" Target="D:\Vyuka\C6730 Term_FR\p&#345;edn&#225;&#353;ka_CZ\03tyden_jednoduch&#233; FD\Termodynamika m&#237;sen&#237;.pdf" TargetMode="External"/><Relationship Id="rId5" Type="http://schemas.openxmlformats.org/officeDocument/2006/relationships/image" Target="../media/image20.wmf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hyperlink" Target="D:\Vyuka\C6730 Term_FR\p&#345;edn&#225;&#353;ka_CZ\03tyden_jednoduch&#233; FD\07_FR_p&#345;&#237;klady_polymery.tif" TargetMode="External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D:\Vyuka\C6730 Term_FR\p&#345;edn&#225;&#353;ka_CZ\02tyden_\04_mg p&#345;&#237;sp&#283;vek a FD vody.tif" TargetMode="External"/><Relationship Id="rId3" Type="http://schemas.openxmlformats.org/officeDocument/2006/relationships/hyperlink" Target="http://www.techmania.cz/edutorium/art_exponaty.php?xkat=fyzika&amp;xser=456c656b74f8696e612061206d61676e657469736d7573h&amp;key=444" TargetMode="Externa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D:\Vyuka\C6730 Term_FR\p&#345;edn&#225;&#353;ka_CZ\02tyden_\04_mg p&#345;&#237;sp&#283;vek a FD vody.tif" TargetMode="External"/><Relationship Id="rId3" Type="http://schemas.openxmlformats.org/officeDocument/2006/relationships/hyperlink" Target="http://www.google.cz/imgres?q=ferromagnetic+transformation&amp;hl=cs&amp;biw=997&amp;bih=522&amp;tbm=isch&amp;tbnid=LhiQhsOSiBf0GM:&amp;imgrefurl=http://jpsj.ipap.jp/news/jpsj-nc_73.html&amp;docid=fJQ7kLWBc1mA3M&amp;w=250&amp;h=222&amp;ei=QfuSTsOzA4nU4QTP5_iFAQ&amp;zoom=1" TargetMode="External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google.cz/imgres?q=energie+povrchu&amp;hl=cs&amp;sa=X&amp;biw=997&amp;bih=522&amp;tbm=isch&amp;prmd=imvns&amp;tbnid=onlm-lJt0mJFjM:&amp;imgrefurl=http://fyzweb.cz/clanky/index.php%3Fid%3D144&amp;docid=q0JtXT8ZJr_euM&amp;w=607&amp;h=416&amp;ei=wwOTTty1O-ig4gTK45C_AQ&amp;zoom=1" TargetMode="External"/><Relationship Id="rId3" Type="http://schemas.openxmlformats.org/officeDocument/2006/relationships/image" Target="../media/image12.jpeg"/><Relationship Id="rId4" Type="http://schemas.openxmlformats.org/officeDocument/2006/relationships/hyperlink" Target="http://kof.zcu.cz/vusc/pg/termo09/termodynamics/phase/phase2.htm" TargetMode="External"/><Relationship Id="rId5" Type="http://schemas.openxmlformats.org/officeDocument/2006/relationships/hyperlink" Target="http://www.google.cz/imgres?q=entalpie+f&#225;zov&#233;ho+rozhran&#237;&amp;hl=cs&amp;biw=997&amp;bih=522&amp;tbm=isch&amp;tbnid=dlGBjdWMtN6XjM:&amp;imgrefurl=http://www.vscht.cz/fch/cz/vyzkum/equilibria.html&amp;docid=aZ3ciVfBsiVR8M&amp;w=72&amp;h=61&amp;ei=3AWTTtWgH-fj4QTloemoAQ&amp;zoom=1" TargetMode="External"/><Relationship Id="rId6" Type="http://schemas.openxmlformats.org/officeDocument/2006/relationships/image" Target="../media/image13.jpe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6730 Fázové rovnováhy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143000" y="198072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P03 Vybrané kapitoly pro FR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oc. Jiří Sopoušek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Binární směsi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6324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Základní termodynamika směsí 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ermodynamika míšení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0" name="">
            <a:hlinkClick r:id="rId3"/>
          </p:cNvPr>
          <p:cNvSpPr/>
          <p:nvPr/>
        </p:nvSpPr>
        <p:spPr>
          <a:xfrm>
            <a:off x="7696080" y="2057400"/>
            <a:ext cx="1143000" cy="380880"/>
          </a:xfrm>
          <a:custGeom>
            <a:avLst/>
            <a:gdLst>
              <a:gd name="textAreaLeft" fmla="*/ 24480 w 1143000"/>
              <a:gd name="textAreaRight" fmla="*/ 1118520 w 1143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64780" h="21600">
                <a:moveTo>
                  <a:pt x="0" y="0"/>
                </a:moveTo>
                <a:lnTo>
                  <a:pt x="64780" y="0"/>
                </a:lnTo>
                <a:lnTo>
                  <a:pt x="64780" y="21600"/>
                </a:lnTo>
                <a:lnTo>
                  <a:pt x="0" y="21600"/>
                </a:lnTo>
                <a:close/>
              </a:path>
              <a:path fill="lightenLess" w="64780" h="21600">
                <a:moveTo>
                  <a:pt x="0" y="0"/>
                </a:moveTo>
                <a:lnTo>
                  <a:pt x="64780" y="0"/>
                </a:lnTo>
                <a:lnTo>
                  <a:pt x="63380" y="1400"/>
                </a:lnTo>
                <a:lnTo>
                  <a:pt x="1400" y="1400"/>
                </a:lnTo>
                <a:close/>
              </a:path>
              <a:path fill="darken" w="64780" h="21600">
                <a:moveTo>
                  <a:pt x="64780" y="0"/>
                </a:moveTo>
                <a:lnTo>
                  <a:pt x="64780" y="21600"/>
                </a:lnTo>
                <a:lnTo>
                  <a:pt x="63380" y="20200"/>
                </a:lnTo>
                <a:lnTo>
                  <a:pt x="63380" y="1400"/>
                </a:lnTo>
                <a:close/>
              </a:path>
              <a:path fill="darkenLess" w="64780" h="21600">
                <a:moveTo>
                  <a:pt x="647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80" y="20200"/>
                </a:lnTo>
                <a:close/>
              </a:path>
              <a:path fill="lighten" w="647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64780" h="21600">
                <a:moveTo>
                  <a:pt x="26863" y="3985"/>
                </a:moveTo>
                <a:lnTo>
                  <a:pt x="33861" y="3985"/>
                </a:lnTo>
                <a:lnTo>
                  <a:pt x="37917" y="7484"/>
                </a:lnTo>
                <a:lnTo>
                  <a:pt x="37917" y="17615"/>
                </a:lnTo>
                <a:lnTo>
                  <a:pt x="26863" y="17615"/>
                </a:lnTo>
                <a:close/>
              </a:path>
              <a:path fill="darken" w="64780" h="21600">
                <a:moveTo>
                  <a:pt x="33861" y="3985"/>
                </a:moveTo>
                <a:lnTo>
                  <a:pt x="37917" y="7484"/>
                </a:lnTo>
                <a:lnTo>
                  <a:pt x="33861" y="7484"/>
                </a:lnTo>
                <a:close/>
              </a:path>
            </a:pathLst>
          </a:custGeom>
          <a:solidFill>
            <a:srgbClr val="26d2e4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1" name="">
            <a:hlinkClick r:id="rId4"/>
          </p:cNvPr>
          <p:cNvSpPr/>
          <p:nvPr/>
        </p:nvSpPr>
        <p:spPr>
          <a:xfrm>
            <a:off x="7696080" y="2590920"/>
            <a:ext cx="1219320" cy="380880"/>
          </a:xfrm>
          <a:custGeom>
            <a:avLst/>
            <a:gdLst>
              <a:gd name="textAreaLeft" fmla="*/ 24480 w 1219320"/>
              <a:gd name="textAreaRight" fmla="*/ 1194840 w 12193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69104" h="21600">
                <a:moveTo>
                  <a:pt x="0" y="0"/>
                </a:moveTo>
                <a:lnTo>
                  <a:pt x="69104" y="0"/>
                </a:lnTo>
                <a:lnTo>
                  <a:pt x="69104" y="21600"/>
                </a:lnTo>
                <a:lnTo>
                  <a:pt x="0" y="21600"/>
                </a:lnTo>
                <a:close/>
              </a:path>
              <a:path fill="lightenLess" w="69104" h="21600">
                <a:moveTo>
                  <a:pt x="0" y="0"/>
                </a:moveTo>
                <a:lnTo>
                  <a:pt x="69104" y="0"/>
                </a:lnTo>
                <a:lnTo>
                  <a:pt x="67704" y="1400"/>
                </a:lnTo>
                <a:lnTo>
                  <a:pt x="1400" y="1400"/>
                </a:lnTo>
                <a:close/>
              </a:path>
              <a:path fill="darken" w="69104" h="21600">
                <a:moveTo>
                  <a:pt x="69104" y="0"/>
                </a:moveTo>
                <a:lnTo>
                  <a:pt x="69104" y="21600"/>
                </a:lnTo>
                <a:lnTo>
                  <a:pt x="67704" y="20200"/>
                </a:lnTo>
                <a:lnTo>
                  <a:pt x="67704" y="1400"/>
                </a:lnTo>
                <a:close/>
              </a:path>
              <a:path fill="darkenLess" w="69104" h="21600">
                <a:moveTo>
                  <a:pt x="691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7704" y="20200"/>
                </a:lnTo>
                <a:close/>
              </a:path>
              <a:path fill="lighten" w="691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69104" h="21600">
                <a:moveTo>
                  <a:pt x="29025" y="3985"/>
                </a:moveTo>
                <a:lnTo>
                  <a:pt x="36023" y="3985"/>
                </a:lnTo>
                <a:lnTo>
                  <a:pt x="40079" y="7484"/>
                </a:lnTo>
                <a:lnTo>
                  <a:pt x="40079" y="17615"/>
                </a:lnTo>
                <a:lnTo>
                  <a:pt x="29025" y="17615"/>
                </a:lnTo>
                <a:close/>
              </a:path>
              <a:path fill="darken" w="69104" h="21600">
                <a:moveTo>
                  <a:pt x="36023" y="3985"/>
                </a:moveTo>
                <a:lnTo>
                  <a:pt x="40079" y="7484"/>
                </a:lnTo>
                <a:lnTo>
                  <a:pt x="36023" y="7484"/>
                </a:lnTo>
                <a:close/>
              </a:path>
            </a:pathLst>
          </a:custGeom>
          <a:solidFill>
            <a:srgbClr val="26d2e4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523880" y="6172200"/>
            <a:ext cx="640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66"/>
                </a:solidFill>
                <a:latin typeface="Times New Roman"/>
              </a:rPr>
              <a:t>Zušková: Fyzikální chemie, Praha, Karlova univ.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5"/>
          <a:stretch/>
        </p:blipFill>
        <p:spPr>
          <a:xfrm>
            <a:off x="533520" y="3809880"/>
            <a:ext cx="815328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22788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Proč vzniká fázová rovnováha?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304920" y="1066680"/>
            <a:ext cx="5543280" cy="554364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5562720" y="1295280"/>
            <a:ext cx="3581280" cy="11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Odmíšení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609480" y="1195560"/>
            <a:ext cx="8001000" cy="527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36576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 Black"/>
              </a:rPr>
              <a:t>Dvoufázová rovnováha kapalné fáze</a:t>
            </a:r>
            <a:endParaRPr b="0" lang="en-US" sz="2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9086760" cy="497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47016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d4d4d"/>
                </a:solidFill>
                <a:latin typeface="Arial Black"/>
              </a:rPr>
              <a:t>Spinoda a konoda (tie-line)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228600" y="1295280"/>
            <a:ext cx="6610320" cy="53294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233" name="">
            <a:hlinkClick r:id="rId2"/>
          </p:cNvPr>
          <p:cNvSpPr/>
          <p:nvPr/>
        </p:nvSpPr>
        <p:spPr>
          <a:xfrm>
            <a:off x="7772400" y="5715000"/>
            <a:ext cx="990720" cy="533520"/>
          </a:xfrm>
          <a:custGeom>
            <a:avLst/>
            <a:gdLst>
              <a:gd name="textAreaLeft" fmla="*/ 34560 w 990720"/>
              <a:gd name="textAreaRight" fmla="*/ 956160 w 9907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40098" h="21600">
                <a:moveTo>
                  <a:pt x="0" y="0"/>
                </a:moveTo>
                <a:lnTo>
                  <a:pt x="40098" y="0"/>
                </a:lnTo>
                <a:lnTo>
                  <a:pt x="40098" y="21600"/>
                </a:lnTo>
                <a:lnTo>
                  <a:pt x="0" y="21600"/>
                </a:lnTo>
                <a:close/>
              </a:path>
              <a:path fill="lightenLess" w="40098" h="21600">
                <a:moveTo>
                  <a:pt x="0" y="0"/>
                </a:moveTo>
                <a:lnTo>
                  <a:pt x="40098" y="0"/>
                </a:lnTo>
                <a:lnTo>
                  <a:pt x="38698" y="1400"/>
                </a:lnTo>
                <a:lnTo>
                  <a:pt x="1400" y="1400"/>
                </a:lnTo>
                <a:close/>
              </a:path>
              <a:path fill="darken" w="40098" h="21600">
                <a:moveTo>
                  <a:pt x="40098" y="0"/>
                </a:moveTo>
                <a:lnTo>
                  <a:pt x="40098" y="21600"/>
                </a:lnTo>
                <a:lnTo>
                  <a:pt x="38698" y="20200"/>
                </a:lnTo>
                <a:lnTo>
                  <a:pt x="38698" y="1400"/>
                </a:lnTo>
                <a:close/>
              </a:path>
              <a:path fill="darkenLess" w="40098" h="21600">
                <a:moveTo>
                  <a:pt x="400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698" y="20200"/>
                </a:lnTo>
                <a:close/>
              </a:path>
              <a:path fill="lighten" w="400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40098" h="21600">
                <a:moveTo>
                  <a:pt x="14522" y="3985"/>
                </a:moveTo>
                <a:lnTo>
                  <a:pt x="21520" y="3985"/>
                </a:lnTo>
                <a:lnTo>
                  <a:pt x="25576" y="7484"/>
                </a:lnTo>
                <a:lnTo>
                  <a:pt x="25576" y="17615"/>
                </a:lnTo>
                <a:lnTo>
                  <a:pt x="14522" y="17615"/>
                </a:lnTo>
                <a:close/>
              </a:path>
              <a:path fill="darken" w="40098" h="21600">
                <a:moveTo>
                  <a:pt x="21520" y="3985"/>
                </a:moveTo>
                <a:lnTo>
                  <a:pt x="25576" y="7484"/>
                </a:lnTo>
                <a:lnTo>
                  <a:pt x="21520" y="7484"/>
                </a:lnTo>
                <a:close/>
              </a:path>
            </a:pathLst>
          </a:custGeom>
          <a:solidFill>
            <a:srgbClr val="26d2e4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858000" y="50292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Příklad: Organické soustavy a polymery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Rovnováha liguid- gas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36" name=""/>
          <p:cNvSpPr/>
          <p:nvPr/>
        </p:nvSpPr>
        <p:spPr>
          <a:xfrm>
            <a:off x="1692360" y="-61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838080" y="1600200"/>
            <a:ext cx="7543800" cy="457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Jednoduchá destilac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39" name=""/>
          <p:cNvSpPr/>
          <p:nvPr/>
        </p:nvSpPr>
        <p:spPr>
          <a:xfrm>
            <a:off x="1692360" y="-61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1600200" y="1905120"/>
            <a:ext cx="5715000" cy="41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303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Dělitelnost směsí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1828800" y="990720"/>
            <a:ext cx="5410080" cy="303660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609480" y="4495680"/>
            <a:ext cx="7867800" cy="19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09480" y="2271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Destilace - experimen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1752480" y="990720"/>
            <a:ext cx="578196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FD etanol – voda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533520" y="1828800"/>
            <a:ext cx="8373960" cy="43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240" y="39456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 Black"/>
              </a:rPr>
              <a:t>Osnova dnešní přednášky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1654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Arial"/>
              </a:rPr>
              <a:t>Dodatkové příspěvky k Gibbsově energii (magnetický příspěvek, povrch, …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654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Arial"/>
              </a:rPr>
              <a:t>Termodynamika jednoduchých směsí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654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Arial"/>
              </a:rPr>
              <a:t>Proč vznikají fázové rovnováhy ?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654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Arial"/>
              </a:rPr>
              <a:t>Odmíšení (spinodální rozpad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654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Arial"/>
              </a:rPr>
              <a:t>Rovnováha kapalné a plynné fáz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6546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Arial"/>
              </a:rPr>
              <a:t>Diskuse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Diskus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49" name=""/>
          <p:cNvSpPr/>
          <p:nvPr/>
        </p:nvSpPr>
        <p:spPr>
          <a:xfrm>
            <a:off x="6403680" y="914400"/>
            <a:ext cx="197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4d4d4d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 Black"/>
              </a:rPr>
              <a:t>Výroba lihovin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50" name="ViewImage" descr=""/>
          <p:cNvPicPr/>
          <p:nvPr/>
        </p:nvPicPr>
        <p:blipFill>
          <a:blip r:embed="rId1"/>
          <a:stretch/>
        </p:blipFill>
        <p:spPr>
          <a:xfrm>
            <a:off x="380880" y="3124080"/>
            <a:ext cx="3992760" cy="2994120"/>
          </a:xfrm>
          <a:prstGeom prst="rect">
            <a:avLst/>
          </a:prstGeom>
          <a:ln w="0">
            <a:noFill/>
          </a:ln>
        </p:spPr>
      </p:pic>
      <p:pic>
        <p:nvPicPr>
          <p:cNvPr id="251" name="jednokotl1" descr=""/>
          <p:cNvPicPr/>
          <p:nvPr/>
        </p:nvPicPr>
        <p:blipFill>
          <a:blip r:embed="rId2"/>
          <a:stretch/>
        </p:blipFill>
        <p:spPr>
          <a:xfrm>
            <a:off x="4495680" y="1523880"/>
            <a:ext cx="4114800" cy="30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9036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4d4d4d"/>
                </a:solidFill>
                <a:latin typeface="Arial Black"/>
              </a:rPr>
              <a:t>Dodatkové příspěvky k Gibbsově energii</a:t>
            </a:r>
            <a:endParaRPr b="0" lang="en-US" sz="36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Magnetický příspěvek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4" name="">
            <a:hlinkClick r:id="rId2"/>
          </p:cNvPr>
          <p:cNvSpPr/>
          <p:nvPr/>
        </p:nvSpPr>
        <p:spPr>
          <a:xfrm>
            <a:off x="7467480" y="68580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21607" h="21600">
                <a:moveTo>
                  <a:pt x="5277" y="3985"/>
                </a:moveTo>
                <a:lnTo>
                  <a:pt x="12275" y="3985"/>
                </a:lnTo>
                <a:lnTo>
                  <a:pt x="16331" y="7484"/>
                </a:lnTo>
                <a:lnTo>
                  <a:pt x="16331" y="17615"/>
                </a:lnTo>
                <a:lnTo>
                  <a:pt x="5277" y="17615"/>
                </a:lnTo>
                <a:close/>
              </a:path>
              <a:path fill="darken" w="21607" h="21600">
                <a:moveTo>
                  <a:pt x="12275" y="3985"/>
                </a:moveTo>
                <a:lnTo>
                  <a:pt x="16331" y="7484"/>
                </a:lnTo>
                <a:lnTo>
                  <a:pt x="12275" y="7484"/>
                </a:lnTo>
                <a:close/>
              </a:path>
            </a:pathLst>
          </a:custGeom>
          <a:solidFill>
            <a:srgbClr val="26d2e4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98520" y="1838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8520" y="1838160"/>
            <a:ext cx="18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85640" y="2998800"/>
            <a:ext cx="97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85800" y="19810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66"/>
                </a:solidFill>
                <a:uFillTx/>
                <a:latin typeface="Times New Roman"/>
                <a:hlinkClick r:id="rId3"/>
              </a:rPr>
              <a:t>Magnetismu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15000" y="1676520"/>
            <a:ext cx="3124080" cy="33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66"/>
                </a:solidFill>
                <a:latin typeface="Times New Roman"/>
              </a:rPr>
              <a:t>Látky: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66"/>
                </a:solidFill>
                <a:latin typeface="Times New Roman"/>
              </a:rPr>
              <a:t>Diamagnetické… nulový mg. Moment (C, Cu, S, H2O,..)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66"/>
                </a:solidFill>
                <a:latin typeface="Times New Roman"/>
              </a:rPr>
              <a:t>Paramagnetické … vlastní mg. Moment (Al, Pt, Mg, O, bez mg. Pole uspořádání mizí) 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66"/>
                </a:solidFill>
                <a:latin typeface="Times New Roman"/>
              </a:rPr>
              <a:t>Silný Paramagnetický efekt: Ferromagnetické (Fe, Co, Ni, Gd), Ferrimagnetické (ferrity, Oxidy Fe3+Tc=622stC))) uspořádání bez mg. Pole zůstává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66"/>
                </a:solidFill>
                <a:latin typeface="Times New Roman"/>
              </a:rPr>
              <a:t>Antiferromagnetické (střífání mg. Momentů) Cr.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60" name="uspořádání%20domén" descr=""/>
          <p:cNvPicPr/>
          <p:nvPr/>
        </p:nvPicPr>
        <p:blipFill>
          <a:blip r:embed="rId4"/>
          <a:stretch/>
        </p:blipFill>
        <p:spPr>
          <a:xfrm>
            <a:off x="228600" y="2514600"/>
            <a:ext cx="5486400" cy="266400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914400" y="5486400"/>
            <a:ext cx="7467480" cy="11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66"/>
                </a:solidFill>
                <a:latin typeface="Times New Roman"/>
              </a:rPr>
              <a:t>Zrušení uspořádání: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66"/>
                </a:solidFill>
                <a:latin typeface="Times New Roman"/>
              </a:rPr>
              <a:t>Currieho teplota: feromagnetic (nebo ferrimagnerické) – paramagnetické (Fe: Tc=768stC (1041K), Ni: Tc=358stC, Co: Tc=1130stC), Oxidy Fe3+ Tc=622stC)) 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66"/>
                </a:solidFill>
                <a:latin typeface="Times New Roman"/>
              </a:rPr>
              <a:t>Neelova teplota: Antiferomagnetické  mění na paramagnetické, Cr: Tn=35stC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30492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Magnetické vlastnosti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3" name="">
            <a:hlinkClick r:id="rId2"/>
          </p:cNvPr>
          <p:cNvSpPr/>
          <p:nvPr/>
        </p:nvSpPr>
        <p:spPr>
          <a:xfrm>
            <a:off x="609480" y="510552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21607" h="21600">
                <a:moveTo>
                  <a:pt x="5277" y="3985"/>
                </a:moveTo>
                <a:lnTo>
                  <a:pt x="12275" y="3985"/>
                </a:lnTo>
                <a:lnTo>
                  <a:pt x="16331" y="7484"/>
                </a:lnTo>
                <a:lnTo>
                  <a:pt x="16331" y="17615"/>
                </a:lnTo>
                <a:lnTo>
                  <a:pt x="5277" y="17615"/>
                </a:lnTo>
                <a:close/>
              </a:path>
              <a:path fill="darken" w="21607" h="21600">
                <a:moveTo>
                  <a:pt x="12275" y="3985"/>
                </a:moveTo>
                <a:lnTo>
                  <a:pt x="16331" y="7484"/>
                </a:lnTo>
                <a:lnTo>
                  <a:pt x="12275" y="7484"/>
                </a:lnTo>
                <a:close/>
              </a:path>
            </a:pathLst>
          </a:custGeom>
          <a:solidFill>
            <a:srgbClr val="26d2e4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98520" y="1838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98520" y="1838160"/>
            <a:ext cx="18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85640" y="2998800"/>
            <a:ext cx="97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67" name="images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029200" y="1371600"/>
            <a:ext cx="2590920" cy="2290680"/>
          </a:xfrm>
          <a:prstGeom prst="rect">
            <a:avLst/>
          </a:prstGeom>
          <a:ln w="0">
            <a:noFill/>
          </a:ln>
        </p:spPr>
      </p:pic>
      <p:pic>
        <p:nvPicPr>
          <p:cNvPr id="168" name="00314" descr=""/>
          <p:cNvPicPr/>
          <p:nvPr/>
        </p:nvPicPr>
        <p:blipFill>
          <a:blip r:embed="rId5"/>
          <a:stretch/>
        </p:blipFill>
        <p:spPr>
          <a:xfrm>
            <a:off x="380880" y="2133720"/>
            <a:ext cx="3581640" cy="2217600"/>
          </a:xfrm>
          <a:prstGeom prst="rect">
            <a:avLst/>
          </a:prstGeom>
          <a:ln w="0">
            <a:noFill/>
          </a:ln>
        </p:spPr>
      </p:pic>
      <p:pic>
        <p:nvPicPr>
          <p:cNvPr id="169" name="epl12802fig5" descr=""/>
          <p:cNvPicPr/>
          <p:nvPr/>
        </p:nvPicPr>
        <p:blipFill>
          <a:blip r:embed="rId6"/>
          <a:stretch/>
        </p:blipFill>
        <p:spPr>
          <a:xfrm>
            <a:off x="4495680" y="3730680"/>
            <a:ext cx="3733920" cy="28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53352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Experimentaální TD data :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71" name="image_1309527580" descr=""/>
          <p:cNvPicPr/>
          <p:nvPr/>
        </p:nvPicPr>
        <p:blipFill>
          <a:blip r:embed="rId2"/>
          <a:stretch/>
        </p:blipFill>
        <p:spPr>
          <a:xfrm>
            <a:off x="533520" y="2438280"/>
            <a:ext cx="3124080" cy="241632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380880" y="1676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Fe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419720" y="16002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Gd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74" name="MG%20entropy%20Gd" descr=""/>
          <p:cNvPicPr/>
          <p:nvPr/>
        </p:nvPicPr>
        <p:blipFill>
          <a:blip r:embed="rId3"/>
          <a:stretch/>
        </p:blipFill>
        <p:spPr>
          <a:xfrm>
            <a:off x="4572000" y="2133720"/>
            <a:ext cx="3992400" cy="321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62120" y="838080"/>
            <a:ext cx="7549920" cy="473256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3048120" y="5638680"/>
            <a:ext cx="5715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g(</a:t>
            </a:r>
            <a:r>
              <a:rPr b="0" lang="cs-CZ" sz="2400" spc="-1" strike="noStrike">
                <a:solidFill>
                  <a:srgbClr val="000066"/>
                </a:solidFill>
                <a:latin typeface="Symbol"/>
                <a:ea typeface="Symbol"/>
              </a:rPr>
              <a:t></a:t>
            </a: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)…funkce jejíž tvar závisi na typu fáze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T…teplota přechodu pro danou látku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Mg. Vlastnosti nanočástic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79" name="Nanočástice" descr=""/>
          <p:cNvPicPr/>
          <p:nvPr/>
        </p:nvPicPr>
        <p:blipFill>
          <a:blip r:embed="rId1"/>
          <a:stretch/>
        </p:blipFill>
        <p:spPr>
          <a:xfrm>
            <a:off x="838080" y="1611360"/>
            <a:ext cx="7010640" cy="486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Povrchový příspěvek </a:t>
            </a:r>
            <a:endParaRPr b="0" lang="en-US" sz="2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81" name=""/>
          <p:cNvSpPr/>
          <p:nvPr/>
        </p:nvSpPr>
        <p:spPr>
          <a:xfrm>
            <a:off x="1501920" y="1785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501920" y="1785960"/>
            <a:ext cx="18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589040" y="2946240"/>
            <a:ext cx="97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84" name="images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181480" y="762120"/>
            <a:ext cx="3097440" cy="212544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990720" y="335268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66"/>
                </a:solidFill>
                <a:uFillTx/>
                <a:latin typeface="Times New Roman"/>
                <a:hlinkClick r:id="rId4"/>
              </a:rPr>
              <a:t>Kritický poloměr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53880" y="1857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53880" y="1857240"/>
            <a:ext cx="18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41360" y="3017880"/>
            <a:ext cx="93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073240" y="2506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073240" y="2506680"/>
            <a:ext cx="18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91" name="images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400800" y="3200400"/>
            <a:ext cx="811080" cy="6858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609480" y="4038480"/>
            <a:ext cx="7239240" cy="218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ahoma"/>
              </a:rPr>
              <a:t>Povrchové nap</a:t>
            </a:r>
            <a:r>
              <a:rPr b="0" lang="en-US" sz="1600" spc="-1" strike="noStrike">
                <a:solidFill>
                  <a:srgbClr val="000066"/>
                </a:solidFill>
                <a:latin typeface="TimesNewRomanPSMT"/>
              </a:rPr>
              <a:t>ě</a:t>
            </a:r>
            <a:r>
              <a:rPr b="0" lang="en-US" sz="1600" spc="-1" strike="noStrike">
                <a:solidFill>
                  <a:srgbClr val="000066"/>
                </a:solidFill>
                <a:latin typeface="Tahoma"/>
              </a:rPr>
              <a:t>tí i povrchová energie popisují stejný jev a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ahoma"/>
              </a:rPr>
              <a:t>mají i stejný rozm</a:t>
            </a:r>
            <a:r>
              <a:rPr b="0" lang="en-US" sz="1600" spc="-1" strike="noStrike">
                <a:solidFill>
                  <a:srgbClr val="000066"/>
                </a:solidFill>
                <a:latin typeface="TimesNewRomanPSMT"/>
              </a:rPr>
              <a:t>ě</a:t>
            </a:r>
            <a:r>
              <a:rPr b="0" lang="en-US" sz="1600" spc="-1" strike="noStrike">
                <a:solidFill>
                  <a:srgbClr val="000066"/>
                </a:solidFill>
                <a:latin typeface="Tahoma"/>
              </a:rPr>
              <a:t>r (N.m-1=J.m-2=kg.s-2)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ahoma"/>
              </a:rPr>
              <a:t>Termín „povrchové nap</a:t>
            </a:r>
            <a:r>
              <a:rPr b="0" lang="en-US" sz="1600" spc="-1" strike="noStrike">
                <a:solidFill>
                  <a:srgbClr val="000066"/>
                </a:solidFill>
                <a:latin typeface="TimesNewRomanPSMT"/>
              </a:rPr>
              <a:t>ě</a:t>
            </a:r>
            <a:r>
              <a:rPr b="0" lang="en-US" sz="1600" spc="-1" strike="noStrike">
                <a:solidFill>
                  <a:srgbClr val="000066"/>
                </a:solidFill>
                <a:latin typeface="Tahoma"/>
              </a:rPr>
              <a:t>tí“ se pou</a:t>
            </a:r>
            <a:r>
              <a:rPr b="0" lang="en-US" sz="1600" spc="-1" strike="noStrike">
                <a:solidFill>
                  <a:srgbClr val="000066"/>
                </a:solidFill>
                <a:latin typeface="TimesNewRomanPSMT"/>
              </a:rPr>
              <a:t>ž</a:t>
            </a:r>
            <a:r>
              <a:rPr b="0" lang="en-US" sz="1600" spc="-1" strike="noStrike">
                <a:solidFill>
                  <a:srgbClr val="000066"/>
                </a:solidFill>
                <a:latin typeface="Tahoma"/>
              </a:rPr>
              <a:t>ívá </a:t>
            </a:r>
            <a:r>
              <a:rPr b="0" lang="en-US" sz="1600" spc="-1" strike="noStrike">
                <a:solidFill>
                  <a:srgbClr val="000066"/>
                </a:solidFill>
                <a:latin typeface="TimesNewRomanPSMT"/>
              </a:rPr>
              <a:t>č</a:t>
            </a:r>
            <a:r>
              <a:rPr b="0" lang="en-US" sz="1600" spc="-1" strike="noStrike">
                <a:solidFill>
                  <a:srgbClr val="000066"/>
                </a:solidFill>
                <a:latin typeface="Tahoma"/>
              </a:rPr>
              <a:t>ast</a:t>
            </a:r>
            <a:r>
              <a:rPr b="0" lang="en-US" sz="1600" spc="-1" strike="noStrike">
                <a:solidFill>
                  <a:srgbClr val="000066"/>
                </a:solidFill>
                <a:latin typeface="TimesNewRomanPSMT"/>
              </a:rPr>
              <a:t>ě</a:t>
            </a:r>
            <a:r>
              <a:rPr b="0" lang="en-US" sz="1600" spc="-1" strike="noStrike">
                <a:solidFill>
                  <a:srgbClr val="000066"/>
                </a:solidFill>
                <a:latin typeface="Tahoma"/>
              </a:rPr>
              <a:t>ji pro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ahoma"/>
              </a:rPr>
              <a:t>kapalinová mezifází (LL,LG)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ahoma"/>
              </a:rPr>
              <a:t>„</a:t>
            </a:r>
            <a:r>
              <a:rPr b="0" lang="en-US" sz="1600" spc="-1" strike="noStrike">
                <a:solidFill>
                  <a:srgbClr val="000066"/>
                </a:solidFill>
                <a:latin typeface="Tahoma"/>
              </a:rPr>
              <a:t>Povrchová energie“ se pou</a:t>
            </a:r>
            <a:r>
              <a:rPr b="0" lang="en-US" sz="1600" spc="-1" strike="noStrike">
                <a:solidFill>
                  <a:srgbClr val="000066"/>
                </a:solidFill>
                <a:latin typeface="TimesNewRomanPSMT"/>
              </a:rPr>
              <a:t>ž</a:t>
            </a:r>
            <a:r>
              <a:rPr b="0" lang="en-US" sz="1600" spc="-1" strike="noStrike">
                <a:solidFill>
                  <a:srgbClr val="000066"/>
                </a:solidFill>
                <a:latin typeface="Tahoma"/>
              </a:rPr>
              <a:t>ívá zejména p</a:t>
            </a:r>
            <a:r>
              <a:rPr b="0" lang="en-US" sz="1600" spc="-1" strike="noStrike">
                <a:solidFill>
                  <a:srgbClr val="000066"/>
                </a:solidFill>
                <a:latin typeface="TimesNewRomanPSMT"/>
              </a:rPr>
              <a:t>ř</a:t>
            </a:r>
            <a:r>
              <a:rPr b="0" lang="en-US" sz="1600" spc="-1" strike="noStrike">
                <a:solidFill>
                  <a:srgbClr val="000066"/>
                </a:solidFill>
                <a:latin typeface="Tahoma"/>
              </a:rPr>
              <a:t>i popisu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ahoma"/>
              </a:rPr>
              <a:t>mezifází tvo</a:t>
            </a:r>
            <a:r>
              <a:rPr b="0" lang="en-US" sz="1600" spc="-1" strike="noStrike">
                <a:solidFill>
                  <a:srgbClr val="000066"/>
                </a:solidFill>
                <a:latin typeface="TimesNewRomanPSMT"/>
              </a:rPr>
              <a:t>ř</a:t>
            </a:r>
            <a:r>
              <a:rPr b="0" lang="en-US" sz="1600" spc="-1" strike="noStrike">
                <a:solidFill>
                  <a:srgbClr val="000066"/>
                </a:solidFill>
                <a:latin typeface="Tahoma"/>
              </a:rPr>
              <a:t>ícího povrch pevné látce (SS,SL,SG)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93" name="dG" descr=""/>
          <p:cNvPicPr/>
          <p:nvPr/>
        </p:nvPicPr>
        <p:blipFill>
          <a:blip r:embed="rId7"/>
          <a:stretch/>
        </p:blipFill>
        <p:spPr>
          <a:xfrm>
            <a:off x="5638680" y="5334120"/>
            <a:ext cx="3154320" cy="925560"/>
          </a:xfrm>
          <a:prstGeom prst="rect">
            <a:avLst/>
          </a:prstGeom>
          <a:ln w="0">
            <a:noFill/>
          </a:ln>
        </p:spPr>
      </p:pic>
      <p:grpSp>
        <p:nvGrpSpPr>
          <p:cNvPr id="194" name=""/>
          <p:cNvGrpSpPr/>
          <p:nvPr/>
        </p:nvGrpSpPr>
        <p:grpSpPr>
          <a:xfrm>
            <a:off x="4786200" y="2967120"/>
            <a:ext cx="5562720" cy="360"/>
            <a:chOff x="4786200" y="2967120"/>
            <a:chExt cx="5562720" cy="360"/>
          </a:xfrm>
        </p:grpSpPr>
        <p:sp>
          <p:nvSpPr>
            <p:cNvPr id="195" name=""/>
            <p:cNvSpPr/>
            <p:nvPr/>
          </p:nvSpPr>
          <p:spPr>
            <a:xfrm>
              <a:off x="4786200" y="2967120"/>
              <a:ext cx="5562720" cy="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196" name=""/>
            <p:cNvGrpSpPr/>
            <p:nvPr/>
          </p:nvGrpSpPr>
          <p:grpSpPr>
            <a:xfrm>
              <a:off x="4786200" y="2967120"/>
              <a:ext cx="5562720" cy="360"/>
              <a:chOff x="4786200" y="2967120"/>
              <a:chExt cx="5562720" cy="360"/>
            </a:xfrm>
          </p:grpSpPr>
          <p:sp>
            <p:nvSpPr>
              <p:cNvPr id="197" name=""/>
              <p:cNvSpPr/>
              <p:nvPr/>
            </p:nvSpPr>
            <p:spPr>
              <a:xfrm>
                <a:off x="4786200" y="2967120"/>
                <a:ext cx="5562720" cy="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4786200" y="2967120"/>
                <a:ext cx="5562720" cy="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9" name=""/>
          <p:cNvSpPr/>
          <p:nvPr/>
        </p:nvSpPr>
        <p:spPr>
          <a:xfrm>
            <a:off x="6248520" y="4038480"/>
            <a:ext cx="251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Termodynamika povrchů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00" name="dw" descr=""/>
          <p:cNvPicPr/>
          <p:nvPr/>
        </p:nvPicPr>
        <p:blipFill>
          <a:blip r:embed="rId8"/>
          <a:stretch/>
        </p:blipFill>
        <p:spPr>
          <a:xfrm>
            <a:off x="6781680" y="4876920"/>
            <a:ext cx="1325520" cy="23976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9"/>
          <a:stretch/>
        </p:blipFill>
        <p:spPr>
          <a:xfrm>
            <a:off x="914400" y="1447920"/>
            <a:ext cx="2438280" cy="191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1501920" y="1785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01920" y="1785960"/>
            <a:ext cx="18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89040" y="2946240"/>
            <a:ext cx="97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53880" y="1857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41360" y="3017880"/>
            <a:ext cx="93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07" name="images" descr=""/>
          <p:cNvPicPr/>
          <p:nvPr/>
        </p:nvPicPr>
        <p:blipFill>
          <a:blip r:embed="rId1"/>
          <a:stretch/>
        </p:blipFill>
        <p:spPr>
          <a:xfrm>
            <a:off x="457200" y="1905120"/>
            <a:ext cx="4495680" cy="163656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2073240" y="2506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28600" y="14479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Smáčecí energie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46080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Příspěvek energie hranic fází</a:t>
            </a:r>
            <a:endParaRPr b="0" lang="en-US" sz="2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11" name=""/>
          <p:cNvSpPr/>
          <p:nvPr/>
        </p:nvSpPr>
        <p:spPr>
          <a:xfrm>
            <a:off x="609480" y="106668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Mechanická rovnována na rozhraní fází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5884920" y="3657600"/>
            <a:ext cx="2840040" cy="299556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533520" y="4191120"/>
            <a:ext cx="457200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NewRomanPS-BoldMT"/>
              </a:rPr>
              <a:t>Gibbs-Thomsonova rovnice </a:t>
            </a:r>
            <a:r>
              <a:rPr b="0" lang="cs-CZ" sz="1600" spc="-1" strike="noStrike">
                <a:solidFill>
                  <a:srgbClr val="000066"/>
                </a:solidFill>
                <a:latin typeface="TimesNewRomanPSMT"/>
              </a:rPr>
              <a:t>umožňuje vypočítat přebytek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66"/>
                </a:solidFill>
                <a:latin typeface="TimesNewRomanPSMT"/>
              </a:rPr>
              <a:t>Gibbsovy energie, které malé částice (zrna) mají. Pro kulovité objekty v matrici platí: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76520" y="571500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G=-2 V </a:t>
            </a:r>
            <a:r>
              <a:rPr b="0" lang="en-US" sz="2400" spc="-1" strike="noStrike">
                <a:solidFill>
                  <a:srgbClr val="000066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/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r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095880" y="30481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Oswaldovo zrání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6400800"/>
            <a:ext cx="57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Times New Roman"/>
              </a:rPr>
              <a:t>Viz např: Pochody na fázových rozhraních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3"/>
          <a:stretch/>
        </p:blipFill>
        <p:spPr>
          <a:xfrm>
            <a:off x="5943600" y="2236680"/>
            <a:ext cx="251460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9T09:04:38Z</dcterms:created>
  <dc:creator>Sopoušek Jiří</dc:creator>
  <dc:description/>
  <dc:language>en-US</dc:language>
  <cp:lastModifiedBy>Sopoušek Jiří</cp:lastModifiedBy>
  <dcterms:modified xsi:type="dcterms:W3CDTF">2011-10-17T15:02:39Z</dcterms:modified>
  <cp:revision>60</cp:revision>
  <dc:subject/>
  <dc:title>C6730 Fázové rovnováhy</dc:title>
</cp:coreProperties>
</file>