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1.jpeg" ContentType="image/jpeg"/>
  <Override PartName="/ppt/media/image10.jpeg" ContentType="image/jpeg"/>
  <Override PartName="/ppt/media/image5.png" ContentType="image/png"/>
  <Override PartName="/ppt/media/image2.gif" ContentType="image/gif"/>
  <Override PartName="/ppt/media/image9.png" ContentType="image/png"/>
  <Override PartName="/ppt/media/image8.wmf" ContentType="image/x-wmf"/>
  <Override PartName="/ppt/media/image12.png" ContentType="image/png"/>
  <Override PartName="/ppt/media/image7.png" ContentType="image/png"/>
  <Override PartName="/ppt/media/image22.jpeg" ContentType="image/jpeg"/>
  <Override PartName="/ppt/media/image6.wmf" ContentType="image/x-wmf"/>
  <Override PartName="/ppt/media/image25.jpeg" ContentType="image/jpeg"/>
  <Override PartName="/ppt/media/image20.png" ContentType="image/png"/>
  <Override PartName="/ppt/media/image24.wmf" ContentType="image/x-wmf"/>
  <Override PartName="/ppt/media/image21.jpeg" ContentType="image/jpeg"/>
  <Override PartName="/ppt/media/image16.jpeg" ContentType="image/jpeg"/>
  <Override PartName="/ppt/media/image14.jpeg" ContentType="image/jpeg"/>
  <Override PartName="/ppt/media/image19.wmf" ContentType="image/x-wmf"/>
  <Override PartName="/ppt/media/image18.jpeg" ContentType="image/jpeg"/>
  <Override PartName="/ppt/media/image15.jpeg" ContentType="image/jpeg"/>
  <Override PartName="/ppt/media/image1.png" ContentType="image/png"/>
  <Override PartName="/ppt/media/image3.png" ContentType="image/png"/>
  <Override PartName="/ppt/media/image17.jpeg" ContentType="image/jpe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18FE8-A89E-4609-BC98-7CDD2B9409C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1BD2-AD10-4F4A-90EC-CFD291C75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22C6-198C-41EF-A669-FCC7B523B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0EEC-F0CD-472F-A4F5-DDEFC1CB3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0B80-1C89-492D-B2A1-4A76229D2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6A856-AF31-4D78-A64C-9BAF27853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EC260-BD10-49EC-AAFF-F2F0D6023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DFF3C-46E5-4457-BF8B-10FA2E651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696E0-4790-417F-A751-69AA0EE40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68B08-D291-47DF-8AA3-4C787C6FC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A18FE-7388-4CD3-B7ED-5863EF5BB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8FBFE-246C-4E44-BDDE-669FD18A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4A1A-1A94-4934-B9E5-284D32651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32C5F-3D2D-40A8-B4C5-FCAD820D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959F5-A473-44D8-A7D4-B9C657FD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B81EC-7B00-44F3-AE97-6CBB3656F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FCD24-BD11-46DF-BDFF-A0D4735A3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E0354-ACBD-4AE8-97DB-55D3B688E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0986-8A51-4508-9AB8-274C35E9C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CFD6-8373-4400-A600-D6BAC78F2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3107-BC05-4392-BA69-84DD2284D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9BA4-9F4B-4BCA-9AA0-51B181A41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993D-98FD-48E8-A575-381DC0E3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92D9-07ED-4A43-AF4F-884E0E08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C421-3A7D-46E8-94AF-1ED46643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8E914-691C-4A95-988F-1FE873F9E6E8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3A3C0-A6AE-4123-ACED-02BF1532EB8D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hyperlink" Target="D:\Vyuka\C6730 Term_FR\p&#345;edn&#225;&#353;ka_CZ\05tyden_modely GE f&#225;z&#237;\01a_clanek_agren.pdf" TargetMode="External"/><Relationship Id="rId5" Type="http://schemas.openxmlformats.org/officeDocument/2006/relationships/image" Target="../media/image10.jpeg"/><Relationship Id="rId6" Type="http://schemas.openxmlformats.org/officeDocument/2006/relationships/hyperlink" Target="http://www.google.cz/imgres?q=calphad&amp;um=1&amp;hl=cs&amp;sa=N&amp;biw=997&amp;bih=522&amp;tbm=isch&amp;tbnid=3eG69nfmkyGC0M:&amp;imgrefurl=http://www.elsevier.com/wps/product/cws_home/600853&amp;docid=yUhJ_tqL19uM5M&amp;imgurl=http://www.elsevier.com/framework_products/images/53/600853.gif&amp;w=122&amp;h=196&amp;ei=S2quTozKHOP44QTD5IjvDg&amp;zoom=1" TargetMode="External"/><Relationship Id="rId7" Type="http://schemas.openxmlformats.org/officeDocument/2006/relationships/image" Target="../media/image11.jpe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cz/imgres?q=calphad&amp;um=1&amp;hl=cs&amp;sa=N&amp;biw=997&amp;bih=522&amp;tbm=isch&amp;tbnid=vzH3KpTWTE6RgM:&amp;imgrefurl=http://www.tms.org/society/Honors/2002/HumeRothery2002.html&amp;docid=HMyqrhvo2_V3fM&amp;imgurl=http://www.tms.org/Society/Honors/2002/Photos/Kaufman.gif&amp;w=100&amp;h=148&amp;ei=S2quTozKHOP44QTD5IjvDg&amp;zoom=1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hyperlink" Target="http://www.google.cz/imgres?q=calphad&amp;start=414&amp;um=1&amp;hl=cs&amp;sa=N&amp;biw=997&amp;bih=522&amp;tbm=isch&amp;tbnid=1RFHi2jhtqxN1M:&amp;imgrefurl=http://www.met.kth.se/~bosse/&amp;docid=TnlYfvbmt_dWFM&amp;imgurl=http://www.met.kth.se/~bosse/bosse2b.jpg&amp;w=494&amp;h=327&amp;ei=S2yuTrekCuyO4gTxh-X9Dg&amp;zoom=1&amp;chk=sbg&amp;iact=rc&amp;dur=469&amp;sig=111041214975295135773&amp;page=44&amp;tbnh=143&amp;tbnw=217&amp;ndsp=10&amp;ved=1t:429,r:2,s:414&amp;tx=121&amp;ty=79" TargetMode="External"/><Relationship Id="rId5" Type="http://schemas.openxmlformats.org/officeDocument/2006/relationships/image" Target="../media/image15.jpeg"/><Relationship Id="rId6" Type="http://schemas.openxmlformats.org/officeDocument/2006/relationships/hyperlink" Target="http://www.google.cz/imgres?q=calphad&amp;start=483&amp;um=1&amp;hl=cs&amp;sa=N&amp;biw=997&amp;bih=522&amp;tbm=isch&amp;tbnid=NJToBOKH1IDrlM:&amp;imgrefurl=http://www.matse.psu.edu/faculty/liu&amp;docid=LfjnfICy1RyeKM&amp;imgurl=http://www.matse.psu.edu/files/imagecache/200x200/photos_faculty/ZI-KUI%252520LIU.jpg&amp;w=200&amp;h=200&amp;ei=S2yuTrekCuyO4gTxh-X9Dg&amp;zoom=1&amp;chk=sbg&amp;iact=rc&amp;dur=469&amp;sig=111041214975295135773&amp;page=51&amp;tbnh=144&amp;tbnw=143&amp;ndsp=10&amp;ved=1t:429,r:1,s:483&amp;tx=49&amp;ty=71" TargetMode="External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oogle.cz/imgres?q=calphad&amp;um=1&amp;hl=cs&amp;sa=N&amp;biw=997&amp;bih=522&amp;tbm=isch&amp;tbnid=wN0V2KuJbW0S4M:&amp;imgrefurl=http://www.nonmet.mat.ethz.ch/research/Modelling/Thermodynamic_Modelling&amp;docid=NpvM5rTJO_B0RM&amp;imgurl=http://www.nonmet.mat.ethz.ch/research/Modelling/Thermodynamic_Modelling/Calphad_Method.gif%253Fhires&amp;w=595&amp;h=400&amp;ei=S2quTozKHOP44QTD5IjvDg&amp;zoom=1" TargetMode="External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5 Termodynamické modely vícesložkových fází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Podmřížkový model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9154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52488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Arial Black"/>
              </a:rPr>
              <a:t>Seznámení se studijním materiálem „Komentář“</a:t>
            </a:r>
            <a:endParaRPr b="0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J. Sopoušek: Fázové rovnováhy a difúzí řízené procesy ve vybraných soustavách kovů a jejich slitin (2002)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1905120" y="3886200"/>
            <a:ext cx="502920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55" name="figure-95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4811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66"/>
                </a:solidFill>
                <a:latin typeface="Arial"/>
              </a:rPr>
              <a:t>Modely popisu Gibbsovy energie fáz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66"/>
                </a:solidFill>
                <a:latin typeface="Arial"/>
              </a:rPr>
              <a:t>Seznámení se studijním materiálem „Komentář“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66"/>
                </a:solidFill>
                <a:latin typeface="Arial"/>
              </a:rPr>
              <a:t>Up-initio metod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Arial Black"/>
              </a:rPr>
              <a:t>Modely popisu Gibbsovy energie fáze</a:t>
            </a:r>
            <a:endParaRPr b="0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276720" y="3276720"/>
            <a:ext cx="2144520" cy="7048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914400" y="3352680"/>
            <a:ext cx="1523880" cy="5810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6934320" y="3276720"/>
            <a:ext cx="819000" cy="5205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209680" y="25909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Náhodný substituční mod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2362320" y="4191120"/>
            <a:ext cx="3429000" cy="8143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6248520" y="5105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Interakční parametry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609480" y="5410080"/>
            <a:ext cx="5181840" cy="10591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40992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362320" y="1981080"/>
                <a:ext cx="42670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f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d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Regulární model fáze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63" name=""/>
          <p:cNvSpPr/>
          <p:nvPr/>
        </p:nvSpPr>
        <p:spPr>
          <a:xfrm>
            <a:off x="1600200" y="1219320"/>
            <a:ext cx="5334120" cy="64872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g = x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g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+ x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g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+ g</a:t>
            </a:r>
            <a:r>
              <a:rPr b="0" lang="en-US" sz="3200" spc="-1" strike="noStrike" baseline="30000">
                <a:solidFill>
                  <a:srgbClr val="000066"/>
                </a:solidFill>
                <a:latin typeface="Arial"/>
              </a:rPr>
              <a:t>ex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+ g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mix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38280" y="1828800"/>
            <a:ext cx="0" cy="152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914400" y="1752480"/>
            <a:ext cx="1295280" cy="840960"/>
            <a:chOff x="914400" y="1752480"/>
            <a:chExt cx="1295280" cy="840960"/>
          </a:xfrm>
        </p:grpSpPr>
        <p:sp>
          <p:nvSpPr>
            <p:cNvPr id="166" name=""/>
            <p:cNvSpPr/>
            <p:nvPr/>
          </p:nvSpPr>
          <p:spPr>
            <a:xfrm flipV="1">
              <a:off x="1523880" y="1752480"/>
              <a:ext cx="228600" cy="4572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914400" y="21337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solution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2209680" y="1752480"/>
            <a:ext cx="2590920" cy="536040"/>
            <a:chOff x="2209680" y="1752480"/>
            <a:chExt cx="2590920" cy="536040"/>
          </a:xfrm>
        </p:grpSpPr>
        <p:grpSp>
          <p:nvGrpSpPr>
            <p:cNvPr id="169" name=""/>
            <p:cNvGrpSpPr/>
            <p:nvPr/>
          </p:nvGrpSpPr>
          <p:grpSpPr>
            <a:xfrm>
              <a:off x="2438280" y="1752480"/>
              <a:ext cx="1981440" cy="152280"/>
              <a:chOff x="2438280" y="1752480"/>
              <a:chExt cx="1981440" cy="152280"/>
            </a:xfrm>
          </p:grpSpPr>
          <p:sp>
            <p:nvSpPr>
              <p:cNvPr id="170" name=""/>
              <p:cNvSpPr/>
              <p:nvPr/>
            </p:nvSpPr>
            <p:spPr>
              <a:xfrm>
                <a:off x="2438280" y="1752480"/>
                <a:ext cx="0" cy="1522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419720" y="1752480"/>
                <a:ext cx="0" cy="1522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438280" y="1904760"/>
                <a:ext cx="198144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2209680" y="182880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pure component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914400" y="1676520"/>
            <a:ext cx="4952880" cy="1526400"/>
            <a:chOff x="914400" y="1676520"/>
            <a:chExt cx="4952880" cy="1526400"/>
          </a:xfrm>
        </p:grpSpPr>
        <p:sp>
          <p:nvSpPr>
            <p:cNvPr id="175" name=""/>
            <p:cNvSpPr/>
            <p:nvPr/>
          </p:nvSpPr>
          <p:spPr>
            <a:xfrm flipH="1">
              <a:off x="4876560" y="1676520"/>
              <a:ext cx="457200" cy="1066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914400" y="2743200"/>
              <a:ext cx="495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nonideality: g</a:t>
              </a:r>
              <a:r>
                <a:rPr b="1" lang="en-US" sz="2400" spc="-1" strike="noStrike" baseline="30000">
                  <a:solidFill>
                    <a:srgbClr val="000066"/>
                  </a:solidFill>
                  <a:latin typeface="Arial"/>
                </a:rPr>
                <a:t>ex</a:t>
              </a: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 = h</a:t>
              </a:r>
              <a:r>
                <a:rPr b="1" lang="en-US" sz="2400" spc="-1" strike="noStrike" baseline="30000">
                  <a:solidFill>
                    <a:srgbClr val="000066"/>
                  </a:solidFill>
                  <a:latin typeface="Arial"/>
                </a:rPr>
                <a:t>ex</a:t>
              </a: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 - Ts</a:t>
              </a:r>
              <a:r>
                <a:rPr b="1" lang="en-US" sz="2400" spc="-1" strike="noStrike" baseline="30000">
                  <a:solidFill>
                    <a:srgbClr val="000066"/>
                  </a:solidFill>
                  <a:latin typeface="Arial"/>
                </a:rPr>
                <a:t>ex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6172200" y="1828800"/>
            <a:ext cx="380880" cy="762120"/>
            <a:chOff x="6172200" y="1828800"/>
            <a:chExt cx="380880" cy="762120"/>
          </a:xfrm>
        </p:grpSpPr>
        <p:sp>
          <p:nvSpPr>
            <p:cNvPr id="178" name=""/>
            <p:cNvSpPr/>
            <p:nvPr/>
          </p:nvSpPr>
          <p:spPr>
            <a:xfrm flipV="1">
              <a:off x="6172200" y="2210040"/>
              <a:ext cx="152280" cy="3808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72200" y="1828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4038480" y="2438280"/>
            <a:ext cx="762120" cy="838080"/>
            <a:chOff x="4038480" y="2438280"/>
            <a:chExt cx="762120" cy="838080"/>
          </a:xfrm>
        </p:grpSpPr>
        <p:sp>
          <p:nvSpPr>
            <p:cNvPr id="181" name=""/>
            <p:cNvSpPr/>
            <p:nvPr/>
          </p:nvSpPr>
          <p:spPr>
            <a:xfrm flipV="1">
              <a:off x="4190760" y="2819160"/>
              <a:ext cx="15264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038480" y="2438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  <a:ea typeface="Arial"/>
                </a:rPr>
                <a:t>~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457200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~ h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ex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32767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ree energy change, pure components-to-solu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05120" y="3809880"/>
            <a:ext cx="5333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g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soln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– g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pure comp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= h</a:t>
            </a:r>
            <a:r>
              <a:rPr b="1" lang="en-US" sz="2800" spc="-1" strike="noStrike" baseline="30000">
                <a:solidFill>
                  <a:srgbClr val="000066"/>
                </a:solidFill>
                <a:latin typeface="Arial"/>
              </a:rPr>
              <a:t>ex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– T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mi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449568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2800" spc="-1" strike="noStrike" baseline="30000">
                <a:solidFill>
                  <a:srgbClr val="000066"/>
                </a:solidFill>
                <a:latin typeface="Arial"/>
              </a:rPr>
              <a:t>ex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must 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0 as either either x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0 or x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0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2120" y="52578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gular” solution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67080" y="5234040"/>
            <a:ext cx="2133720" cy="5796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2800" spc="-1" strike="noStrike" baseline="30000">
                <a:solidFill>
                  <a:srgbClr val="000066"/>
                </a:solidFill>
                <a:latin typeface="Arial"/>
              </a:rPr>
              <a:t>ex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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943600" y="1828800"/>
            <a:ext cx="76320" cy="5335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181480" y="2209680"/>
            <a:ext cx="381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mix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= h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mix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–T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mix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9480" y="6019920"/>
            <a:ext cx="8077320" cy="5796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interaction energy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~ ½(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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AA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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BB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) – 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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AB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4608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Aktivita složek v regulárním roztokovém modelu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93" name=""/>
          <p:cNvSpPr/>
          <p:nvPr/>
        </p:nvSpPr>
        <p:spPr>
          <a:xfrm>
            <a:off x="-304920" y="7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0" y="2133720"/>
            <a:ext cx="8457840" cy="581040"/>
            <a:chOff x="0" y="2133720"/>
            <a:chExt cx="8457840" cy="581040"/>
          </a:xfrm>
        </p:grpSpPr>
        <p:sp>
          <p:nvSpPr>
            <p:cNvPr id="195" name=""/>
            <p:cNvSpPr/>
            <p:nvPr/>
          </p:nvSpPr>
          <p:spPr>
            <a:xfrm>
              <a:off x="0" y="2133720"/>
              <a:ext cx="4547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49"/>
                </a:spcBef>
                <a:buClr>
                  <a:srgbClr val="000066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g = x</a:t>
              </a:r>
              <a:r>
                <a:rPr b="1" lang="en-US" sz="2800" spc="-1" strike="noStrike" baseline="-25000">
                  <a:solidFill>
                    <a:srgbClr val="000066"/>
                  </a:solidFill>
                  <a:latin typeface="Arial"/>
                </a:rPr>
                <a:t>A</a:t>
              </a: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g</a:t>
              </a:r>
              <a:r>
                <a:rPr b="1" lang="en-US" sz="2800" spc="-1" strike="noStrike" baseline="-25000">
                  <a:solidFill>
                    <a:srgbClr val="000066"/>
                  </a:solidFill>
                  <a:latin typeface="Arial"/>
                </a:rPr>
                <a:t>A</a:t>
              </a: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 + x</a:t>
              </a:r>
              <a:r>
                <a:rPr b="1" lang="en-US" sz="2800" spc="-1" strike="noStrike" baseline="-25000">
                  <a:solidFill>
                    <a:srgbClr val="000066"/>
                  </a:solidFill>
                  <a:latin typeface="Arial"/>
                </a:rPr>
                <a:t>B</a:t>
              </a: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g</a:t>
              </a:r>
              <a:r>
                <a:rPr b="1" lang="en-US" sz="2800" spc="-1" strike="noStrike" baseline="-25000">
                  <a:solidFill>
                    <a:srgbClr val="000066"/>
                  </a:solidFill>
                  <a:latin typeface="Arial"/>
                </a:rPr>
                <a:t>B</a:t>
              </a: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+</a:t>
              </a:r>
              <a:r>
                <a:rPr b="0" lang="en-US" sz="28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</a:t>
              </a: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r>
                <a:rPr b="1" lang="en-US" sz="2800" spc="-1" strike="noStrike" baseline="-25000">
                  <a:solidFill>
                    <a:srgbClr val="000066"/>
                  </a:solidFill>
                  <a:latin typeface="Arial"/>
                </a:rPr>
                <a:t>A</a:t>
              </a: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r>
                <a:rPr b="1" lang="en-US" sz="2800" spc="-1" strike="noStrike" baseline="-25000">
                  <a:solidFill>
                    <a:srgbClr val="000066"/>
                  </a:solidFill>
                  <a:latin typeface="Arial"/>
                </a:rPr>
                <a:t>B</a:t>
              </a: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6" name=""/>
                <p:cNvSpPr txBox="1"/>
                <p:nvPr/>
              </p:nvSpPr>
              <p:spPr>
                <a:xfrm>
                  <a:off x="4343760" y="2210040"/>
                  <a:ext cx="411408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RT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ln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ln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7" name=""/>
          <p:cNvGrpSpPr/>
          <p:nvPr/>
        </p:nvGrpSpPr>
        <p:grpSpPr>
          <a:xfrm>
            <a:off x="76320" y="2987640"/>
            <a:ext cx="4723920" cy="593640"/>
            <a:chOff x="76320" y="2987640"/>
            <a:chExt cx="4723920" cy="593640"/>
          </a:xfrm>
        </p:grpSpPr>
        <p:sp>
          <p:nvSpPr>
            <p:cNvPr id="198" name=""/>
            <p:cNvSpPr/>
            <p:nvPr/>
          </p:nvSpPr>
          <p:spPr>
            <a:xfrm>
              <a:off x="76320" y="2987640"/>
              <a:ext cx="335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2. Eq (8) with z = g, 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9" name=""/>
                <p:cNvSpPr txBox="1"/>
                <p:nvPr/>
              </p:nvSpPr>
              <p:spPr>
                <a:xfrm>
                  <a:off x="3246480" y="2987640"/>
                  <a:ext cx="1553760" cy="59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z</m:t>
                              </m:r>
                            </m:e>
                          </m:acc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0" name=""/>
          <p:cNvSpPr/>
          <p:nvPr/>
        </p:nvSpPr>
        <p:spPr>
          <a:xfrm>
            <a:off x="5105520" y="2986200"/>
            <a:ext cx="3809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= g + (1-x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)(dg/dx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29862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14600" y="5105520"/>
            <a:ext cx="3124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1440" y="3794040"/>
            <a:ext cx="729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3.  Definition of activity:  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= g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+ RTln(</a:t>
            </a:r>
            <a:r>
              <a:rPr b="1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Symbol"/>
                <a:ea typeface="Symbol"/>
              </a:rPr>
              <a:t>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320" y="4662360"/>
            <a:ext cx="7238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4. eliminate g(1 and 2) then 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(2 and 3) 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-304920" y="40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52280" y="5715000"/>
            <a:ext cx="8305920" cy="914400"/>
            <a:chOff x="152280" y="5715000"/>
            <a:chExt cx="8305920" cy="914400"/>
          </a:xfrm>
        </p:grpSpPr>
        <p:sp>
          <p:nvSpPr>
            <p:cNvPr id="207" name=""/>
            <p:cNvSpPr/>
            <p:nvPr/>
          </p:nvSpPr>
          <p:spPr>
            <a:xfrm>
              <a:off x="152280" y="5715000"/>
              <a:ext cx="8305920" cy="914400"/>
            </a:xfrm>
            <a:prstGeom prst="rect">
              <a:avLst/>
            </a:prstGeom>
            <a:solidFill>
              <a:srgbClr val="26d2e4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8" name=""/>
                <p:cNvSpPr txBox="1"/>
                <p:nvPr/>
              </p:nvSpPr>
              <p:spPr>
                <a:xfrm>
                  <a:off x="228600" y="5878800"/>
                  <a:ext cx="8153280" cy="67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T</m:t>
                      </m:r>
                      <m:r>
                        <m:rPr>
                          <m:lit/>
                          <m:nor/>
                        </m:rPr>
                        <m:t xml:space="preserve">ln</m:t>
                      </m:r>
                      <m:sSub>
                        <m:e>
                          <m:r>
                            <m:t xml:space="preserve">γ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Ω</m:t>
                      </m:r>
                      <m:sSubSup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similarly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RT</m:t>
                      </m:r>
                      <m:r>
                        <m:rPr>
                          <m:lit/>
                          <m:nor/>
                        </m:rPr>
                        <m:t xml:space="preserve">ln</m:t>
                      </m:r>
                      <m:sSub>
                        <m:e>
                          <m:r>
                            <m:t xml:space="preserve">γ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Ω</m:t>
                      </m:r>
                      <m:sSubSup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52488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Arial Black"/>
              </a:rPr>
              <a:t>Modely popisu Gibbsovy energie fáze</a:t>
            </a:r>
            <a:endParaRPr b="0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SzPct val="17502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Arial"/>
              </a:rPr>
              <a:t>M. Hillert: 1973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750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Arial"/>
              </a:rPr>
              <a:t>Bo Sundman and J. Agren: </a:t>
            </a:r>
            <a:r>
              <a:rPr b="1" lang="cs-CZ" sz="1600" spc="-1" strike="noStrike">
                <a:solidFill>
                  <a:srgbClr val="000066"/>
                </a:solidFill>
                <a:latin typeface="Arial"/>
              </a:rPr>
              <a:t>A regular solution model for phases with several components and sublattices suitable for computer applications</a:t>
            </a:r>
            <a:r>
              <a:rPr b="0" lang="cs-CZ" sz="1600" spc="-1" strike="noStrike">
                <a:solidFill>
                  <a:srgbClr val="000066"/>
                </a:solidFill>
                <a:latin typeface="Arial"/>
              </a:rPr>
              <a:t>, J. Phys. Chem. Solids, 1982 (42), 297-301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Metoda CALPHA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" name="">
            <a:hlinkClick r:id="rId4"/>
          </p:cNvPr>
          <p:cNvSpPr/>
          <p:nvPr/>
        </p:nvSpPr>
        <p:spPr>
          <a:xfrm>
            <a:off x="6858000" y="2743200"/>
            <a:ext cx="1066680" cy="1066680"/>
          </a:xfrm>
          <a:custGeom>
            <a:avLst/>
            <a:gdLst>
              <a:gd name="textAreaLeft" fmla="*/ 69120 w 1066680"/>
              <a:gd name="textAreaRight" fmla="*/ 997560 w 10666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2" name="logo" descr=""/>
          <p:cNvPicPr/>
          <p:nvPr/>
        </p:nvPicPr>
        <p:blipFill>
          <a:blip r:embed="rId5"/>
          <a:stretch/>
        </p:blipFill>
        <p:spPr>
          <a:xfrm>
            <a:off x="1447920" y="4038480"/>
            <a:ext cx="2027160" cy="19861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101600" y="307800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41280" y="1957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41280" y="195732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8760" y="311796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7" name="images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962520" y="4038480"/>
            <a:ext cx="1563480" cy="2514600"/>
          </a:xfrm>
          <a:prstGeom prst="rect">
            <a:avLst/>
          </a:prstGeom>
          <a:ln w="0">
            <a:noFill/>
          </a:ln>
        </p:spPr>
      </p:pic>
      <p:pic>
        <p:nvPicPr>
          <p:cNvPr id="218" name="03645916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1917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ALPHAD 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20" name=""/>
          <p:cNvSpPr/>
          <p:nvPr/>
        </p:nvSpPr>
        <p:spPr>
          <a:xfrm>
            <a:off x="2058840" y="2174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058840" y="217476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146320" y="333540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23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600200"/>
            <a:ext cx="1276200" cy="18828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533520" y="373392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Larry Kaufma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25" name="xl_group2" descr=""/>
          <p:cNvPicPr/>
          <p:nvPr/>
        </p:nvPicPr>
        <p:blipFill>
          <a:blip r:embed="rId3"/>
          <a:stretch/>
        </p:blipFill>
        <p:spPr>
          <a:xfrm>
            <a:off x="2209680" y="2538360"/>
            <a:ext cx="6123240" cy="40752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657440" y="2025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57440" y="202572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28" name="images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172200" y="762120"/>
            <a:ext cx="2479680" cy="1646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1865160" y="2025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865160" y="202572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1" name="images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80880" y="4952880"/>
            <a:ext cx="164628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ALPHAD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33" name=""/>
          <p:cNvSpPr/>
          <p:nvPr/>
        </p:nvSpPr>
        <p:spPr>
          <a:xfrm>
            <a:off x="1503360" y="1797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03360" y="179712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90840" y="295740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6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1488960"/>
            <a:ext cx="7620120" cy="5116680"/>
          </a:xfrm>
          <a:prstGeom prst="rect">
            <a:avLst/>
          </a:prstGeom>
          <a:ln w="0">
            <a:noFill/>
          </a:ln>
        </p:spPr>
      </p:pic>
      <p:pic>
        <p:nvPicPr>
          <p:cNvPr id="237" name="sp_tc" descr=""/>
          <p:cNvPicPr/>
          <p:nvPr/>
        </p:nvPicPr>
        <p:blipFill>
          <a:blip r:embed="rId3"/>
          <a:stretch/>
        </p:blipFill>
        <p:spPr>
          <a:xfrm>
            <a:off x="6858000" y="152280"/>
            <a:ext cx="1790640" cy="11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5943600" y="1295280"/>
            <a:ext cx="2743200" cy="24163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228600" y="3352680"/>
            <a:ext cx="5607000" cy="327204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88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Podmřížkový model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41" name=""/>
          <p:cNvSpPr/>
          <p:nvPr/>
        </p:nvSpPr>
        <p:spPr>
          <a:xfrm>
            <a:off x="1179360" y="173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179360" y="173988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66840" y="29005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44" name="images" descr=""/>
          <p:cNvPicPr/>
          <p:nvPr/>
        </p:nvPicPr>
        <p:blipFill>
          <a:blip r:embed="rId3"/>
          <a:stretch/>
        </p:blipFill>
        <p:spPr>
          <a:xfrm>
            <a:off x="1371600" y="1219320"/>
            <a:ext cx="2579760" cy="1931760"/>
          </a:xfrm>
          <a:prstGeom prst="rect">
            <a:avLst/>
          </a:prstGeom>
          <a:ln w="0">
            <a:noFill/>
          </a:ln>
        </p:spPr>
      </p:pic>
      <p:pic>
        <p:nvPicPr>
          <p:cNvPr id="245" name="nmat1807-f1" descr=""/>
          <p:cNvPicPr/>
          <p:nvPr/>
        </p:nvPicPr>
        <p:blipFill>
          <a:blip r:embed="rId4"/>
          <a:stretch/>
        </p:blipFill>
        <p:spPr>
          <a:xfrm>
            <a:off x="4038480" y="1447920"/>
            <a:ext cx="1714680" cy="16794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6019920" y="4038480"/>
            <a:ext cx="2895480" cy="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FCC: 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Fe,Cr)</a:t>
            </a:r>
            <a:r>
              <a:rPr b="0" lang="en-US" sz="16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3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N,C,Va),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Sigma: 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Fe,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Ni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r>
              <a:rPr b="0" lang="en-US" sz="1600" spc="-1" strike="noStrike" baseline="-30000">
                <a:solidFill>
                  <a:srgbClr val="000066"/>
                </a:solidFill>
                <a:latin typeface="Times New Roman"/>
              </a:rPr>
              <a:t>8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Cr)</a:t>
            </a:r>
            <a:r>
              <a:rPr b="0" lang="en-US" sz="1600" spc="-1" strike="noStrike" baseline="-30000">
                <a:solidFill>
                  <a:srgbClr val="000066"/>
                </a:solidFill>
                <a:latin typeface="Times New Roman"/>
              </a:rPr>
              <a:t>4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Fe,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r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,Ni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r>
              <a:rPr b="0" lang="en-US" sz="1600" spc="-1" strike="noStrike" baseline="-30000">
                <a:solidFill>
                  <a:srgbClr val="000066"/>
                </a:solidFill>
                <a:latin typeface="Times New Roman"/>
              </a:rPr>
              <a:t>18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9904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6400800" y="4876920"/>
                <a:ext cx="160020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07T14:43:47Z</dcterms:modified>
  <cp:revision>102</cp:revision>
  <dc:subject/>
  <dc:title>C6730 Fázové rovnováhy</dc:title>
</cp:coreProperties>
</file>