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2.gif" ContentType="image/gi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22.wmf" ContentType="image/x-wmf"/>
  <Override PartName="/ppt/media/image6.png" ContentType="image/png"/>
  <Override PartName="/ppt/media/image11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789B-D2E6-4623-827E-E27146C69B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2C6-6538-400A-9070-B9D25772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A32-0B27-4374-B824-4EF27AF9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E1F-A2DD-4415-AEDE-B9908090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912-DFD7-478E-9A95-F56261E2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CE06-8029-4677-872F-2CE45607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5AF3-4E36-4574-AE45-DB23CAE7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A659-BE1E-4047-8DF8-49C80AC6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D63D-480F-4055-84C0-028E39D4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B3A2-F760-4144-8712-83D2FA57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467D-0776-44DE-A1B6-99ED702F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A5A9-60A1-4441-8EE6-010E132E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2F6-3962-4C1A-9358-842B2FAC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4921-ACC2-460F-80B1-406B5009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6313-3D97-47E2-947A-89C8AC61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1195-4851-4EBD-9F68-DB2282D4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DD3D-C30B-4CBE-9244-2522C271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9406-94A3-40C2-92EE-3249B90F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241-A052-4670-9C7A-B3DE4EBB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137-C449-452F-BB34-69C22AF4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022-43B5-4AF0-A148-DB88ACDA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115-4EB1-4568-8AA1-B58A217B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3D0-0366-44F4-A0ED-72B0DC11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0A1-B0D3-4F72-A0EB-955602AE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D6E-6F5F-4596-927B-F826EC8B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76F7-CC31-4F48-93FC-0AE7CF05DA6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452E-71C1-4353-B4A6-AFE57900A2F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D:\Vyuka\C6730 Term_FR\p&#345;edn&#225;&#353;ka_CZ\04tyden\03a_Gibbsova-Duhemova rovnice.shs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4a Molární veličiny a chemický potenciá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emický potenciál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20120" cy="2098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55627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ermodynamická data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400800" cy="2523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6324480" cy="1430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3520" y="39614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Fázová data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objem, změny objemu při ideálním míšen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Změny objemu při míšení reálných kapal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Gibbs-Duhem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entalpie a entropi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Gibbsova energie a chemický potenciá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á a fázová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měny objemu při ideálním míše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1085760"/>
            <a:ext cx="57913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měny objemu při míšení reálných kapali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6781680" cy="2149560"/>
          </a:xfrm>
          <a:prstGeom prst="rect">
            <a:avLst/>
          </a:prstGeom>
          <a:ln w="0">
            <a:noFill/>
          </a:ln>
        </p:spPr>
      </p:pic>
      <p:pic>
        <p:nvPicPr>
          <p:cNvPr id="156" name="275px-Excess_Volume_Mixture_of_Ethanol_and_Water" descr=""/>
          <p:cNvPicPr/>
          <p:nvPr/>
        </p:nvPicPr>
        <p:blipFill>
          <a:blip r:embed="rId2"/>
          <a:stretch/>
        </p:blipFill>
        <p:spPr>
          <a:xfrm>
            <a:off x="2286000" y="3798720"/>
            <a:ext cx="320040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arciální a integrální extenzivní veličiny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1355760"/>
            <a:ext cx="7391520" cy="5299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791320" y="1600200"/>
            <a:ext cx="2666880" cy="824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Objemová expanze a kontrakce (etanol-voda, 18ml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/mol, 59ml/mol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360" y="172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87360" y="17240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4840" y="28843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images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3962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Gibbs-Duhemova rovn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505320" y="1066680"/>
            <a:ext cx="5257800" cy="329436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2"/>
          </p:cNvPr>
          <p:cNvSpPr/>
          <p:nvPr/>
        </p:nvSpPr>
        <p:spPr>
          <a:xfrm>
            <a:off x="6172200" y="58672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752" h="21600">
                <a:moveTo>
                  <a:pt x="6349" y="3985"/>
                </a:moveTo>
                <a:lnTo>
                  <a:pt x="13347" y="3985"/>
                </a:lnTo>
                <a:lnTo>
                  <a:pt x="17403" y="7484"/>
                </a:lnTo>
                <a:lnTo>
                  <a:pt x="17403" y="17615"/>
                </a:lnTo>
                <a:lnTo>
                  <a:pt x="6349" y="17615"/>
                </a:lnTo>
                <a:close/>
              </a:path>
              <a:path fill="darken" w="23752" h="21600">
                <a:moveTo>
                  <a:pt x="13347" y="3985"/>
                </a:moveTo>
                <a:lnTo>
                  <a:pt x="17403" y="7484"/>
                </a:lnTo>
                <a:lnTo>
                  <a:pt x="1334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5_1_big" descr=""/>
          <p:cNvPicPr/>
          <p:nvPr/>
        </p:nvPicPr>
        <p:blipFill>
          <a:blip r:embed="rId3"/>
          <a:stretch/>
        </p:blipFill>
        <p:spPr>
          <a:xfrm>
            <a:off x="304920" y="990720"/>
            <a:ext cx="3124080" cy="541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028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0280" y="17524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7760" y="29131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Molární entalpie a entr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6629400" cy="4959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4120" y="4756320"/>
            <a:ext cx="3504960" cy="1901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638680" y="1828800"/>
            <a:ext cx="31244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Dodatkoné termodynamické funkce směsi Etanol-Voda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275px-Mixing_Enthalpy_Mixture_of_Ethanol_and_Water" descr=""/>
          <p:cNvPicPr/>
          <p:nvPr/>
        </p:nvPicPr>
        <p:blipFill>
          <a:blip r:embed="rId1"/>
          <a:stretch/>
        </p:blipFill>
        <p:spPr>
          <a:xfrm>
            <a:off x="5867280" y="344664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29000" y="57913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Dodatková entalpie míšení (etanol-voda) , detai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images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4100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Molární Gibbsova energ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1347840"/>
            <a:ext cx="5257800" cy="4735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715000" y="1295280"/>
            <a:ext cx="2817720" cy="2186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24T15:00:17Z</dcterms:modified>
  <cp:revision>70</cp:revision>
  <dc:subject/>
  <dc:title>C6730 Fázové rovnováhy</dc:title>
</cp:coreProperties>
</file>