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BD10-C317-4105-95E4-54665CD4CB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99F-1144-4AEB-A3DE-EB2D574E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002-5DC0-437C-A703-62D307E2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BD5-80DA-450C-B173-3A5582FC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A14-4B9E-4200-8FE9-08794E64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58B9-84BD-4A72-9B95-B6EF70D1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6793-D4F8-4F14-AAC5-F2114FF8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A476-A6AA-4966-A3EE-F23C0FA9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C7EA-F731-4256-9815-7B26D13E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61F8-9ABF-4B27-9AE9-ACAC8735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2E7E-85FB-4012-B99E-C313CDF7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622C-2C03-41E0-8032-8930552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F96-CEEB-4F98-A851-363C86DA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9CC8-96CB-490E-AB4C-50C9CB39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7109-6626-4BF5-85BE-B8E2B2A8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F5F9-453E-4559-8B76-F64852A6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FB9F-B8C1-4EE9-ACFC-DEB70DE7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670-2A1B-4DAB-96CA-CAD86E99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306-877F-41A1-880D-B8E35AAB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C7E-FF30-4CA3-B023-1B8AAF66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0B1-AA8D-4A21-B0ED-3AD3BF73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D44-AC63-4DF9-A0B8-554989BA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A9B-FE0D-4107-AE55-4AADDAB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47F-EC43-4BAF-AB2F-724EECD2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C7F-1486-4B2E-B75E-D41D8AD7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69C-9257-4E56-952C-1701D26F196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530D-A43C-4446-A15C-53A2B10BAF3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4b Výbraná pravidla a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sa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plyn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514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a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 par nad binár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75440" cy="3703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143000" y="4952880"/>
            <a:ext cx="7238880" cy="875880"/>
            <a:chOff x="1143000" y="4952880"/>
            <a:chExt cx="7238880" cy="875880"/>
          </a:xfrm>
        </p:grpSpPr>
        <p:sp>
          <p:nvSpPr>
            <p:cNvPr id="158" name=""/>
            <p:cNvSpPr/>
            <p:nvPr/>
          </p:nvSpPr>
          <p:spPr>
            <a:xfrm>
              <a:off x="1143000" y="4952880"/>
              <a:ext cx="3505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ositive deviations from ideality;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,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5168520"/>
              <a:ext cx="33526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A: posi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B: nega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plynu nad kondenzovanou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427040"/>
            <a:ext cx="8458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Ebulioskopie, kryosk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2388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ravidla pro změnu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3182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07:10Z</dcterms:modified>
  <cp:revision>72</cp:revision>
  <dc:subject/>
  <dc:title>C6730 Fázové rovnováhy</dc:title>
</cp:coreProperties>
</file>