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BB37-8DF0-46E9-834E-7A344209ECB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8D5-CA4F-4835-B109-A4C4EFD8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1A3-EB0A-4E54-8B14-00CAB1D4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C1E-A143-40D8-A665-BE57054A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E2B-6845-40E3-8BC9-709FD182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75B2-28F7-4975-B53E-0E5D1AB2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D46A-4BAC-448B-9294-A750120F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E7FE-2A51-4571-8E35-B999B721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8356-F8D8-4683-9768-0CE12DA5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B6CB-9686-49C9-840B-864F248B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C649-1C2D-437B-A764-6053A132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AAFA-8EA5-45AE-B6EC-DCDBF7C7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067-5A5E-4279-A024-06C57250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3E67-E33C-4B04-9D5A-0DF75A66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DD69-560D-41F2-AF82-01B23C86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07DB-F7F0-40DB-A459-89088760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5505-6A0C-4F2C-BA6E-1F87EBFA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20A6-BEE7-4EC9-880A-2B959656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BEA-FE9D-4CA0-97F8-B024A075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AB9-875C-4CD9-8B7E-1846B79E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65C-6F7D-4006-9800-9E4629D1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901-B00A-4C00-AF3F-4E277A98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0CD-5D9F-4527-AC3B-086BB893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A4D-180A-4E3C-A358-A01EAEA8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199-A2ED-4A13-A9AC-84F6655C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2700-FAB1-46F8-B246-E2682B199D0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274E-F7AB-43C2-86B2-87FD6F4DE54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4b Výbraná pravidla a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bsa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ování směsi ideálních plynů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514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ování směsi ideálních a reálných kapali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lak  par nad binární směs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075440" cy="37036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1143000" y="4952880"/>
            <a:ext cx="7238880" cy="875880"/>
            <a:chOff x="1143000" y="4952880"/>
            <a:chExt cx="7238880" cy="875880"/>
          </a:xfrm>
        </p:grpSpPr>
        <p:sp>
          <p:nvSpPr>
            <p:cNvPr id="158" name=""/>
            <p:cNvSpPr/>
            <p:nvPr/>
          </p:nvSpPr>
          <p:spPr>
            <a:xfrm>
              <a:off x="1143000" y="4952880"/>
              <a:ext cx="35053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positive deviations from ideality; a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&gt;x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, a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&gt;x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29200" y="5168520"/>
              <a:ext cx="33526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Unicode MS"/>
                </a:rPr>
                <a:t>A: positive devia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Unicode MS"/>
                </a:rPr>
                <a:t>B: negative devia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lak plynu nad kondenzovanou fáz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427040"/>
            <a:ext cx="84582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Ebulioskopie, kryosk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72388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Pravidla pro změnu entr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13182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07:10Z</dcterms:modified>
  <cp:revision>72</cp:revision>
  <dc:subject/>
  <dc:title>C6730 Fázové rovnováhy</dc:title>
</cp:coreProperties>
</file>