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2.wmf" ContentType="image/x-wmf"/>
  <Override PartName="/ppt/media/image6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030-3C54-4353-BA5B-49772F4415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CFE-80EA-4665-9381-A1B6332F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C5A-6824-4F79-8A40-3A92E6AB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11F-F993-4430-AF1A-82665104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831-BFA8-4880-8EA4-1DFEB011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7EEF-0379-470A-804E-DC81C76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77E8-8185-4DFE-A226-D07C2B6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80EE-230C-4196-BE80-65847F88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B47-1F59-416C-BAB1-854125E2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527D-A8FA-4CFD-8B99-B7D13D8B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26A6-FAC7-40FB-BA81-3DFC62B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9FAD-7F30-40B2-9003-1681707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687-22C5-4B0A-B6DD-6D98230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6FDE-1E32-4A90-873A-69FE7362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FCB1-3F63-4677-B98D-7E4426D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F5DE-2A84-4D44-BF7E-E9F8F0A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07AA-37B8-4CD3-A89B-903574B5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D1CA-7081-40A8-AC1A-AA3E283D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2CE-2B60-40DE-8E28-CABF8635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6EF-DF7F-4187-BF42-8E9A6CD0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B15-DBCA-4A64-81CF-D7CB6499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379-11CC-4E17-95EC-8E746242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7EC-4347-4412-A830-7BF456D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BC5-B229-41FE-981D-7DA47BE1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1B6-404D-4879-9D72-59B6885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71DB-6E09-420E-B4FA-5FE8880C85B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7676-6FD9-4CAF-B63C-FB6D0450900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D:\Vyuka\C6730 Term_FR\p&#345;edn&#225;&#353;ka_CZ\04tyden\03a_Gibbsova-Duhemova rovnice.sh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a Molární veličiny a chemický potenciá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emický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209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562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ermodynamick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2523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324480" cy="143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9614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ázov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objem, změny objemu při ideálním míšen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Změny objemu při míšení reálných kapal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Gibbs-Duhem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entalpie a entrop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Gibbsova energie a chemický potenciá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á a fázová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ideálním míše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085760"/>
            <a:ext cx="5791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míšení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78168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275px-Excess_Volume_Mixture_of_Ethanol_and_Water" descr=""/>
          <p:cNvPicPr/>
          <p:nvPr/>
        </p:nvPicPr>
        <p:blipFill>
          <a:blip r:embed="rId2"/>
          <a:stretch/>
        </p:blipFill>
        <p:spPr>
          <a:xfrm>
            <a:off x="2286000" y="3798720"/>
            <a:ext cx="3200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arciální a integrální extenzivní veličin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1600200"/>
            <a:ext cx="266688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Objemová expanze a kontrakce (etanol-voda, 18ml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mol, 59ml/mol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172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17240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4840" y="28843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images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Gibbs-Duhemova rovn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257800" cy="32943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6172200" y="58672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52" h="21600">
                <a:moveTo>
                  <a:pt x="6349" y="3985"/>
                </a:moveTo>
                <a:lnTo>
                  <a:pt x="13347" y="3985"/>
                </a:lnTo>
                <a:lnTo>
                  <a:pt x="17403" y="7484"/>
                </a:lnTo>
                <a:lnTo>
                  <a:pt x="17403" y="17615"/>
                </a:lnTo>
                <a:lnTo>
                  <a:pt x="6349" y="17615"/>
                </a:lnTo>
                <a:close/>
              </a:path>
              <a:path fill="darken" w="23752" h="21600">
                <a:moveTo>
                  <a:pt x="13347" y="3985"/>
                </a:moveTo>
                <a:lnTo>
                  <a:pt x="17403" y="7484"/>
                </a:lnTo>
                <a:lnTo>
                  <a:pt x="1334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5_1_big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3124080" cy="541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028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80" y="1752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9131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Molární entalpie a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95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4756320"/>
            <a:ext cx="350496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3124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odatkoné termodynamické funkce směsi Etanol-Vod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275px-Mixing_Enthalpy_Mixture_of_Ethanol_and_Water" descr=""/>
          <p:cNvPicPr/>
          <p:nvPr/>
        </p:nvPicPr>
        <p:blipFill>
          <a:blip r:embed="rId1"/>
          <a:stretch/>
        </p:blipFill>
        <p:spPr>
          <a:xfrm>
            <a:off x="5867280" y="344664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5791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odatková entalpie míšení (etanol-voda) , detai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images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olární Gibbsova energ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347840"/>
            <a:ext cx="5257800" cy="47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17720" cy="218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24T15:00:17Z</dcterms:modified>
  <cp:revision>70</cp:revision>
  <dc:subject/>
  <dc:title>C6730 Fázové rovnováhy</dc:title>
</cp:coreProperties>
</file>