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10.wmf" ContentType="image/x-wmf"/>
  <Override PartName="/ppt/media/image25.jpeg" ContentType="image/jpeg"/>
  <Override PartName="/ppt/media/image4.jpeg" ContentType="image/jpeg"/>
  <Override PartName="/ppt/media/image8.wmf" ContentType="image/x-wmf"/>
  <Override PartName="/ppt/media/image20.jpeg" ContentType="image/jpeg"/>
  <Override PartName="/ppt/media/image7.wmf" ContentType="image/x-wmf"/>
  <Override PartName="/ppt/media/image6.wmf" ContentType="image/x-wmf"/>
  <Override PartName="/ppt/media/image23.wmf" ContentType="image/x-wmf"/>
  <Override PartName="/ppt/media/image11.jpeg" ContentType="image/jpeg"/>
  <Override PartName="/ppt/media/image12.wmf" ContentType="image/x-wmf"/>
  <Override PartName="/ppt/media/image31.wmf" ContentType="image/x-wmf"/>
  <Override PartName="/ppt/media/image28.png" ContentType="image/png"/>
  <Override PartName="/ppt/media/image2.gif" ContentType="image/gif"/>
  <Override PartName="/ppt/media/image9.wmf" ContentType="image/x-wmf"/>
  <Override PartName="/ppt/media/image30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wmf" ContentType="image/x-wmf"/>
  <Override PartName="/ppt/media/image19.wmf" ContentType="image/x-wmf"/>
  <Override PartName="/ppt/media/image21.wmf" ContentType="image/x-wmf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B123-78DF-4501-925E-B218337274A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B03-7DEE-4455-B5FD-DB7739D8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97C-1A34-4E79-80FB-1AAA7BE2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0D4-BF28-4131-8678-3C1939CB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C75-75DB-42DC-B74F-EBFD3D44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FE74-906D-48F8-A09B-52F2EBA7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3A33-EF0C-4883-845D-7EC80B90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DD32-9525-4EF9-95DF-2A627AEC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8425-E555-4F1F-A509-78C901B7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C60F-D71E-485A-A628-755A0D2C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C1F7-346E-4EAF-B896-C35FC6C4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D601-FE75-4A96-BAFC-51DBCDE1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DE7-84FD-4640-B095-4C822C44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7F9C-FC98-4CC0-8440-B46873BC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0FA2-D5AB-4FD9-923B-0D66575B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9B04-13F8-4E78-8408-68D766F9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E0E4-B400-46D5-BB12-194D11C8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26CA-3740-4736-9503-631EC389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C1D-38A4-4FA7-8A53-7645CF95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8BB-2310-4E70-881E-2921DA0B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C33-6663-47A1-BCD3-36A9B081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39C-A053-4BF6-82C0-B10A246A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B2E-D8DC-4B76-8CF3-C634C1A1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EA77-0A22-4584-940C-8252604C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3DCF-4F53-4D79-9EC5-586E6E62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FEFE-7E7A-4C4E-8592-D8AC488892E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9E29-5DB8-42EF-839E-D31FA3D080A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4c Typy binárních diagram a jejich využit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malgam Hg-Ag (Sn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7652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334120" y="3639960"/>
            <a:ext cx="3276360" cy="2819520"/>
          </a:xfrm>
          <a:prstGeom prst="rect">
            <a:avLst/>
          </a:prstGeom>
          <a:ln w="0">
            <a:noFill/>
          </a:ln>
        </p:spPr>
      </p:pic>
      <p:pic>
        <p:nvPicPr>
          <p:cNvPr id="200" name="Amalgam" descr=""/>
          <p:cNvPicPr/>
          <p:nvPr/>
        </p:nvPicPr>
        <p:blipFill>
          <a:blip r:embed="rId4"/>
          <a:stretch/>
        </p:blipFill>
        <p:spPr>
          <a:xfrm>
            <a:off x="6248520" y="1676520"/>
            <a:ext cx="17524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4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onální tavba – čištění směs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059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2895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Čistění Al-Ag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3270240" cy="3352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38080" y="3676680"/>
            <a:ext cx="7467840" cy="3181320"/>
          </a:xfrm>
          <a:prstGeom prst="rect">
            <a:avLst/>
          </a:prstGeom>
          <a:ln w="0">
            <a:noFill/>
          </a:ln>
        </p:spPr>
      </p:pic>
      <p:pic>
        <p:nvPicPr>
          <p:cNvPr id="206" name="Ag-Al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36576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227520"/>
            <a:ext cx="2133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Fe-C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36600" y="229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6600" y="22906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3720" y="345132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6600" y="229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6600" y="22906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3720" y="345132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4" name="01" descr=""/>
          <p:cNvPicPr/>
          <p:nvPr/>
        </p:nvPicPr>
        <p:blipFill>
          <a:blip r:embed="rId1"/>
          <a:stretch/>
        </p:blipFill>
        <p:spPr>
          <a:xfrm>
            <a:off x="0" y="762120"/>
            <a:ext cx="5181480" cy="3762360"/>
          </a:xfrm>
          <a:prstGeom prst="rect">
            <a:avLst/>
          </a:prstGeom>
          <a:ln w="0">
            <a:noFill/>
          </a:ln>
        </p:spPr>
      </p:pic>
      <p:pic>
        <p:nvPicPr>
          <p:cNvPr id="215" name="iron%20carbon2" descr=""/>
          <p:cNvPicPr/>
          <p:nvPr/>
        </p:nvPicPr>
        <p:blipFill>
          <a:blip r:embed="rId2"/>
          <a:stretch/>
        </p:blipFill>
        <p:spPr>
          <a:xfrm>
            <a:off x="533520" y="4595760"/>
            <a:ext cx="2743200" cy="2232000"/>
          </a:xfrm>
          <a:prstGeom prst="rect">
            <a:avLst/>
          </a:prstGeom>
          <a:ln w="0">
            <a:noFill/>
          </a:ln>
        </p:spPr>
      </p:pic>
      <p:pic>
        <p:nvPicPr>
          <p:cNvPr id="216" name="image002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3336840" cy="4321080"/>
          </a:xfrm>
          <a:prstGeom prst="rect">
            <a:avLst/>
          </a:prstGeom>
          <a:ln w="0">
            <a:noFill/>
          </a:ln>
        </p:spPr>
      </p:pic>
      <p:pic>
        <p:nvPicPr>
          <p:cNvPr id="217" name="iron_phase_diagram_3" descr=""/>
          <p:cNvPicPr/>
          <p:nvPr/>
        </p:nvPicPr>
        <p:blipFill>
          <a:blip r:embed="rId4"/>
          <a:stretch/>
        </p:blipFill>
        <p:spPr>
          <a:xfrm>
            <a:off x="4876920" y="4576680"/>
            <a:ext cx="35812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zbrané mikrostruktury Fe-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73760" y="1712880"/>
            <a:ext cx="4170240" cy="4137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864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ístkový grafi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981080"/>
            <a:ext cx="40384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Šedá litin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mposes of: 2.5-4.0%C, 1.0-3.0%Si and 0.4-1.0% Mn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crostructure: 3-D graphite flakes formed during eutectic reaction. They have pointed edges to act as voids and crack initiation site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old by class (class 20 has min. tensile strength of 20,000 psi is a high C-equivalent metal in ferrite matrix ). Class 40 would have pearlite matri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e-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038480" cy="3643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0924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ypy fázových přeměn, popis transformací, nomenklatur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likace fázových diagramů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e-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ypy fázových přemě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apalina  -plyn: azeotrop, negativní azeotrop (HNO3-H2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3212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6" name="figA3-7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7315200" cy="4440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114800" y="25909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ázové pole: l+s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ázová hranice (l+s)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/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2819520" cy="2438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2449440" cy="2352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8305560" cy="2492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400800" y="4267080"/>
            <a:ext cx="2438280" cy="1930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324480" y="6248520"/>
            <a:ext cx="2552760" cy="4381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apalina  -tuhá fáze: eutektikum, peritektikum, kongruentní bod t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1600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uspořádání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305920" cy="2550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62120" y="5335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Kapalina  -tuhá fáze: úplná nemísitelno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1520" y="1638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1520" y="1638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56400" y="3219480"/>
            <a:ext cx="21160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8640" y="27986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images" descr=""/>
          <p:cNvPicPr/>
          <p:nvPr/>
        </p:nvPicPr>
        <p:blipFill>
          <a:blip r:embed="rId2"/>
          <a:stretch/>
        </p:blipFill>
        <p:spPr>
          <a:xfrm>
            <a:off x="1143000" y="3586320"/>
            <a:ext cx="3657600" cy="3271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76920" y="4572000"/>
            <a:ext cx="259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techiometrické fáze (intermetalika), nestechiometrické fáze (vakanc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8370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uhá fáze  -tuhá fáze: odmísení, eutektoidní, peritektoid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476800" cy="223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657600" y="2133720"/>
            <a:ext cx="5105520" cy="2300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3520" y="45720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Fenol-anilín, Bi-Z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90360" y="11350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7840" y="2295360"/>
            <a:ext cx="9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1920" bIns="0" anchor="t">
            <a:spAutoFit/>
          </a:bodyPr>
          <a:p>
            <a:pPr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7840" y="30877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images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234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-1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Aplikace fázových diagramů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4572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Black"/>
              </a:rPr>
              <a:t>Kryoskopi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6095880" cy="405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562720" y="914400"/>
            <a:ext cx="3200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g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+ RTl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Předpokla: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= 1 – x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Sal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, </a:t>
            </a:r>
            <a:r>
              <a:rPr b="1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=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Rovnice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800600" y="2209680"/>
                <a:ext cx="396252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M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l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553080" y="2819520"/>
            <a:ext cx="228600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/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1" lang="cs-CZ" sz="1600" spc="-1" strike="noStrike" baseline="-25000">
                <a:solidFill>
                  <a:srgbClr val="000066"/>
                </a:solidFill>
                <a:latin typeface="Arial"/>
              </a:rPr>
              <a:t>…zavedení snížení bodu tání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629400" y="2438280"/>
            <a:ext cx="7632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5181480"/>
            <a:ext cx="2362320" cy="533520"/>
            <a:chOff x="838080" y="5181480"/>
            <a:chExt cx="2362320" cy="533520"/>
          </a:xfrm>
        </p:grpSpPr>
        <p:sp>
          <p:nvSpPr>
            <p:cNvPr id="190" name=""/>
            <p:cNvSpPr/>
            <p:nvPr/>
          </p:nvSpPr>
          <p:spPr>
            <a:xfrm>
              <a:off x="838080" y="5184360"/>
              <a:ext cx="2362320" cy="53064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988560" y="5181480"/>
                  <a:ext cx="22114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M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M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Δ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M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al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762120" y="5943600"/>
            <a:ext cx="74674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Data: </a:t>
            </a:r>
            <a:r>
              <a:rPr b="0" lang="cs-CZ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6000 J/mole; 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273 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Aplikace: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20 g NaCl in 1 liter 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sal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0.036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= -3.7</a:t>
            </a:r>
            <a:r>
              <a:rPr b="1" lang="en-US" sz="1600" spc="-1" strike="noStrike" baseline="30000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agram Sn-Pb a SA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6483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46:32Z</dcterms:modified>
  <cp:revision>92</cp:revision>
  <dc:subject/>
  <dc:title>C6730 Fázové rovnováhy</dc:title>
</cp:coreProperties>
</file>