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2.gif" ContentType="image/gi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22.wmf" ContentType="image/x-wmf"/>
  <Override PartName="/ppt/media/image6.png" ContentType="image/png"/>
  <Override PartName="/ppt/media/image11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8FA6-F6EC-4F82-8195-86A972B5C36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AAA-4086-4F9A-9D96-81F2936E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3ED-63F2-4C69-8892-CBFFB132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653-FD55-4D37-B36E-554D9D7F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B92-EA0B-4FFF-B8E7-6188D316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4092-DBEF-4320-A8F5-4999D537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F05C-3073-47FA-924E-E6E61DCB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C76B-7B03-4DBA-80E4-7526BCC6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6040-51B8-4D82-9ED6-F9A83D25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8F20-80FC-4412-8378-11D1BDB7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1633-7838-4BE0-830D-461FDFFE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89B2-BE5F-49B8-A280-BB5499D2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1BD-0D1B-4712-9BBF-76CBD996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DD9F-CB31-4570-931F-016BB7DB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4A0E-939D-4938-B171-42216A5D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0C44-AB61-4C16-8B6E-A63E7B4A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36C2-B2A2-438D-BDE1-1800B1EA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FED1-A39D-41D3-AB19-9DE223AD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F05-AC3B-4224-803D-A77A272B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1ED-8F55-4F02-B9CF-8440E0A4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BF9-3E1C-4DF6-9307-72D2F098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E7E0-1AF7-4050-BF30-EF66E86E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296-F385-4501-96F8-342CAEA2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D91-D5CA-45FE-9260-4F957BDD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666-8184-4EA7-BA99-C9BB70DE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8E34-A84A-41D9-8B71-F439D838EFE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2E3E-C398-4213-9DF0-CB7A44B906C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D:\Vyuka\C6730 Term_FR\p&#345;edn&#225;&#353;ka_CZ\04tyden\03a_Gibbsova-Duhemova rovnice.shs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a Molární veličiny a chemický potenciá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emický potenciál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20120" cy="2098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55627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ermodynamick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400800" cy="2523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6324480" cy="1430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3520" y="39614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ázov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objem, změny objemu při ideálním míšen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Změny objemu při míšení reálných kapal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Gibbs-Duhem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entalpie a entropi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Gibbsova energie a chemický potenciá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á a fázová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ideálním míše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085760"/>
            <a:ext cx="57913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míšení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6781680" cy="2149560"/>
          </a:xfrm>
          <a:prstGeom prst="rect">
            <a:avLst/>
          </a:prstGeom>
          <a:ln w="0">
            <a:noFill/>
          </a:ln>
        </p:spPr>
      </p:pic>
      <p:pic>
        <p:nvPicPr>
          <p:cNvPr id="156" name="275px-Excess_Volume_Mixture_of_Ethanol_and_Water" descr=""/>
          <p:cNvPicPr/>
          <p:nvPr/>
        </p:nvPicPr>
        <p:blipFill>
          <a:blip r:embed="rId2"/>
          <a:stretch/>
        </p:blipFill>
        <p:spPr>
          <a:xfrm>
            <a:off x="2286000" y="3798720"/>
            <a:ext cx="320040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arciální a integrální extenzivní veličin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355760"/>
            <a:ext cx="7391520" cy="5299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791320" y="1600200"/>
            <a:ext cx="2666880" cy="824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Objemová expanze a kontrakce (etanol-voda, 18ml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mol, 59ml/mol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360" y="172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87360" y="17240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4840" y="28843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images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3962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Gibbs-Duhemova rovn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05320" y="1066680"/>
            <a:ext cx="5257800" cy="32943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2"/>
          </p:cNvPr>
          <p:cNvSpPr/>
          <p:nvPr/>
        </p:nvSpPr>
        <p:spPr>
          <a:xfrm>
            <a:off x="6172200" y="58672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752" h="21600">
                <a:moveTo>
                  <a:pt x="6349" y="3985"/>
                </a:moveTo>
                <a:lnTo>
                  <a:pt x="13347" y="3985"/>
                </a:lnTo>
                <a:lnTo>
                  <a:pt x="17403" y="7484"/>
                </a:lnTo>
                <a:lnTo>
                  <a:pt x="17403" y="17615"/>
                </a:lnTo>
                <a:lnTo>
                  <a:pt x="6349" y="17615"/>
                </a:lnTo>
                <a:close/>
              </a:path>
              <a:path fill="darken" w="23752" h="21600">
                <a:moveTo>
                  <a:pt x="13347" y="3985"/>
                </a:moveTo>
                <a:lnTo>
                  <a:pt x="17403" y="7484"/>
                </a:lnTo>
                <a:lnTo>
                  <a:pt x="1334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5_1_big" descr=""/>
          <p:cNvPicPr/>
          <p:nvPr/>
        </p:nvPicPr>
        <p:blipFill>
          <a:blip r:embed="rId3"/>
          <a:stretch/>
        </p:blipFill>
        <p:spPr>
          <a:xfrm>
            <a:off x="304920" y="990720"/>
            <a:ext cx="3124080" cy="541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028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0280" y="17524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7760" y="29131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Molární entalpie a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959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4120" y="4756320"/>
            <a:ext cx="3504960" cy="1901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638680" y="1828800"/>
            <a:ext cx="31244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Dodatkoné termodynamické funkce směsi Etanol-Vod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275px-Mixing_Enthalpy_Mixture_of_Ethanol_and_Water" descr=""/>
          <p:cNvPicPr/>
          <p:nvPr/>
        </p:nvPicPr>
        <p:blipFill>
          <a:blip r:embed="rId1"/>
          <a:stretch/>
        </p:blipFill>
        <p:spPr>
          <a:xfrm>
            <a:off x="5867280" y="344664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9000" y="57913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Dodatková entalpie míšení (etanol-voda) , detai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images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100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olární Gibbsova energ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347840"/>
            <a:ext cx="5257800" cy="473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2817720" cy="2186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24T15:00:17Z</dcterms:modified>
  <cp:revision>70</cp:revision>
  <dc:subject/>
  <dc:title>C6730 Fázové rovnováhy</dc:title>
</cp:coreProperties>
</file>