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2.gif" ContentType="image/gif"/>
  <Override PartName="/ppt/media/image9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377B-2089-4E59-BAEC-2441EA4B2E1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263B-D927-4B7E-AEAE-67749D94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7102-2768-4788-94AD-7E8AC4F5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D4C6-0851-4CD4-A7F6-68907EC6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CF31-3298-491B-86C8-36ED7168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E8A4-9276-42CB-964B-3132F22D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8A56-F160-4EDB-9673-01C0F4AB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BFA6-876F-4655-9BE8-B71F5A17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32BB-FF4A-4673-BB0C-D5684152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C799-D936-432E-A664-51E83E39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32E4-D92F-4B35-A226-1B9AAAC0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01DB-0149-49E6-9856-F41C3969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B2AF-148B-447B-8850-CD1F8663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92C1-D397-4571-A3D4-4317F5DB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63B7-9C94-468C-80A7-630D442F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9D80-848E-4C40-90AA-BE7ACAAB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8F37-D72A-4520-B601-055E9FCD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CB79-BDE2-4A19-B313-7E7BC7BE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2EF8-5799-4DA1-B7FB-A0647A2B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8E84-E587-406E-ACD7-D085890C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198F-4057-4D0F-A609-EAC59C20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3A5A-FAE5-42A7-8DA4-78C5A51D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D995-634D-4002-9DB6-C155E280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C003-AC58-4709-8A01-F759434D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2D6E-DC93-47C9-9C20-D6ADE012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217D-AE4F-4F76-9B51-FBF8AB5694C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43D0-5802-4184-9888-48D02C3A76AF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D:\Vyuka\C6730 Term_FR\p&#345;edn&#225;&#353;ka_CZ\06tyden_int a dif podminka FR\04_ZZH_Obecn&#233; p&#225;kov&#233; pravidlo.tif" TargetMode="Externa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hermocalc.com/" TargetMode="External"/><Relationship Id="rId2" Type="http://schemas.openxmlformats.org/officeDocument/2006/relationships/hyperlink" Target="http://www.thermocalc.com/" TargetMode="External"/><Relationship Id="rId3" Type="http://schemas.openxmlformats.org/officeDocument/2006/relationships/hyperlink" Target="http://www.thermocalc.com/" TargetMode="External"/><Relationship Id="rId4" Type="http://schemas.openxmlformats.org/officeDocument/2006/relationships/hyperlink" Target="http://www.thermocalc.com/" TargetMode="External"/><Relationship Id="rId5" Type="http://schemas.openxmlformats.org/officeDocument/2006/relationships/hyperlink" Target="http://www.thermocalc.com/" TargetMode="External"/><Relationship Id="rId6" Type="http://schemas.openxmlformats.org/officeDocument/2006/relationships/hyperlink" Target="http://www.npl.co.uk/advanced-materials/measurement-techniques/modelling/mtdata" TargetMode="External"/><Relationship Id="rId7" Type="http://schemas.openxmlformats.org/officeDocument/2006/relationships/hyperlink" Target="http://www.npl.co.uk/advanced-materials/measurement-techniques/modelling/mtdata" TargetMode="External"/><Relationship Id="rId8" Type="http://schemas.openxmlformats.org/officeDocument/2006/relationships/hyperlink" Target="http://www.npl.co.uk/advanced-materials/measurement-techniques/modelling/mtdata" TargetMode="External"/><Relationship Id="rId9" Type="http://schemas.openxmlformats.org/officeDocument/2006/relationships/hyperlink" Target="http://www.npl.co.uk/advanced-materials/measurement-techniques/modelling/mtdata" TargetMode="External"/><Relationship Id="rId10" Type="http://schemas.openxmlformats.org/officeDocument/2006/relationships/hyperlink" Target="http://www.npl.co.uk/advanced-materials/measurement-techniques/modelling/mtdata" TargetMode="External"/><Relationship Id="rId11" Type="http://schemas.openxmlformats.org/officeDocument/2006/relationships/hyperlink" Target="http://www.npl.co.uk/advanced-materials/measurement-techniques/modelling/mtdata" TargetMode="External"/><Relationship Id="rId12" Type="http://schemas.openxmlformats.org/officeDocument/2006/relationships/hyperlink" Target="http://www.npl.co.uk/advanced-materials/measurement-techniques/modelling/mtdata" TargetMode="External"/><Relationship Id="rId13" Type="http://schemas.openxmlformats.org/officeDocument/2006/relationships/hyperlink" Target="http://www.npl.co.uk/advanced-materials/measurement-techniques/modelling/mtdata" TargetMode="External"/><Relationship Id="rId14" Type="http://schemas.openxmlformats.org/officeDocument/2006/relationships/hyperlink" Target="http://www.npl.co.uk/advanced-materials/measurement-techniques/modelling/mtdata" TargetMode="External"/><Relationship Id="rId15" Type="http://schemas.openxmlformats.org/officeDocument/2006/relationships/hyperlink" Target="http://www.npl.co.uk/advanced-materials/measurement-techniques/modelling/mtdata" TargetMode="External"/><Relationship Id="rId16" Type="http://schemas.openxmlformats.org/officeDocument/2006/relationships/hyperlink" Target="http://www.npl.co.uk/advanced-materials/measurement-techniques/modelling/mtdata" TargetMode="External"/><Relationship Id="rId17" Type="http://schemas.openxmlformats.org/officeDocument/2006/relationships/hyperlink" Target="http://www.npl.co.uk/advanced-materials/measurement-techniques/modelling/mtdata" TargetMode="External"/><Relationship Id="rId18" Type="http://schemas.openxmlformats.org/officeDocument/2006/relationships/hyperlink" Target="http://www.npl.co.uk/advanced-materials/measurement-techniques/modelling/mtdata" TargetMode="External"/><Relationship Id="rId19" Type="http://schemas.openxmlformats.org/officeDocument/2006/relationships/hyperlink" Target="http://www.npl.co.uk/advanced-materials/measurement-techniques/modelling/mtdata" TargetMode="External"/><Relationship Id="rId20" Type="http://schemas.openxmlformats.org/officeDocument/2006/relationships/hyperlink" Target="http://www.npl.co.uk/advanced-materials/measurement-techniques/modelling/mtdata" TargetMode="External"/><Relationship Id="rId21" Type="http://schemas.openxmlformats.org/officeDocument/2006/relationships/hyperlink" Target="http://www.npl.co.uk/advanced-materials/measurement-techniques/modelling/mtdata" TargetMode="External"/><Relationship Id="rId22" Type="http://schemas.openxmlformats.org/officeDocument/2006/relationships/hyperlink" Target="http://www.factsage.com/" TargetMode="External"/><Relationship Id="rId23" Type="http://schemas.openxmlformats.org/officeDocument/2006/relationships/hyperlink" Target="http://www.factsage.com/" TargetMode="External"/><Relationship Id="rId24" Type="http://schemas.openxmlformats.org/officeDocument/2006/relationships/hyperlink" Target="http://www.factsage.com/" TargetMode="External"/><Relationship Id="rId25" Type="http://schemas.openxmlformats.org/officeDocument/2006/relationships/hyperlink" Target="http://www.factsage.com/" TargetMode="External"/><Relationship Id="rId26" Type="http://schemas.openxmlformats.org/officeDocument/2006/relationships/hyperlink" Target="http://www.factsage.com/" TargetMode="External"/><Relationship Id="rId27" Type="http://schemas.openxmlformats.org/officeDocument/2006/relationships/hyperlink" Target="http://www.crct.polymtl.ca/fact/download.php" TargetMode="External"/><Relationship Id="rId28" Type="http://schemas.openxmlformats.org/officeDocument/2006/relationships/hyperlink" Target="http://www.crct.polymtl.ca/fact/download.php" TargetMode="External"/><Relationship Id="rId29" Type="http://schemas.openxmlformats.org/officeDocument/2006/relationships/hyperlink" Target="http://www.crct.polymtl.ca/fact/download.php" TargetMode="External"/><Relationship Id="rId30" Type="http://schemas.openxmlformats.org/officeDocument/2006/relationships/hyperlink" Target="http://www.crct.polymtl.ca/fact/download.php" TargetMode="External"/><Relationship Id="rId31" Type="http://schemas.openxmlformats.org/officeDocument/2006/relationships/hyperlink" Target="http://www.crct.polymtl.ca/fact/download.php" TargetMode="External"/><Relationship Id="rId32" Type="http://schemas.openxmlformats.org/officeDocument/2006/relationships/hyperlink" Target="http://www.crct.polymtl.ca/fact/download.php" TargetMode="External"/><Relationship Id="rId33" Type="http://schemas.openxmlformats.org/officeDocument/2006/relationships/hyperlink" Target="http://www.crct.polymtl.ca/fact/download.php" TargetMode="External"/><Relationship Id="rId34" Type="http://schemas.openxmlformats.org/officeDocument/2006/relationships/hyperlink" Target="http://www.crct.polymtl.ca/fact/download.php" TargetMode="External"/><Relationship Id="rId35" Type="http://schemas.openxmlformats.org/officeDocument/2006/relationships/hyperlink" Target="http://www.crct.polymtl.ca/fact/download.php" TargetMode="External"/><Relationship Id="rId36" Type="http://schemas.openxmlformats.org/officeDocument/2006/relationships/hyperlink" Target="http://www.crct.polymtl.ca/fact/download.php" TargetMode="External"/><Relationship Id="rId37" Type="http://schemas.openxmlformats.org/officeDocument/2006/relationships/hyperlink" Target="http://www.crct.polymtl.ca/fact/download.php" TargetMode="External"/><Relationship Id="rId38" Type="http://schemas.openxmlformats.org/officeDocument/2006/relationships/hyperlink" Target="http://www.computherm.com/home.html" TargetMode="External"/><Relationship Id="rId39" Type="http://schemas.openxmlformats.org/officeDocument/2006/relationships/hyperlink" Target="http://www.computherm.com/home.html" TargetMode="External"/><Relationship Id="rId40" Type="http://schemas.openxmlformats.org/officeDocument/2006/relationships/hyperlink" Target="http://www.computherm.com/home.html" TargetMode="External"/><Relationship Id="rId41" Type="http://schemas.openxmlformats.org/officeDocument/2006/relationships/hyperlink" Target="http://www.computherm.com/home.html" TargetMode="External"/><Relationship Id="rId42" Type="http://schemas.openxmlformats.org/officeDocument/2006/relationships/hyperlink" Target="http://www.computherm.com/home.html" TargetMode="External"/><Relationship Id="rId43" Type="http://schemas.openxmlformats.org/officeDocument/2006/relationships/hyperlink" Target="http://www.computherm.com/home.html" TargetMode="External"/><Relationship Id="rId44" Type="http://schemas.openxmlformats.org/officeDocument/2006/relationships/hyperlink" Target="http://www.computherm.com/home.html" TargetMode="External"/><Relationship Id="rId45" Type="http://schemas.openxmlformats.org/officeDocument/2006/relationships/hyperlink" Target="http://www.computherm.com/home.html" TargetMode="External"/><Relationship Id="rId46" Type="http://schemas.openxmlformats.org/officeDocument/2006/relationships/hyperlink" Target="http://thermodata.online.fr/" TargetMode="External"/><Relationship Id="rId47" Type="http://schemas.openxmlformats.org/officeDocument/2006/relationships/hyperlink" Target="http://thermodata.online.fr/" TargetMode="External"/><Relationship Id="rId48" Type="http://schemas.openxmlformats.org/officeDocument/2006/relationships/hyperlink" Target="http://thermodata.online.fr/" TargetMode="External"/><Relationship Id="rId49" Type="http://schemas.openxmlformats.org/officeDocument/2006/relationships/hyperlink" Target="http://thermodata.online.fr/" TargetMode="External"/><Relationship Id="rId50" Type="http://schemas.openxmlformats.org/officeDocument/2006/relationships/hyperlink" Target="http://thermodata.online.fr/" TargetMode="External"/><Relationship Id="rId51" Type="http://schemas.openxmlformats.org/officeDocument/2006/relationships/hyperlink" Target="http://thermodata.online.fr/" TargetMode="External"/><Relationship Id="rId52" Type="http://schemas.openxmlformats.org/officeDocument/2006/relationships/hyperlink" Target="http://www.vlxe.com/" TargetMode="External"/><Relationship Id="rId53" Type="http://schemas.openxmlformats.org/officeDocument/2006/relationships/hyperlink" Target="http://www.vlxe.com/" TargetMode="External"/><Relationship Id="rId54" Type="http://schemas.openxmlformats.org/officeDocument/2006/relationships/hyperlink" Target="http://www.vlxe.com/" TargetMode="External"/><Relationship Id="rId55" Type="http://schemas.openxmlformats.org/officeDocument/2006/relationships/hyperlink" Target="http://www.vlxe.com/" TargetMode="External"/><Relationship Id="rId5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sminternational.org/asmenterprise/apd/default.aspx" TargetMode="External"/><Relationship Id="rId2" Type="http://schemas.openxmlformats.org/officeDocument/2006/relationships/hyperlink" Target="http://www.asminternational.org/asmenterprise/apd/default.aspx" TargetMode="External"/><Relationship Id="rId3" Type="http://schemas.openxmlformats.org/officeDocument/2006/relationships/hyperlink" Target="http://www.asminternational.org/asmenterprise/apd/default.aspx" TargetMode="External"/><Relationship Id="rId4" Type="http://schemas.openxmlformats.org/officeDocument/2006/relationships/hyperlink" Target="http://www.asminternational.org/asmenterprise/apd/default.aspx" TargetMode="External"/><Relationship Id="rId5" Type="http://schemas.openxmlformats.org/officeDocument/2006/relationships/hyperlink" Target="http://www.asminternational.org/asmenterprise/apd/default.aspx" TargetMode="External"/><Relationship Id="rId6" Type="http://schemas.openxmlformats.org/officeDocument/2006/relationships/hyperlink" Target="http://www.asminternational.org/asmenterprise/apd/default.aspx" TargetMode="External"/><Relationship Id="rId7" Type="http://schemas.openxmlformats.org/officeDocument/2006/relationships/hyperlink" Target="http://www.asminternational.org/asmenterprise/apd/default.aspx" TargetMode="External"/><Relationship Id="rId8" Type="http://schemas.openxmlformats.org/officeDocument/2006/relationships/hyperlink" Target="http://www.asminternational.org/asmenterprise/apd/default.aspx" TargetMode="External"/><Relationship Id="rId9" Type="http://schemas.openxmlformats.org/officeDocument/2006/relationships/hyperlink" Target="http://www.asminternational.org/asmenterprise/apd/default.aspx" TargetMode="External"/><Relationship Id="rId10" Type="http://schemas.openxmlformats.org/officeDocument/2006/relationships/hyperlink" Target="http://www.asminternational.org/asmenterprise/apd/default.aspx" TargetMode="External"/><Relationship Id="rId11" Type="http://schemas.openxmlformats.org/officeDocument/2006/relationships/hyperlink" Target="http://www.crct.polymtl.ca/sgte/index.php" TargetMode="External"/><Relationship Id="rId12" Type="http://schemas.openxmlformats.org/officeDocument/2006/relationships/hyperlink" Target="http://www.crct.polymtl.ca/sgte/index.php" TargetMode="External"/><Relationship Id="rId13" Type="http://schemas.openxmlformats.org/officeDocument/2006/relationships/hyperlink" Target="http://www.crct.polymtl.ca/sgte/index.php" TargetMode="External"/><Relationship Id="rId14" Type="http://schemas.openxmlformats.org/officeDocument/2006/relationships/hyperlink" Target="http://www.crct.polymtl.ca/sgte/index.php" TargetMode="External"/><Relationship Id="rId15" Type="http://schemas.openxmlformats.org/officeDocument/2006/relationships/hyperlink" Target="http://www.crct.polymtl.ca/sgte/index.php" TargetMode="External"/><Relationship Id="rId16" Type="http://schemas.openxmlformats.org/officeDocument/2006/relationships/hyperlink" Target="http://www.crct.polymtl.ca/sgte/index.php" TargetMode="External"/><Relationship Id="rId17" Type="http://schemas.openxmlformats.org/officeDocument/2006/relationships/hyperlink" Target="http://www.crct.polymtl.ca/sgte/index.php" TargetMode="External"/><Relationship Id="rId18" Type="http://schemas.openxmlformats.org/officeDocument/2006/relationships/hyperlink" Target="http://www.crct.polymtl.ca/sgte/index.php" TargetMode="External"/><Relationship Id="rId19" Type="http://schemas.openxmlformats.org/officeDocument/2006/relationships/hyperlink" Target="http://www.springerlink.com/content/100270622k03v066/" TargetMode="External"/><Relationship Id="rId20" Type="http://schemas.openxmlformats.org/officeDocument/2006/relationships/hyperlink" Target="http://www.springerlink.com/content/100270622k03v066/" TargetMode="External"/><Relationship Id="rId21" Type="http://schemas.openxmlformats.org/officeDocument/2006/relationships/hyperlink" Target="http://www.springerlink.com/content/100270622k03v066/" TargetMode="External"/><Relationship Id="rId22" Type="http://schemas.openxmlformats.org/officeDocument/2006/relationships/hyperlink" Target="http://www.springerlink.com/content/100270622k03v066/" TargetMode="External"/><Relationship Id="rId23" Type="http://schemas.openxmlformats.org/officeDocument/2006/relationships/hyperlink" Target="http://www.springerlink.com/content/100270622k03v066/" TargetMode="External"/><Relationship Id="rId24" Type="http://schemas.openxmlformats.org/officeDocument/2006/relationships/hyperlink" Target="http://www.springerlink.com/content/100270622k03v066/" TargetMode="External"/><Relationship Id="rId25" Type="http://schemas.openxmlformats.org/officeDocument/2006/relationships/hyperlink" Target="http://www.springerlink.com/content/100270622k03v066/" TargetMode="External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D:\Vyuka\C6730 Term_FR\p&#345;edn&#225;&#353;ka_CZ\06tyden\02_Algoritmus &#345;e&#353;en&#237; FR.pdf" TargetMode="Externa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6 Vícesložkové rovnováh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Pákové pravidlo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27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521000" y="1065240"/>
                <a:ext cx="52624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qui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has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mount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65440" y="2543040"/>
            <a:ext cx="5281560" cy="3805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479600" y="1693800"/>
                <a:ext cx="5313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li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has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mount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s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Zákon zachování hmoty ve vícesložkové a vícefázové soustavě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763120" cy="560880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rId2"/>
          </p:cNvPr>
          <p:cNvSpPr/>
          <p:nvPr/>
        </p:nvSpPr>
        <p:spPr>
          <a:xfrm>
            <a:off x="7848720" y="63244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Less" w="21600" h="21615">
                <a:moveTo>
                  <a:pt x="5273" y="3992"/>
                </a:moveTo>
                <a:lnTo>
                  <a:pt x="12271" y="3992"/>
                </a:lnTo>
                <a:lnTo>
                  <a:pt x="16327" y="7491"/>
                </a:lnTo>
                <a:lnTo>
                  <a:pt x="16327" y="17622"/>
                </a:lnTo>
                <a:lnTo>
                  <a:pt x="5273" y="17622"/>
                </a:lnTo>
                <a:close/>
              </a:path>
              <a:path fill="darken" w="21600" h="21615">
                <a:moveTo>
                  <a:pt x="12271" y="3992"/>
                </a:moveTo>
                <a:lnTo>
                  <a:pt x="16327" y="7491"/>
                </a:lnTo>
                <a:lnTo>
                  <a:pt x="12271" y="7491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6583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Další postup viz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676520"/>
            <a:ext cx="8001000" cy="35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Calc (Švédsko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"/>
              </a:rPr>
              <a:t>thermocalc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TData (Velká Británie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6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7"/>
              </a:rPr>
              <a:t>np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8"/>
              </a:rPr>
              <a:t>.co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9"/>
              </a:rPr>
              <a:t>u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1"/>
              </a:rPr>
              <a:t>advance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2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3"/>
              </a:rPr>
              <a:t>material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4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5"/>
              </a:rPr>
              <a:t>measurem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6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7"/>
              </a:rPr>
              <a:t>technique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8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9"/>
              </a:rPr>
              <a:t>modelling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0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1"/>
              </a:rPr>
              <a:t>mtdata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neak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actSage (Canada+SRN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2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3"/>
              </a:rPr>
              <a:t>factsag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4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5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6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i příklady diagramů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ownloady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7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8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9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0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1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2"/>
              </a:rPr>
              <a:t>fa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3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4"/>
              </a:rPr>
              <a:t>downloa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5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6"/>
              </a:rPr>
              <a:t>php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7"/>
              </a:rPr>
              <a:t>#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ndat (USA, Japan, Corea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8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9"/>
              </a:rPr>
              <a:t>computher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0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1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2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3"/>
              </a:rPr>
              <a:t>hom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4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5"/>
              </a:rPr>
              <a:t>htm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DATA (Francie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6"/>
              </a:rPr>
              <a:t>http:/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7"/>
              </a:rPr>
              <a:t>thermodata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8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9"/>
              </a:rPr>
              <a:t>onlin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0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1"/>
              </a:rPr>
              <a:t>fr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LXE (polymery) free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2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3"/>
              </a:rPr>
              <a:t>vlx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4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5"/>
              </a:rPr>
              <a:t>com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7200" y="1523880"/>
            <a:ext cx="82296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M 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"/>
              </a:rPr>
              <a:t>asminternationa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"/>
              </a:rPr>
              <a:t>org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6"/>
              </a:rPr>
              <a:t>asmenterpris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7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8"/>
              </a:rPr>
              <a:t>ap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9"/>
              </a:rPr>
              <a:t>/default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0"/>
              </a:rPr>
              <a:t>aspx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SI (koupit si diagram)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atabaz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G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1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2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3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4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5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6"/>
              </a:rPr>
              <a:t>sgt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7"/>
              </a:rPr>
              <a:t>/index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8"/>
              </a:rPr>
              <a:t>php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sessma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niha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9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0"/>
              </a:rPr>
              <a:t>springerlin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1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2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3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4"/>
              </a:rPr>
              <a:t>cont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5"/>
              </a:rPr>
              <a:t>/100270622k03v066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tegrální a diferenciální podmínka fázové rovnováh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umerické řešení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becné pákové pravidl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Řešení FR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5410080" cy="5089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34120" y="1219320"/>
            <a:ext cx="3581280" cy="869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257800" y="2057400"/>
            <a:ext cx="3581280" cy="2039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8805960" y="1981080"/>
            <a:ext cx="33804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44640"/>
            <a:ext cx="79246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Integrální podmínka FR</a:t>
            </a:r>
            <a:br>
              <a:rPr sz="2400"/>
            </a:b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(minimum celkové Gibbsovy energie soustavy)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920" y="1060560"/>
            <a:ext cx="8458200" cy="5797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638680" y="65530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Algoritmus (příklad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>
            <a:hlinkClick r:id="rId2"/>
          </p:cNvPr>
          <p:cNvSpPr/>
          <p:nvPr/>
        </p:nvSpPr>
        <p:spPr>
          <a:xfrm>
            <a:off x="8305920" y="64771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Less" w="21600" h="27006">
                <a:moveTo>
                  <a:pt x="5273" y="6688"/>
                </a:moveTo>
                <a:lnTo>
                  <a:pt x="12271" y="6688"/>
                </a:lnTo>
                <a:lnTo>
                  <a:pt x="16327" y="10187"/>
                </a:lnTo>
                <a:lnTo>
                  <a:pt x="16327" y="20318"/>
                </a:lnTo>
                <a:lnTo>
                  <a:pt x="5273" y="20318"/>
                </a:lnTo>
                <a:close/>
              </a:path>
              <a:path fill="darken" w="21600" h="27006">
                <a:moveTo>
                  <a:pt x="12271" y="6688"/>
                </a:moveTo>
                <a:lnTo>
                  <a:pt x="16327" y="10187"/>
                </a:lnTo>
                <a:lnTo>
                  <a:pt x="12271" y="10187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Řešení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382240" cy="2805120"/>
          </a:xfrm>
          <a:prstGeom prst="rect">
            <a:avLst/>
          </a:prstGeom>
          <a:ln w="0">
            <a:noFill/>
          </a:ln>
        </p:spPr>
      </p:pic>
      <p:pic>
        <p:nvPicPr>
          <p:cNvPr id="163" name="LLE" descr=""/>
          <p:cNvPicPr/>
          <p:nvPr/>
        </p:nvPicPr>
        <p:blipFill>
          <a:blip r:embed="rId2"/>
          <a:stretch/>
        </p:blipFill>
        <p:spPr>
          <a:xfrm>
            <a:off x="3657600" y="4648320"/>
            <a:ext cx="2209680" cy="19652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80880" y="40384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Tie line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tie triangle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9692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9692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8440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9692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9692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8440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img18" descr=""/>
          <p:cNvPicPr/>
          <p:nvPr/>
        </p:nvPicPr>
        <p:blipFill>
          <a:blip r:embed="rId3"/>
          <a:stretch/>
        </p:blipFill>
        <p:spPr>
          <a:xfrm>
            <a:off x="6095880" y="4419720"/>
            <a:ext cx="2362320" cy="2068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768320" y="18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68320" y="18493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1160" y="3894120"/>
            <a:ext cx="16164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55800" y="300996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images" descr=""/>
          <p:cNvPicPr/>
          <p:nvPr/>
        </p:nvPicPr>
        <p:blipFill>
          <a:blip r:embed="rId4"/>
          <a:stretch/>
        </p:blipFill>
        <p:spPr>
          <a:xfrm>
            <a:off x="762120" y="4572000"/>
            <a:ext cx="20685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12096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Diferenciální podmínka FR</a:t>
            </a:r>
            <a:br>
              <a:rPr sz="2400"/>
            </a:b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(rovnost chemických popenciálů tj. i aktivit)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9154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Aktivita a chem. potenciál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22960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Vlastnosti modelu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8760" y="1295280"/>
            <a:ext cx="898524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W s metodou CALPHA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D-pp (Phase Diagram program package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83818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14T08:42:31Z</dcterms:modified>
  <cp:revision>105</cp:revision>
  <dc:subject/>
  <dc:title>C6730 Fázové rovnováhy</dc:title>
</cp:coreProperties>
</file>