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1.wmf" ContentType="image/x-wmf"/>
  <Override PartName="/ppt/media/image3.png" ContentType="image/png"/>
  <Override PartName="/ppt/media/image26.png" ContentType="image/png"/>
  <Override PartName="/ppt/media/image13.wmf" ContentType="image/x-wmf"/>
  <Override PartName="/ppt/media/image2.gif" ContentType="image/gif"/>
  <Override PartName="/ppt/media/image9.png" ContentType="image/png"/>
  <Override PartName="/ppt/media/image17.wmf" ContentType="image/x-wmf"/>
  <Override PartName="/ppt/media/image12.wmf" ContentType="image/x-wmf"/>
  <Override PartName="/ppt/media/image27.png" ContentType="image/png"/>
  <Override PartName="/ppt/media/image8.png" ContentType="image/png"/>
  <Override PartName="/ppt/media/image16.wmf" ContentType="image/x-wmf"/>
  <Override PartName="/ppt/media/image7.wmf" ContentType="image/x-wmf"/>
  <Override PartName="/ppt/media/image20.jpeg" ContentType="image/jpeg"/>
  <Override PartName="/ppt/media/image4.wmf" ContentType="image/x-wmf"/>
  <Override PartName="/ppt/media/image10.wmf" ContentType="image/x-wmf"/>
  <Override PartName="/ppt/media/image24.wmf" ContentType="image/x-wmf"/>
  <Override PartName="/ppt/media/image14.png" ContentType="image/png"/>
  <Override PartName="/ppt/media/image25.wmf" ContentType="image/x-wmf"/>
  <Override PartName="/ppt/media/image23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8.jpeg" ContentType="image/jpeg"/>
  <Override PartName="/ppt/media/image18.png" ContentType="image/png"/>
  <Override PartName="/ppt/media/image15.wmf" ContentType="image/x-wmf"/>
  <Override PartName="/ppt/media/image5.wmf" ContentType="image/x-wmf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2AAC3-C8F3-4166-A82D-E7737B328C15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hodnout termín a místo konání přednášky, seznam posluchačů (vč. jejich zaměření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218AC-ADCD-4C5E-88D8-2CB335FC0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996A1-ECE7-434E-A64F-8A0A5CCAA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A7951-FD2F-4E87-8257-FBB3CEEE8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BE79C-5C8E-4F96-B6AE-3595FAF9D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962F0-0588-4B34-8201-E9CBF8BD0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E8725-D305-4051-B9D9-CFD7545C9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EE014-C653-4340-BC13-F598F2084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94BCC-AE09-4B5A-81B9-8F9725B0A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F77A9-D6FC-494F-ACC1-FBB4B270B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9452E-50BE-4DB5-9A37-86F19590B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E90AB-5605-4573-8A01-097F475A7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689CB-0045-47CB-9993-53854684C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7778C-9D95-47D2-8B88-352C39442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998A8-C0E1-42E4-A82C-6ECFC483E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3FD5B-F514-4949-8B4C-3DD1DC710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DC9AF-172A-45B2-8CBD-1691F9628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0062F-53B2-4127-8CDA-EA4728988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A8DB1-229F-466C-96AD-7BBB9B1B6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DDF41-F675-4F4E-87E4-CEA9CED0C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13CF5-ED47-406B-8D97-072EB128F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5015D-3C45-4487-8D8F-95E2083CF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AD671-B4C9-4859-8A5D-BEF2D51E0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563C3-8727-4467-9A19-B2E03FDA3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96DC3-23F6-4747-B8A6-C54659163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4d4d4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41907-EF75-45A1-93B5-AFF8D36E2BC6}" type="slidenum">
              <a:rPr b="0" lang="en-US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9cc2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pic>
          <p:nvPicPr>
            <p:cNvPr id="99" name="BTZBUL1A" descr="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DF28A-548D-491E-B847-2A303616DA7B}" type="slidenum">
              <a:rPr b="0" lang="en-US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hyperlink" Target="D:\Vyuka\C6730 Term_FR\p&#345;edn&#225;&#353;ka_CZ\07t&#253;den\02a_NiCrMo.pdf" TargetMode="External"/><Relationship Id="rId3" Type="http://schemas.openxmlformats.org/officeDocument/2006/relationships/hyperlink" Target="D:\Vyuka\C6730 Term_FR\p&#345;edn&#225;&#353;ka_CZ\07t&#253;den\03_FD_tern&#225;rn&#237;_p&#345;&#237;klady.pdf" TargetMode="External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6730 Fázové rovnováhy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1143000" y="198072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P07 Vícefázové rovnováhy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Doc. Jiří Sopoušek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09480" y="303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Třífázová rovnováha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228600" y="2362320"/>
            <a:ext cx="4648320" cy="426852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5334120" y="2133720"/>
            <a:ext cx="335268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480" y="45648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Tie-line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7086600" cy="4383000"/>
          </a:xfrm>
          <a:prstGeom prst="rect">
            <a:avLst/>
          </a:prstGeom>
          <a:ln w="0">
            <a:noFill/>
          </a:ln>
        </p:spPr>
      </p:pic>
      <p:pic>
        <p:nvPicPr>
          <p:cNvPr id="173" name="ternread-d" descr=""/>
          <p:cNvPicPr/>
          <p:nvPr/>
        </p:nvPicPr>
        <p:blipFill>
          <a:blip r:embed="rId2"/>
          <a:stretch/>
        </p:blipFill>
        <p:spPr>
          <a:xfrm>
            <a:off x="5105520" y="76320"/>
            <a:ext cx="3276360" cy="32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-1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Tie-triangl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1295280" y="1001880"/>
            <a:ext cx="6629400" cy="585612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6934320" y="5334120"/>
            <a:ext cx="558720" cy="18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15120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 Black"/>
              </a:rPr>
              <a:t>3D projekce</a:t>
            </a:r>
            <a:endParaRPr b="0" lang="en-US" sz="2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304920" y="631800"/>
            <a:ext cx="6324480" cy="6226200"/>
          </a:xfrm>
          <a:prstGeom prst="rect">
            <a:avLst/>
          </a:prstGeom>
          <a:ln w="0">
            <a:noFill/>
          </a:ln>
        </p:spPr>
      </p:pic>
      <p:pic>
        <p:nvPicPr>
          <p:cNvPr id="179" name="ternfig1" descr=""/>
          <p:cNvPicPr/>
          <p:nvPr/>
        </p:nvPicPr>
        <p:blipFill>
          <a:blip r:embed="rId2"/>
          <a:stretch/>
        </p:blipFill>
        <p:spPr>
          <a:xfrm>
            <a:off x="6477120" y="609480"/>
            <a:ext cx="2400120" cy="221004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260280" y="1746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60280" y="1746360"/>
            <a:ext cx="18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47760" y="2906640"/>
            <a:ext cx="93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33520" y="226800"/>
            <a:ext cx="7772400" cy="11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d4d4d"/>
                </a:solidFill>
                <a:latin typeface="Arial Black"/>
              </a:rPr>
              <a:t>Isokoncentrační řez FD</a:t>
            </a: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 </a:t>
            </a:r>
            <a:br>
              <a:rPr sz="4400"/>
            </a:br>
            <a:r>
              <a:rPr b="0" lang="cs-CZ" sz="2400" spc="-1" strike="noStrike">
                <a:solidFill>
                  <a:srgbClr val="4d4d4d"/>
                </a:solidFill>
                <a:latin typeface="Arial Black"/>
              </a:rPr>
              <a:t>Plocha liquidu a solidu</a:t>
            </a:r>
            <a:endParaRPr b="0" lang="en-US" sz="2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228600" y="2781360"/>
            <a:ext cx="6477120" cy="407664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5334120" y="4495680"/>
            <a:ext cx="3197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 Black"/>
              </a:rPr>
              <a:t>Další příklad ternárních diagramů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6" name="">
            <a:hlinkClick r:id="rId2"/>
          </p:cNvPr>
          <p:cNvSpPr/>
          <p:nvPr/>
        </p:nvSpPr>
        <p:spPr>
          <a:xfrm>
            <a:off x="8153280" y="3733920"/>
            <a:ext cx="533520" cy="53316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21615" h="21600">
                <a:moveTo>
                  <a:pt x="5280" y="3985"/>
                </a:moveTo>
                <a:lnTo>
                  <a:pt x="12278" y="3985"/>
                </a:lnTo>
                <a:lnTo>
                  <a:pt x="16334" y="7484"/>
                </a:lnTo>
                <a:lnTo>
                  <a:pt x="16334" y="17615"/>
                </a:lnTo>
                <a:lnTo>
                  <a:pt x="5280" y="17615"/>
                </a:lnTo>
                <a:close/>
              </a:path>
              <a:path fill="darken" w="21615" h="21600">
                <a:moveTo>
                  <a:pt x="12278" y="3985"/>
                </a:moveTo>
                <a:lnTo>
                  <a:pt x="16334" y="7484"/>
                </a:lnTo>
                <a:lnTo>
                  <a:pt x="12278" y="7484"/>
                </a:lnTo>
                <a:close/>
              </a:path>
            </a:pathLst>
          </a:custGeom>
          <a:solidFill>
            <a:srgbClr val="26d2e4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7" name="">
            <a:hlinkClick r:id="rId3"/>
          </p:cNvPr>
          <p:cNvSpPr/>
          <p:nvPr/>
        </p:nvSpPr>
        <p:spPr>
          <a:xfrm>
            <a:off x="8305920" y="4648320"/>
            <a:ext cx="380880" cy="53316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533160"/>
              <a:gd name="textAreaBottom" fmla="*/ 508680 h 533160"/>
            </a:gdLst>
            <a:ahLst/>
            <a:rect l="textAreaLeft" t="textAreaTop" r="textAreaRight" b="textAreaBottom"/>
            <a:pathLst>
              <a:path w="21600" h="30228">
                <a:moveTo>
                  <a:pt x="0" y="0"/>
                </a:moveTo>
                <a:lnTo>
                  <a:pt x="21600" y="0"/>
                </a:lnTo>
                <a:lnTo>
                  <a:pt x="21600" y="30228"/>
                </a:lnTo>
                <a:lnTo>
                  <a:pt x="0" y="30228"/>
                </a:lnTo>
                <a:close/>
              </a:path>
              <a:path fill="lightenLess" w="21600" h="3022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28">
                <a:moveTo>
                  <a:pt x="21600" y="0"/>
                </a:moveTo>
                <a:lnTo>
                  <a:pt x="21600" y="30228"/>
                </a:lnTo>
                <a:lnTo>
                  <a:pt x="20200" y="28828"/>
                </a:lnTo>
                <a:lnTo>
                  <a:pt x="20200" y="1400"/>
                </a:lnTo>
                <a:close/>
              </a:path>
              <a:path fill="darkenLess" w="21600" h="30228">
                <a:moveTo>
                  <a:pt x="21600" y="30228"/>
                </a:moveTo>
                <a:lnTo>
                  <a:pt x="0" y="30228"/>
                </a:lnTo>
                <a:lnTo>
                  <a:pt x="1400" y="28828"/>
                </a:lnTo>
                <a:lnTo>
                  <a:pt x="20200" y="28828"/>
                </a:lnTo>
                <a:close/>
              </a:path>
              <a:path fill="lighten" w="21600" h="30228">
                <a:moveTo>
                  <a:pt x="0" y="3022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28"/>
                </a:lnTo>
                <a:close/>
              </a:path>
              <a:path fill="darkenLess" w="21600" h="30228">
                <a:moveTo>
                  <a:pt x="5273" y="8299"/>
                </a:moveTo>
                <a:lnTo>
                  <a:pt x="12271" y="8299"/>
                </a:lnTo>
                <a:lnTo>
                  <a:pt x="16327" y="11798"/>
                </a:lnTo>
                <a:lnTo>
                  <a:pt x="16327" y="21929"/>
                </a:lnTo>
                <a:lnTo>
                  <a:pt x="5273" y="21929"/>
                </a:lnTo>
                <a:close/>
              </a:path>
              <a:path fill="darken" w="21600" h="30228">
                <a:moveTo>
                  <a:pt x="12271" y="8299"/>
                </a:moveTo>
                <a:lnTo>
                  <a:pt x="16327" y="11798"/>
                </a:lnTo>
                <a:lnTo>
                  <a:pt x="12271" y="11798"/>
                </a:lnTo>
                <a:close/>
              </a:path>
            </a:pathLst>
          </a:custGeom>
          <a:solidFill>
            <a:srgbClr val="26d2e4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88" name="fo-an-sio2_ternary_54-36-10" descr=""/>
          <p:cNvPicPr/>
          <p:nvPr/>
        </p:nvPicPr>
        <p:blipFill>
          <a:blip r:embed="rId4"/>
          <a:stretch/>
        </p:blipFill>
        <p:spPr>
          <a:xfrm>
            <a:off x="4572000" y="147600"/>
            <a:ext cx="426708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136080"/>
            <a:ext cx="7772400" cy="9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 Black"/>
              </a:rPr>
              <a:t>Metalurgie</a:t>
            </a:r>
            <a:br>
              <a:rPr sz="2800"/>
            </a:br>
            <a:r>
              <a:rPr b="0" lang="en-US" sz="2800" spc="-1" strike="noStrike">
                <a:solidFill>
                  <a:srgbClr val="4d4d4d"/>
                </a:solidFill>
                <a:latin typeface="Arial Black"/>
              </a:rPr>
              <a:t>(tepelné zpracování)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90" name="AEB-L%20Phase%20Diagram%20in%20Celsius" descr=""/>
          <p:cNvPicPr/>
          <p:nvPr/>
        </p:nvPicPr>
        <p:blipFill>
          <a:blip r:embed="rId1"/>
          <a:stretch/>
        </p:blipFill>
        <p:spPr>
          <a:xfrm>
            <a:off x="914400" y="1219320"/>
            <a:ext cx="7418520" cy="536076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1981080" y="662940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66"/>
                </a:solidFill>
                <a:latin typeface="Times New Roman"/>
              </a:rPr>
              <a:t>http://www.calphad.com/phase_diagrams.html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Fe-Cr-C Liquid projection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Nerezová ocel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94" name="tern" descr=""/>
          <p:cNvPicPr/>
          <p:nvPr/>
        </p:nvPicPr>
        <p:blipFill>
          <a:blip r:embed="rId1"/>
          <a:stretch/>
        </p:blipFill>
        <p:spPr>
          <a:xfrm>
            <a:off x="533520" y="2057400"/>
            <a:ext cx="4389480" cy="4022640"/>
          </a:xfrm>
          <a:prstGeom prst="rect">
            <a:avLst/>
          </a:prstGeom>
          <a:ln w="0">
            <a:noFill/>
          </a:ln>
        </p:spPr>
      </p:pic>
      <p:pic>
        <p:nvPicPr>
          <p:cNvPr id="195" name="o1" descr=""/>
          <p:cNvPicPr/>
          <p:nvPr/>
        </p:nvPicPr>
        <p:blipFill>
          <a:blip r:embed="rId2"/>
          <a:stretch/>
        </p:blipFill>
        <p:spPr>
          <a:xfrm>
            <a:off x="5562720" y="2286000"/>
            <a:ext cx="2857320" cy="218268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5638680" y="4648320"/>
            <a:ext cx="23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Fe-18Ni-8Cr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523880" y="6248520"/>
            <a:ext cx="243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900stC, 1Atm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09480" y="91800"/>
            <a:ext cx="7772400" cy="9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 Black"/>
              </a:rPr>
              <a:t>Aplikace ternárních diagramů</a:t>
            </a:r>
            <a:br>
              <a:rPr sz="2800"/>
            </a:br>
            <a:r>
              <a:rPr b="0" lang="en-US" sz="2800" spc="-1" strike="noStrike">
                <a:solidFill>
                  <a:srgbClr val="4d4d4d"/>
                </a:solidFill>
                <a:latin typeface="Arial Black"/>
              </a:rPr>
              <a:t>Extrakce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228600" y="1295280"/>
            <a:ext cx="8915400" cy="509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8080" y="303840"/>
            <a:ext cx="777240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 Black"/>
              </a:rPr>
              <a:t>Extrakce</a:t>
            </a:r>
            <a:endParaRPr b="0" lang="en-US" sz="20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304920" y="1219320"/>
            <a:ext cx="8839080" cy="51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240" y="39456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 Black"/>
              </a:rPr>
              <a:t>Osnova dnešní přednášky</a:t>
            </a:r>
            <a:endParaRPr b="0" lang="en-US" sz="32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66"/>
                </a:solidFill>
                <a:latin typeface="Arial"/>
              </a:rPr>
              <a:t>Numerický výpočet chemického potenciálu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66"/>
                </a:solidFill>
                <a:latin typeface="Arial"/>
              </a:rPr>
              <a:t>Gibbsovo pravidlo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66"/>
                </a:solidFill>
                <a:latin typeface="Arial"/>
              </a:rPr>
              <a:t>Třífázová rovnováha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66"/>
                </a:solidFill>
                <a:latin typeface="Arial"/>
              </a:rPr>
              <a:t>Aplikace ternárních diagramů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66"/>
                </a:solidFill>
                <a:latin typeface="Arial"/>
              </a:rPr>
              <a:t>Diskuse 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380880" y="2362320"/>
            <a:ext cx="8458200" cy="317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Další aplikac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05" name="phasediag" descr=""/>
          <p:cNvPicPr/>
          <p:nvPr/>
        </p:nvPicPr>
        <p:blipFill>
          <a:blip r:embed="rId1"/>
          <a:stretch/>
        </p:blipFill>
        <p:spPr>
          <a:xfrm>
            <a:off x="4114800" y="2133720"/>
            <a:ext cx="3429000" cy="284616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3808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parace solí 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PAL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08" name="sf_formclus1" descr="Approaching microemulsions at room temperature"/>
          <p:cNvPicPr/>
          <p:nvPr/>
        </p:nvPicPr>
        <p:blipFill>
          <a:blip r:embed="rId1"/>
          <a:stretch/>
        </p:blipFill>
        <p:spPr>
          <a:xfrm>
            <a:off x="4384800" y="762120"/>
            <a:ext cx="4098960" cy="569124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457200" y="2514600"/>
            <a:ext cx="3581280" cy="42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4da0"/>
                </a:solidFill>
                <a:latin typeface="Arial"/>
                <a:ea typeface="Arial"/>
              </a:rPr>
              <a:t>Fig. 1: Approaching microemulsions at room temperature ( T = 25°C) Top: test tubes of, left: equal volumes of 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  <a:ea typeface="Arial"/>
              </a:rPr>
              <a:t>water</a:t>
            </a:r>
            <a:r>
              <a:rPr b="1" lang="cs-CZ" sz="1400" spc="-1" strike="noStrike">
                <a:solidFill>
                  <a:srgbClr val="004da0"/>
                </a:solidFill>
                <a:latin typeface="Arial"/>
                <a:ea typeface="Arial"/>
              </a:rPr>
              <a:t> and 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  <a:ea typeface="Arial"/>
              </a:rPr>
              <a:t>oil</a:t>
            </a:r>
            <a:r>
              <a:rPr b="1" lang="cs-CZ" sz="1400" spc="-1" strike="noStrike">
                <a:solidFill>
                  <a:srgbClr val="004da0"/>
                </a:solidFill>
                <a:latin typeface="Arial"/>
                <a:ea typeface="Arial"/>
              </a:rPr>
              <a:t>; centre-left: 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  <a:ea typeface="Arial"/>
              </a:rPr>
              <a:t>water</a:t>
            </a:r>
            <a:r>
              <a:rPr b="1" lang="cs-CZ" sz="1400" spc="-1" strike="noStrike">
                <a:solidFill>
                  <a:srgbClr val="004da0"/>
                </a:solidFill>
                <a:latin typeface="Arial"/>
                <a:ea typeface="Arial"/>
              </a:rPr>
              <a:t> – 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  <a:ea typeface="Arial"/>
              </a:rPr>
              <a:t>oil</a:t>
            </a:r>
            <a:r>
              <a:rPr b="1" lang="cs-CZ" sz="1400" spc="-1" strike="noStrike">
                <a:solidFill>
                  <a:srgbClr val="004da0"/>
                </a:solidFill>
                <a:latin typeface="Arial"/>
                <a:ea typeface="Arial"/>
              </a:rPr>
              <a:t> - hydrophilic 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  <a:ea typeface="Arial"/>
              </a:rPr>
              <a:t>surfactant</a:t>
            </a:r>
            <a:r>
              <a:rPr b="1" lang="cs-CZ" sz="1400" spc="-1" strike="noStrike">
                <a:solidFill>
                  <a:srgbClr val="004da0"/>
                </a:solidFill>
                <a:latin typeface="Arial"/>
                <a:ea typeface="Arial"/>
              </a:rPr>
              <a:t> provides an 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  <a:ea typeface="Arial"/>
              </a:rPr>
              <a:t>oil</a:t>
            </a:r>
            <a:r>
              <a:rPr b="1" lang="cs-CZ" sz="1400" spc="-1" strike="noStrike">
                <a:solidFill>
                  <a:srgbClr val="004da0"/>
                </a:solidFill>
                <a:latin typeface="Arial"/>
                <a:ea typeface="Arial"/>
              </a:rPr>
              <a:t>-in-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  <a:ea typeface="Arial"/>
              </a:rPr>
              <a:t>water</a:t>
            </a:r>
            <a:r>
              <a:rPr b="1" lang="cs-CZ" sz="1400" spc="-1" strike="noStrike">
                <a:solidFill>
                  <a:srgbClr val="004da0"/>
                </a:solidFill>
                <a:latin typeface="Arial"/>
                <a:ea typeface="Arial"/>
              </a:rPr>
              <a:t> (o/w) microemulsion in coexistence with an excess 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  <a:ea typeface="Arial"/>
              </a:rPr>
              <a:t>oil</a:t>
            </a:r>
            <a:r>
              <a:rPr b="1" lang="cs-CZ" sz="1400" spc="-1" strike="noStrike">
                <a:solidFill>
                  <a:srgbClr val="004da0"/>
                </a:solidFill>
                <a:latin typeface="Arial"/>
                <a:ea typeface="Arial"/>
              </a:rPr>
              <a:t> phase (Winsor I, 2); right: 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  <a:ea typeface="Arial"/>
              </a:rPr>
              <a:t>water</a:t>
            </a:r>
            <a:r>
              <a:rPr b="1" lang="cs-CZ" sz="1400" spc="-1" strike="noStrike">
                <a:solidFill>
                  <a:srgbClr val="004da0"/>
                </a:solidFill>
                <a:latin typeface="Arial"/>
                <a:ea typeface="Arial"/>
              </a:rPr>
              <a:t> – 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  <a:ea typeface="Arial"/>
              </a:rPr>
              <a:t>oil</a:t>
            </a:r>
            <a:r>
              <a:rPr b="1" lang="cs-CZ" sz="1400" spc="-1" strike="noStrike">
                <a:solidFill>
                  <a:srgbClr val="004da0"/>
                </a:solidFill>
                <a:latin typeface="Arial"/>
                <a:ea typeface="Arial"/>
              </a:rPr>
              <a:t> - hydrophobic 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  <a:ea typeface="Arial"/>
              </a:rPr>
              <a:t>surfactant</a:t>
            </a:r>
            <a:r>
              <a:rPr b="1" lang="cs-CZ" sz="1400" spc="-1" strike="noStrike">
                <a:solidFill>
                  <a:srgbClr val="004da0"/>
                </a:solidFill>
                <a:latin typeface="Arial"/>
                <a:ea typeface="Arial"/>
              </a:rPr>
              <a:t> provides a 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  <a:ea typeface="Arial"/>
              </a:rPr>
              <a:t>water</a:t>
            </a:r>
            <a:r>
              <a:rPr b="1" lang="cs-CZ" sz="1400" spc="-1" strike="noStrike">
                <a:solidFill>
                  <a:srgbClr val="004da0"/>
                </a:solidFill>
                <a:latin typeface="Arial"/>
                <a:ea typeface="Arial"/>
              </a:rPr>
              <a:t>-in-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  <a:ea typeface="Arial"/>
              </a:rPr>
              <a:t>oil</a:t>
            </a:r>
            <a:r>
              <a:rPr b="1" lang="cs-CZ" sz="1400" spc="-1" strike="noStrike">
                <a:solidFill>
                  <a:srgbClr val="004da0"/>
                </a:solidFill>
                <a:latin typeface="Arial"/>
                <a:ea typeface="Arial"/>
              </a:rPr>
              <a:t> (w/o) microemulsion in coexistence with an excess 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  <a:ea typeface="Arial"/>
              </a:rPr>
              <a:t>water</a:t>
            </a:r>
            <a:r>
              <a:rPr b="1" lang="cs-CZ" sz="1400" spc="-1" strike="noStrike">
                <a:solidFill>
                  <a:srgbClr val="004da0"/>
                </a:solidFill>
                <a:latin typeface="Arial"/>
                <a:ea typeface="Arial"/>
              </a:rPr>
              <a:t> phase (Winsor II, 2 ); centre-right: 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  <a:ea typeface="Arial"/>
              </a:rPr>
              <a:t>water</a:t>
            </a:r>
            <a:r>
              <a:rPr b="1" lang="cs-CZ" sz="1400" spc="-1" strike="noStrike">
                <a:solidFill>
                  <a:srgbClr val="004da0"/>
                </a:solidFill>
                <a:latin typeface="Arial"/>
                <a:ea typeface="Arial"/>
              </a:rPr>
              <a:t> – 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  <a:ea typeface="Arial"/>
              </a:rPr>
              <a:t>oil</a:t>
            </a:r>
            <a:r>
              <a:rPr b="1" lang="cs-CZ" sz="1400" spc="-1" strike="noStrike">
                <a:solidFill>
                  <a:srgbClr val="004da0"/>
                </a:solidFill>
                <a:latin typeface="Arial"/>
                <a:ea typeface="Arial"/>
              </a:rPr>
              <a:t> - balanced 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  <a:ea typeface="Arial"/>
              </a:rPr>
              <a:t>surfactant</a:t>
            </a:r>
            <a:r>
              <a:rPr b="1" lang="cs-CZ" sz="1400" spc="-1" strike="noStrike">
                <a:solidFill>
                  <a:srgbClr val="004da0"/>
                </a:solidFill>
                <a:latin typeface="Arial"/>
                <a:ea typeface="Arial"/>
              </a:rPr>
              <a:t>, bicontinuous microemulsion in coexistence with both excess 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  <a:ea typeface="Arial"/>
              </a:rPr>
              <a:t>water</a:t>
            </a:r>
            <a:r>
              <a:rPr b="1" lang="cs-CZ" sz="1400" spc="-1" strike="noStrike">
                <a:solidFill>
                  <a:srgbClr val="004da0"/>
                </a:solidFill>
                <a:latin typeface="Arial"/>
                <a:ea typeface="Arial"/>
              </a:rPr>
              <a:t> and 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  <a:ea typeface="Arial"/>
              </a:rPr>
              <a:t>oil</a:t>
            </a:r>
            <a:r>
              <a:rPr b="1" lang="cs-CZ" sz="1400" spc="-1" strike="noStrike">
                <a:solidFill>
                  <a:srgbClr val="004da0"/>
                </a:solidFill>
                <a:latin typeface="Arial"/>
                <a:ea typeface="Arial"/>
              </a:rPr>
              <a:t> Winsor III (3). Bottom: Isothermal Gibbs triangles of the three systems at T = 25°C.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Diskus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11" name=""/>
          <p:cNvSpPr/>
          <p:nvPr/>
        </p:nvSpPr>
        <p:spPr>
          <a:xfrm>
            <a:off x="838080" y="1828800"/>
            <a:ext cx="7467840" cy="31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Programy: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 </a:t>
            </a:r>
            <a:r>
              <a:rPr b="1" lang="cs-CZ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ThermoCalc (Švédsko):</a:t>
            </a: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http://www.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thermocalc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.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com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/</a:t>
            </a:r>
            <a:r>
              <a:rPr b="1" lang="cs-CZ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MTData (Velká Británie):</a:t>
            </a: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http://www.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npl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.co.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uk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/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advanced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-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materials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/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measurement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-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techniques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/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modelling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/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mtdata</a:t>
            </a: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 neak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FactSage (Canada+SRN)</a:t>
            </a: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: 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http://www.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factsage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.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com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/</a:t>
            </a:r>
            <a:r>
              <a:rPr b="1" lang="cs-CZ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(i příklady diagramů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1" lang="cs-CZ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Downloady:</a:t>
            </a: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http://www.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crct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.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polymtl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.ca/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fact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/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download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.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php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#</a:t>
            </a:r>
            <a:r>
              <a:rPr b="1" lang="cs-CZ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Pandat (USA, Japan, Corea):</a:t>
            </a: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http://www.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computherm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.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com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/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home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.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html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THERMODATA (Francie)</a:t>
            </a: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: 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http://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thermodata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.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online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.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fr</a:t>
            </a:r>
            <a:r>
              <a:rPr b="1" lang="cs-CZ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VLXE (polymery) free:</a:t>
            </a: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http://www.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vlxe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.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com</a:t>
            </a:r>
            <a:r>
              <a:rPr b="1" lang="cs-CZ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457200" y="1523880"/>
            <a:ext cx="8229600" cy="40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Diagramy: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ASM :</a:t>
            </a: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cs-CZ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http://www.asminternational.org/portal/site/www/info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MSI (koupit si diagram):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Databaze</a:t>
            </a: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STGE</a:t>
            </a: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: 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http://www.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crct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.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polymtl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.ca/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sgte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/index.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php</a:t>
            </a:r>
            <a:r>
              <a:rPr b="1" lang="cs-CZ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Assessman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Kniha: 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http://www.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springerlink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.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com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/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content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/100270622k03v066/</a:t>
            </a:r>
            <a:r>
              <a:rPr b="1" lang="cs-CZ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Výpočet chemického potenciálu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304920" y="2133720"/>
            <a:ext cx="8305560" cy="43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Numerický výpočet chemického potenciálu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533520" y="2362320"/>
            <a:ext cx="754380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493200"/>
            <a:ext cx="777240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Analytický výpočet chemického potenciálu</a:t>
            </a:r>
            <a:br>
              <a:rPr sz="2800"/>
            </a:b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(pro vícemžížkový model)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457200" y="2438280"/>
            <a:ext cx="8077320" cy="378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685800" y="304920"/>
            <a:ext cx="7772400" cy="62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22788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Gibbsovo fázové pravidlo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380880" y="1066680"/>
            <a:ext cx="8382240" cy="526752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304920" y="6400800"/>
            <a:ext cx="8534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800" spc="-1" strike="noStrike">
                <a:solidFill>
                  <a:srgbClr val="000066"/>
                </a:solidFill>
                <a:latin typeface="Times New Roman"/>
              </a:rPr>
              <a:t>http://www.chem.arizona.edu/~salzmanr/480a/480ants/gibbspr/gibbspr.html</a:t>
            </a: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64" name="Image333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771800" cy="3576600"/>
          </a:xfrm>
          <a:prstGeom prst="rect">
            <a:avLst/>
          </a:prstGeom>
          <a:ln w="0">
            <a:noFill/>
          </a:ln>
        </p:spPr>
      </p:pic>
      <p:pic>
        <p:nvPicPr>
          <p:cNvPr id="165" name="Image512" descr=""/>
          <p:cNvPicPr/>
          <p:nvPr/>
        </p:nvPicPr>
        <p:blipFill>
          <a:blip r:embed="rId2"/>
          <a:stretch/>
        </p:blipFill>
        <p:spPr>
          <a:xfrm>
            <a:off x="3733920" y="2590920"/>
            <a:ext cx="5105160" cy="38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8080" y="22788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 Black"/>
              </a:rPr>
              <a:t>Příklady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457200" y="927000"/>
            <a:ext cx="8381880" cy="593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9T09:04:38Z</dcterms:created>
  <dc:creator>Sopoušek Jiří</dc:creator>
  <dc:description/>
  <dc:language>en-US</dc:language>
  <cp:lastModifiedBy>Sopoušek Jiří</cp:lastModifiedBy>
  <dcterms:modified xsi:type="dcterms:W3CDTF">2011-11-21T12:49:09Z</dcterms:modified>
  <cp:revision>112</cp:revision>
  <dc:subject/>
  <dc:title>C6730 Fázové rovnováhy</dc:title>
</cp:coreProperties>
</file>