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26.png" ContentType="image/png"/>
  <Override PartName="/ppt/media/image13.wmf" ContentType="image/x-wmf"/>
  <Override PartName="/ppt/media/image2.gif" ContentType="image/gif"/>
  <Override PartName="/ppt/media/image9.png" ContentType="image/png"/>
  <Override PartName="/ppt/media/image17.wmf" ContentType="image/x-wmf"/>
  <Override PartName="/ppt/media/image12.wmf" ContentType="image/x-wmf"/>
  <Override PartName="/ppt/media/image27.png" ContentType="image/png"/>
  <Override PartName="/ppt/media/image8.png" ContentType="image/png"/>
  <Override PartName="/ppt/media/image16.wmf" ContentType="image/x-wmf"/>
  <Override PartName="/ppt/media/image7.wmf" ContentType="image/x-wmf"/>
  <Override PartName="/ppt/media/image20.jpeg" ContentType="image/jpeg"/>
  <Override PartName="/ppt/media/image4.wmf" ContentType="image/x-wmf"/>
  <Override PartName="/ppt/media/image10.wmf" ContentType="image/x-wmf"/>
  <Override PartName="/ppt/media/image24.wmf" ContentType="image/x-wmf"/>
  <Override PartName="/ppt/media/image14.png" ContentType="image/png"/>
  <Override PartName="/ppt/media/image25.wmf" ContentType="image/x-wmf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8.jpeg" ContentType="image/jpeg"/>
  <Override PartName="/ppt/media/image18.png" ContentType="image/png"/>
  <Override PartName="/ppt/media/image15.wmf" ContentType="image/x-wmf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6FB5-2178-4AA7-9E03-F09DED0E1DA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79CE-F2FB-4AD4-9390-5BAD162CA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13F9-7E73-4D22-8042-AE63301C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8DEC-CB17-4520-B50B-8E002A3D0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7E07-F624-43D8-9E83-515A84BA3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321E-3438-4453-9620-5D5644B85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6B2D-CB83-4DCE-8E5F-2A2D0FFF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E097-345B-4571-9B1D-39F7DD83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CD88-B0AE-44B8-B589-57E08F27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4238A-B8D0-4D09-8ACC-A5204E29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BCCC-E6A2-4B12-9251-31EA328F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B980C-49A7-49EE-9697-7E03344F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56D1-8D8B-480A-8B2D-220670ED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3CC7-482E-4798-9EB6-6484682F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DB51-8827-4A63-B114-027179CD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6BE2-6491-4326-859E-25819F8C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3D2F-4938-46D0-A94E-B22305A94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07BE-3B36-4E67-8B45-B95D56376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FBCA-8B79-46D8-B6BE-9546FCB6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B666-C4DC-442F-8D9A-8A0D7E3C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AEDA-9F4B-47B5-89B9-EF44A1E4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6C6F-2F31-4900-8D33-3CE35DA3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7B61-DBC9-40B2-BB7A-2E5067C8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9EF2-ECB3-45E7-A61F-018DA5F1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375F-1035-40D6-AD90-85EB16DB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B49A-4129-425D-ADF8-375C03C92D29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0E28-39D7-4CFB-BB23-06D93C7229F0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D:\Vyuka\C6730 Term_FR\p&#345;edn&#225;&#353;ka_CZ\07t&#253;den\02a_NiCrMo.pdf" TargetMode="External"/><Relationship Id="rId3" Type="http://schemas.openxmlformats.org/officeDocument/2006/relationships/hyperlink" Target="D:\Vyuka\C6730 Term_FR\p&#345;edn&#225;&#353;ka_CZ\07t&#253;den\03_FD_tern&#225;rn&#237;_p&#345;&#237;klady.pdf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7 Vícefázové rovnováh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řífázová rovnováh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4648320" cy="42685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334120" y="2133720"/>
            <a:ext cx="33526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Tie-lin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7086600" cy="4383000"/>
          </a:xfrm>
          <a:prstGeom prst="rect">
            <a:avLst/>
          </a:prstGeom>
          <a:ln w="0">
            <a:noFill/>
          </a:ln>
        </p:spPr>
      </p:pic>
      <p:pic>
        <p:nvPicPr>
          <p:cNvPr id="173" name="ternread-d" descr=""/>
          <p:cNvPicPr/>
          <p:nvPr/>
        </p:nvPicPr>
        <p:blipFill>
          <a:blip r:embed="rId2"/>
          <a:stretch/>
        </p:blipFill>
        <p:spPr>
          <a:xfrm>
            <a:off x="5105520" y="76320"/>
            <a:ext cx="32763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Tie-triangl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295280" y="1001880"/>
            <a:ext cx="6629400" cy="58561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934320" y="5334120"/>
            <a:ext cx="558720" cy="1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12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3D projekc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04920" y="631800"/>
            <a:ext cx="6324480" cy="6226200"/>
          </a:xfrm>
          <a:prstGeom prst="rect">
            <a:avLst/>
          </a:prstGeom>
          <a:ln w="0">
            <a:noFill/>
          </a:ln>
        </p:spPr>
      </p:pic>
      <p:pic>
        <p:nvPicPr>
          <p:cNvPr id="179" name="ternfig1" descr=""/>
          <p:cNvPicPr/>
          <p:nvPr/>
        </p:nvPicPr>
        <p:blipFill>
          <a:blip r:embed="rId2"/>
          <a:stretch/>
        </p:blipFill>
        <p:spPr>
          <a:xfrm>
            <a:off x="6477120" y="609480"/>
            <a:ext cx="2400120" cy="22100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60280" y="1746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0280" y="1746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7760" y="290664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226800"/>
            <a:ext cx="777240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Isokoncentrační řez FD</a:t>
            </a: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 </a:t>
            </a:r>
            <a:br>
              <a:rPr sz="4400"/>
            </a:b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Plocha liquidu a solidu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8600" y="2781360"/>
            <a:ext cx="6477120" cy="40766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334120" y="4495680"/>
            <a:ext cx="319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Další příklad ternárních diagramů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>
            <a:hlinkClick r:id="rId2"/>
          </p:cNvPr>
          <p:cNvSpPr/>
          <p:nvPr/>
        </p:nvSpPr>
        <p:spPr>
          <a:xfrm>
            <a:off x="8153280" y="37339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615" h="21600">
                <a:moveTo>
                  <a:pt x="5280" y="3985"/>
                </a:moveTo>
                <a:lnTo>
                  <a:pt x="12278" y="3985"/>
                </a:lnTo>
                <a:lnTo>
                  <a:pt x="16334" y="7484"/>
                </a:lnTo>
                <a:lnTo>
                  <a:pt x="16334" y="17615"/>
                </a:lnTo>
                <a:lnTo>
                  <a:pt x="5280" y="17615"/>
                </a:lnTo>
                <a:close/>
              </a:path>
              <a:path fill="darken" w="21615" h="21600">
                <a:moveTo>
                  <a:pt x="12278" y="3985"/>
                </a:moveTo>
                <a:lnTo>
                  <a:pt x="16334" y="7484"/>
                </a:lnTo>
                <a:lnTo>
                  <a:pt x="12278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>
            <a:hlinkClick r:id="rId3"/>
          </p:cNvPr>
          <p:cNvSpPr/>
          <p:nvPr/>
        </p:nvSpPr>
        <p:spPr>
          <a:xfrm>
            <a:off x="8305920" y="4648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  <a:path fill="darkenLess" w="21600" h="30228">
                <a:moveTo>
                  <a:pt x="5273" y="8299"/>
                </a:moveTo>
                <a:lnTo>
                  <a:pt x="12271" y="8299"/>
                </a:lnTo>
                <a:lnTo>
                  <a:pt x="16327" y="11798"/>
                </a:lnTo>
                <a:lnTo>
                  <a:pt x="16327" y="21929"/>
                </a:lnTo>
                <a:lnTo>
                  <a:pt x="5273" y="21929"/>
                </a:lnTo>
                <a:close/>
              </a:path>
              <a:path fill="darken" w="21600" h="30228">
                <a:moveTo>
                  <a:pt x="12271" y="8299"/>
                </a:moveTo>
                <a:lnTo>
                  <a:pt x="16327" y="11798"/>
                </a:lnTo>
                <a:lnTo>
                  <a:pt x="12271" y="11798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8" name="fo-an-sio2_ternary_54-36-10" descr=""/>
          <p:cNvPicPr/>
          <p:nvPr/>
        </p:nvPicPr>
        <p:blipFill>
          <a:blip r:embed="rId4"/>
          <a:stretch/>
        </p:blipFill>
        <p:spPr>
          <a:xfrm>
            <a:off x="4572000" y="147600"/>
            <a:ext cx="42670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3608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etalurgie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(tepelné zpracování)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0" name="AEB-L%20Phase%20Diagram%20in%20Celsius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7418520" cy="53607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981080" y="662940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66"/>
                </a:solidFill>
                <a:latin typeface="Times New Roman"/>
              </a:rPr>
              <a:t>http://www.calphad.com/phase_diagrams.htm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Fe-Cr-C Liquid projectio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Nerezová ocel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4" name="tern" descr=""/>
          <p:cNvPicPr/>
          <p:nvPr/>
        </p:nvPicPr>
        <p:blipFill>
          <a:blip r:embed="rId1"/>
          <a:stretch/>
        </p:blipFill>
        <p:spPr>
          <a:xfrm>
            <a:off x="533520" y="2057400"/>
            <a:ext cx="4389480" cy="4022640"/>
          </a:xfrm>
          <a:prstGeom prst="rect">
            <a:avLst/>
          </a:prstGeom>
          <a:ln w="0">
            <a:noFill/>
          </a:ln>
        </p:spPr>
      </p:pic>
      <p:pic>
        <p:nvPicPr>
          <p:cNvPr id="195" name="o1" descr=""/>
          <p:cNvPicPr/>
          <p:nvPr/>
        </p:nvPicPr>
        <p:blipFill>
          <a:blip r:embed="rId2"/>
          <a:stretch/>
        </p:blipFill>
        <p:spPr>
          <a:xfrm>
            <a:off x="5562720" y="2286000"/>
            <a:ext cx="2857320" cy="21826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38680" y="46483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Fe-18Ni-8C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624852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900stC, 1Atm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9180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Aplikace ternárních diagramů</a:t>
            </a:r>
            <a:br>
              <a:rPr sz="2800"/>
            </a:b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Extrak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91540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303840"/>
            <a:ext cx="777240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 Black"/>
              </a:rPr>
              <a:t>Extrakce</a:t>
            </a:r>
            <a:endParaRPr b="0" lang="en-US" sz="2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83908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Numerický výpočet chemického potenciálu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Gibbsovo pravidlo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řífázová rovnováha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Aplikace ternárních diagramů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845820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alší aplika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5" name="phasediag" descr=""/>
          <p:cNvPicPr/>
          <p:nvPr/>
        </p:nvPicPr>
        <p:blipFill>
          <a:blip r:embed="rId1"/>
          <a:stretch/>
        </p:blipFill>
        <p:spPr>
          <a:xfrm>
            <a:off x="4114800" y="2133720"/>
            <a:ext cx="3429000" cy="28461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parace solí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PAL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8" name="sf_formclus1" descr="Approaching microemulsions at room temperature"/>
          <p:cNvPicPr/>
          <p:nvPr/>
        </p:nvPicPr>
        <p:blipFill>
          <a:blip r:embed="rId1"/>
          <a:stretch/>
        </p:blipFill>
        <p:spPr>
          <a:xfrm>
            <a:off x="4384800" y="762120"/>
            <a:ext cx="4098960" cy="56912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57200" y="2514600"/>
            <a:ext cx="358128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Fig. 1: Approaching microemulsions at room temperature ( T = 25°C) Top: test tubes of, left: equal volumes of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and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; centre-left: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–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- hydrophilic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surfactant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provides an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-in-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(o/w) microemulsion in coexistence with an excess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phase (Winsor I, 2); right: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–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- hydrophobic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surfactant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provides a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-in-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(w/o) microemulsion in coexistence with an excess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phase (Winsor II, 2 ); centre-right: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–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- balanced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surfactant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, bicontinuous microemulsion in coexistence with both excess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water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and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il</a:t>
            </a:r>
            <a:r>
              <a:rPr b="1" lang="cs-CZ" sz="1400" spc="-1" strike="noStrike">
                <a:solidFill>
                  <a:srgbClr val="004da0"/>
                </a:solidFill>
                <a:latin typeface="Arial"/>
                <a:ea typeface="Arial"/>
              </a:rPr>
              <a:t> Winsor III (3). Bottom: Isothermal Gibbs triangles of the three systems at T = 25°C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1828800"/>
            <a:ext cx="7467840" cy="31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rogramy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rmoCalc (Švédsko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thermocalc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TData (Velká Británie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np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co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uk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advanced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-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aterials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easuremen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-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techniques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odelling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mtdata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neak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actSage (Canada+SRN)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factsag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i příklady diagramů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ownloady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r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olymt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ca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fa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download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hp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#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andat (USA, Japan, Corea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puther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om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m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RMODATA (Francie)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thermodata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onlin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fr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LXE (polymery) free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vlx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57200" y="1523880"/>
            <a:ext cx="822960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agramy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SM 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ttp://www.asminternational.org/portal/site/www/info/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SI (koupit si diagram)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atabaze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GE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r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olymt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ca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sgt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index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php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ssessma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Kniha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springerlink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conten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</a:rPr>
              <a:t>/100270622k03v066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Výpočet chemického potenciál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305560" cy="43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Numerický výpočet chemického potenciál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75438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93200"/>
            <a:ext cx="777240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nalytický výpočet chemického potenciálu</a:t>
            </a:r>
            <a:br>
              <a:rPr sz="2800"/>
            </a:b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(pro vícemžížkový model)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8077320" cy="37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7724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Gibbsovo fázové pravidlo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382240" cy="52675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04920" y="6400800"/>
            <a:ext cx="8534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66"/>
                </a:solidFill>
                <a:latin typeface="Times New Roman"/>
              </a:rPr>
              <a:t>http://www.chem.arizona.edu/~salzmanr/480a/480ants/gibbspr/gibbspr.html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4" name="Image333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771800" cy="3576600"/>
          </a:xfrm>
          <a:prstGeom prst="rect">
            <a:avLst/>
          </a:prstGeom>
          <a:ln w="0">
            <a:noFill/>
          </a:ln>
        </p:spPr>
      </p:pic>
      <p:pic>
        <p:nvPicPr>
          <p:cNvPr id="165" name="Image512" descr=""/>
          <p:cNvPicPr/>
          <p:nvPr/>
        </p:nvPicPr>
        <p:blipFill>
          <a:blip r:embed="rId2"/>
          <a:stretch/>
        </p:blipFill>
        <p:spPr>
          <a:xfrm>
            <a:off x="3733920" y="2590920"/>
            <a:ext cx="510516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Příklad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927000"/>
            <a:ext cx="838188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1T12:49:09Z</dcterms:modified>
  <cp:revision>112</cp:revision>
  <dc:subject/>
  <dc:title>C6730 Fázové rovnováhy</dc:title>
</cp:coreProperties>
</file>