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16.wmf" ContentType="image/x-wmf"/>
  <Override PartName="/ppt/media/image14.jpeg" ContentType="image/jpeg"/>
  <Override PartName="/ppt/media/image1.png" ContentType="image/png"/>
  <Override PartName="/ppt/media/image5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D850-EFF5-489F-9FC4-97A2E819743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AB4-4481-4903-A9CB-5A6B11D8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A9A-0456-40D6-9F65-02A1360A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7C08-2818-444D-BEA4-DF9A38E8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92C0-73ED-4281-A3D1-EE124D912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1D7E-11F6-48C9-9832-23453F87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EB34-4E2C-45BF-84EF-8EF95534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99AF-1430-48D7-B69A-AEEE1E1E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380-8972-44A3-9D0C-119B6070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7FA-9BA3-4D87-BF35-465240AA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5102-0EED-4CC6-A707-1FE88CC8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6C5D-C6AA-46E8-BAF2-06B6690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630-6B9B-4A70-9ADB-E6B2976B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128D-9495-4234-A511-AA93EEEB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D9C3-E6A3-484D-A9A1-EEE52EED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B561-955B-4871-B823-523B392B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7F23-2289-477E-83F8-CD0FDB8D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6D78-A233-46AA-8842-756EB293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285-C1B7-4748-9552-DF962DA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AE5E-521F-4E7F-B11A-9795F336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98E-6799-43D8-8181-DDD81AD3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95C-688D-41CC-AF5A-9E8405B2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1A7-736F-48CD-A7C8-2439C2F5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CE3-F323-4119-881B-62E87458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14B-99CA-4039-96E4-4BDE5D61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492FA-3BCA-45DE-95E5-1693361025B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CA1C-1291-4EDB-9B19-CA9D6D45ED8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rct.polymtl.ca/thermo_databases.html" TargetMode="External"/><Relationship Id="rId3" Type="http://schemas.openxmlformats.org/officeDocument/2006/relationships/hyperlink" Target="http://www.crct.polymtl.ca/thermo_databases.html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vlxe.com/" TargetMode="External"/><Relationship Id="rId6" Type="http://schemas.openxmlformats.org/officeDocument/2006/relationships/hyperlink" Target="http://www.vlxe.com/" TargetMode="External"/><Relationship Id="rId7" Type="http://schemas.openxmlformats.org/officeDocument/2006/relationships/hyperlink" Target="http://www.vlxe.com/" TargetMode="External"/><Relationship Id="rId8" Type="http://schemas.openxmlformats.org/officeDocument/2006/relationships/hyperlink" Target="http://www.vlxe.com/" TargetMode="External"/><Relationship Id="rId9" Type="http://schemas.openxmlformats.org/officeDocument/2006/relationships/image" Target="../media/image1.png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asminternational.org/asmenterprise/apd/default.aspx" TargetMode="External"/><Relationship Id="rId12" Type="http://schemas.openxmlformats.org/officeDocument/2006/relationships/hyperlink" Target="http://www.asminternational.org/asmenterprise/apd/default.aspx" TargetMode="External"/><Relationship Id="rId13" Type="http://schemas.openxmlformats.org/officeDocument/2006/relationships/hyperlink" Target="http://www.asminternational.org/asmenterprise/apd/default.aspx" TargetMode="External"/><Relationship Id="rId14" Type="http://schemas.openxmlformats.org/officeDocument/2006/relationships/hyperlink" Target="http://www.asminternational.org/asmenterprise/apd/default.aspx" TargetMode="External"/><Relationship Id="rId15" Type="http://schemas.openxmlformats.org/officeDocument/2006/relationships/hyperlink" Target="http://www.asminternational.org/asmenterprise/apd/default.aspx" TargetMode="External"/><Relationship Id="rId16" Type="http://schemas.openxmlformats.org/officeDocument/2006/relationships/hyperlink" Target="http://www.asminternational.org/asmenterprise/apd/default.aspx" TargetMode="External"/><Relationship Id="rId17" Type="http://schemas.openxmlformats.org/officeDocument/2006/relationships/hyperlink" Target="http://www.asminternational.org/asmenterprise/apd/default.aspx" TargetMode="External"/><Relationship Id="rId18" Type="http://schemas.openxmlformats.org/officeDocument/2006/relationships/hyperlink" Target="http://www.asminternational.org/asmenterprise/apd/default.aspx" TargetMode="External"/><Relationship Id="rId19" Type="http://schemas.openxmlformats.org/officeDocument/2006/relationships/hyperlink" Target="http://www.asminternational.org/asmenterprise/apd/default.aspx" TargetMode="External"/><Relationship Id="rId20" Type="http://schemas.openxmlformats.org/officeDocument/2006/relationships/hyperlink" Target="http://www.asminternational.org/asmenterprise/apd/default.aspx" TargetMode="External"/><Relationship Id="rId21" Type="http://schemas.openxmlformats.org/officeDocument/2006/relationships/image" Target="../media/image1.png"/><Relationship Id="rId22" Type="http://schemas.openxmlformats.org/officeDocument/2006/relationships/hyperlink" Target="http://www1.asminternational.org/AsmEnterprise/APD/" TargetMode="External"/><Relationship Id="rId23" Type="http://schemas.openxmlformats.org/officeDocument/2006/relationships/image" Target="../media/image1.png"/><Relationship Id="rId24" Type="http://schemas.openxmlformats.org/officeDocument/2006/relationships/hyperlink" Target="http://www.crct.polymtl.ca/sgte/index.php" TargetMode="External"/><Relationship Id="rId25" Type="http://schemas.openxmlformats.org/officeDocument/2006/relationships/hyperlink" Target="http://www.crct.polymtl.ca/sgte/index.php" TargetMode="External"/><Relationship Id="rId26" Type="http://schemas.openxmlformats.org/officeDocument/2006/relationships/hyperlink" Target="http://www.crct.polymtl.ca/sgte/index.php" TargetMode="External"/><Relationship Id="rId27" Type="http://schemas.openxmlformats.org/officeDocument/2006/relationships/hyperlink" Target="http://www.crct.polymtl.ca/sgte/index.php" TargetMode="External"/><Relationship Id="rId28" Type="http://schemas.openxmlformats.org/officeDocument/2006/relationships/hyperlink" Target="http://www.crct.polymtl.ca/sgte/index.php" TargetMode="External"/><Relationship Id="rId29" Type="http://schemas.openxmlformats.org/officeDocument/2006/relationships/hyperlink" Target="http://www.crct.polymtl.ca/sgte/index.php" TargetMode="External"/><Relationship Id="rId30" Type="http://schemas.openxmlformats.org/officeDocument/2006/relationships/hyperlink" Target="http://www.crct.polymtl.ca/sgte/index.php" TargetMode="External"/><Relationship Id="rId31" Type="http://schemas.openxmlformats.org/officeDocument/2006/relationships/hyperlink" Target="http://www.crct.polymtl.ca/sgte/index.php" TargetMode="External"/><Relationship Id="rId32" Type="http://schemas.openxmlformats.org/officeDocument/2006/relationships/image" Target="../media/image12.png"/><Relationship Id="rId33" Type="http://schemas.openxmlformats.org/officeDocument/2006/relationships/hyperlink" Target="http://www.nims.go.jp/cmsc/pst/database/periodic.htm" TargetMode="External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3.jpeg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computherm.com/home.html" TargetMode="External"/><Relationship Id="rId5" Type="http://schemas.openxmlformats.org/officeDocument/2006/relationships/hyperlink" Target="http://www.factsage.com/" TargetMode="External"/><Relationship Id="rId6" Type="http://schemas.openxmlformats.org/officeDocument/2006/relationships/hyperlink" Target="http://www.crct.polymtl.ca/thermo_databases.html" TargetMode="External"/><Relationship Id="rId7" Type="http://schemas.openxmlformats.org/officeDocument/2006/relationships/hyperlink" Target="http://resource.npl.co.uk/mtdata/mtdatasoftware.htm" TargetMode="External"/><Relationship Id="rId8" Type="http://schemas.openxmlformats.org/officeDocument/2006/relationships/hyperlink" Target="http://www.npl.co.uk/science-technology/advanced-materials/measurement-techniques/mtdata/" TargetMode="External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thermodata.online.fr/anglais.html" TargetMode="External"/><Relationship Id="rId2" Type="http://schemas.openxmlformats.org/officeDocument/2006/relationships/hyperlink" Target="http://thermodata.online.fr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8 SW a termodynamické databáze pro výpočty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2096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7992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zdroje informací o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2"/>
              </a:rPr>
              <a:t>http://www.crct.polymtl.ca/thermo_databases.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ea typeface="Arial"/>
                <a:hlinkClick r:id="rId3"/>
              </a:rPr>
              <a:t>ht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vlx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co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ttp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asminternationa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org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asmenterpris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apd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/default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aspx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1.asminternational.org/AsmEnterprise/APD/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http://www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rct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polymtl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.ca/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sgte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/index.</a:t>
            </a:r>
            <a:r>
              <a:rPr b="0" lang="cs-CZ" sz="14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php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Diagramy (JP) NIMS: </a:t>
            </a: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http://www.nims.go.jp/cmsc/pst/database/periodic.htm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ssess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Kniha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3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ttp://www.springerlink.com/content/100270622k03v066/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7" name="nims_logo" descr=""/>
          <p:cNvPicPr/>
          <p:nvPr/>
        </p:nvPicPr>
        <p:blipFill>
          <a:blip r:embed="rId37"/>
          <a:stretch/>
        </p:blipFill>
        <p:spPr>
          <a:xfrm>
            <a:off x="6553080" y="4191120"/>
            <a:ext cx="1494000" cy="1093680"/>
          </a:xfrm>
          <a:prstGeom prst="rect">
            <a:avLst/>
          </a:prstGeom>
          <a:ln w="0">
            <a:noFill/>
          </a:ln>
        </p:spPr>
      </p:pic>
      <p:pic>
        <p:nvPicPr>
          <p:cNvPr id="198" name="ASM_Logo" descr=""/>
          <p:cNvPicPr/>
          <p:nvPr/>
        </p:nvPicPr>
        <p:blipFill>
          <a:blip r:embed="rId38"/>
          <a:stretch/>
        </p:blipFill>
        <p:spPr>
          <a:xfrm>
            <a:off x="6705720" y="1600200"/>
            <a:ext cx="1976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0" name="Thermodynamic_2" descr=""/>
          <p:cNvPicPr/>
          <p:nvPr/>
        </p:nvPicPr>
        <p:blipFill>
          <a:blip r:embed="rId1"/>
          <a:stretch/>
        </p:blipFill>
        <p:spPr>
          <a:xfrm>
            <a:off x="914400" y="1349280"/>
            <a:ext cx="706428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PH_p91" descr=""/>
          <p:cNvPicPr/>
          <p:nvPr/>
        </p:nvPicPr>
        <p:blipFill>
          <a:blip r:embed="rId1"/>
          <a:stretch/>
        </p:blipFill>
        <p:spPr>
          <a:xfrm>
            <a:off x="0" y="140976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2880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66699"/>
                </a:solidFill>
                <a:latin typeface="Tahoma"/>
              </a:rPr>
              <a:t>bcc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366"/>
                </a:solidFill>
                <a:latin typeface="Tahoma"/>
              </a:rPr>
              <a:t>carbid M23</a:t>
            </a: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Carbonitrid 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576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52480" y="5486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3048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fcc+ MX+M2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4495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1148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ahoma"/>
              </a:rPr>
              <a:t>bcc+M7+M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1600200"/>
            <a:ext cx="2682720" cy="30348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Řez FD  žárupevné oceli P91: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Fe-9%Cr-0,1%Ni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96%Mo-0,3%V-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0,045%N-0,1%C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n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de-DE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b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c</a:t>
            </a: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c+MX+M23+M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2 bcc+fc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ahoma"/>
              </a:rPr>
              <a:t>3 bcc+M23+M7+M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66"/>
                </a:solidFill>
                <a:latin typeface="Webdings"/>
                <a:ea typeface="Webdings"/>
              </a:rPr>
              <a:t>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lgoritmus výpočtu F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ssessment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SW pro metodu CALPHAD a Termodynamické datab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lgoritmus výpočtz FR metodou CALPHAD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147680"/>
            <a:ext cx="731520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ALPHAD metod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2792520" y="234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92520" y="234000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79640" y="350028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90720"/>
            <a:ext cx="3809880" cy="533160"/>
          </a:xfrm>
          <a:prstGeom prst="rect">
            <a:avLst/>
          </a:prstGeom>
          <a:solidFill>
            <a:srgbClr val="ff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Termodynamická datab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257800"/>
            <a:ext cx="29718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Řešení fázové rovnováhy (složení koexistujících fází,…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5486400"/>
            <a:ext cx="228600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Fázový diagram soustav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62840" y="556272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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39320" y="35053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91600" y="15238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15280" y="487692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Wingdings 3"/>
                <a:ea typeface="Wingdings 3"/>
              </a:rPr>
              <a:t>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3276720"/>
            <a:ext cx="3429000" cy="1679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Celkové složení soustavy, T,p, vazné podmínky (zákon zachování hmoty, stechiometrie, elektroneutrality)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809880"/>
            <a:ext cx="34290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Minimalizace celkové Gibbsovy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soustav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22096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2438280"/>
            <a:ext cx="2743200" cy="1069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Gibbsova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 všech </a:t>
            </a: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energie fází jako funkce p, T a složení 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15120" y="3886200"/>
            <a:ext cx="3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Wingdings 3"/>
                <a:ea typeface="Wingdings 3"/>
              </a:rPr>
              <a:t>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914400"/>
            <a:ext cx="5181480" cy="1066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Arial"/>
              </a:rPr>
              <a:t>Termodynamické parametry (experimentálně dosažitelné z termodynamických měření, získatelné z fázových dat,  „ab-initio výpočet“ 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133720"/>
            <a:ext cx="4952880" cy="533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modynamické modely fáz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343400"/>
            <a:ext cx="3962520" cy="685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dmíněná minimalizace účelové funkce mnoha proměnných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227160"/>
            <a:ext cx="8915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lgoritmus assessmentu F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447920"/>
            <a:ext cx="7772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38188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873000"/>
            <a:ext cx="91440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CALPHAD assessmen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Calphad%20Scheme" descr=""/>
          <p:cNvPicPr/>
          <p:nvPr/>
        </p:nvPicPr>
        <p:blipFill>
          <a:blip r:embed="rId1"/>
          <a:stretch/>
        </p:blipFill>
        <p:spPr>
          <a:xfrm>
            <a:off x="457200" y="1130400"/>
            <a:ext cx="7543800" cy="50562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00200" y="6095880"/>
            <a:ext cx="541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66"/>
                </a:solidFill>
                <a:latin typeface="Times New Roman"/>
              </a:rPr>
              <a:t>http://www.flyhy.eu/science_wp3.htm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-1440"/>
            <a:ext cx="8534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SW - </a:t>
            </a:r>
            <a:r>
              <a:rPr b="1" lang="en-US" sz="1600" spc="-1" strike="noStrike">
                <a:solidFill>
                  <a:srgbClr val="4d4d4d"/>
                </a:solidFill>
                <a:latin typeface="Arial Unicode MS"/>
              </a:rPr>
              <a:t>DATABASES IN CHEMICAL THERMODYNAMICS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838080"/>
          <a:ext cx="8305560" cy="5132520"/>
        </p:xfrm>
        <a:graphic>
          <a:graphicData uri="http://schemas.openxmlformats.org/drawingml/2006/table">
            <a:tbl>
              <a:tblPr/>
              <a:tblGrid>
                <a:gridCol w="1371600"/>
                <a:gridCol w="1447560"/>
                <a:gridCol w="3200400"/>
                <a:gridCol w="22860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Thermo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-</a:t>
                      </a: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3"/>
                        </a:rPr>
                        <a:t>Calc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Royal Institut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Technology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Swe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for thermodynam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phase diagram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alculations, speciall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esigned for systems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trongly non-ideal phases. Assessmen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 and workstation, commert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Panda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puTherm LLC</a:t>
                      </a:r>
                      <a:br>
                        <a:rPr sz="1600"/>
                      </a:br>
                      <a:r>
                        <a:rPr b="0" i="1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(JP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Phase diagrams and related thermodynamic calculations. Celkova G energie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mercial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5"/>
                        </a:rPr>
                        <a:t>F*A*C*T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6"/>
                        </a:rPr>
                        <a:t>École Polytechnique_x000b_de Montréal</a:t>
                      </a: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 (FR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grated 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 which coupl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oftware with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data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nline, P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d web. Commertil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7"/>
                        </a:rPr>
                        <a:t>MT-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8"/>
                        </a:rPr>
                        <a:t>NPL</a:t>
                      </a:r>
                      <a:r>
                        <a:rPr b="0" lang="en-US" sz="1600" spc="-1" strike="noStrike" u="sng">
                          <a:solidFill>
                            <a:srgbClr val="000066"/>
                          </a:solidFill>
                          <a:uFillTx/>
                          <a:latin typeface="Arial"/>
                        </a:rPr>
                        <a:t> (UK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nk system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 data 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C-disks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mercial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6" name="Thermo_Calc_logo" descr=""/>
          <p:cNvPicPr/>
          <p:nvPr/>
        </p:nvPicPr>
        <p:blipFill>
          <a:blip r:embed="rId9"/>
          <a:stretch/>
        </p:blipFill>
        <p:spPr>
          <a:xfrm>
            <a:off x="7772400" y="1905120"/>
            <a:ext cx="884160" cy="766800"/>
          </a:xfrm>
          <a:prstGeom prst="rect">
            <a:avLst/>
          </a:prstGeom>
          <a:ln w="0">
            <a:noFill/>
          </a:ln>
        </p:spPr>
      </p:pic>
      <p:pic>
        <p:nvPicPr>
          <p:cNvPr id="187" name="wwf_panda_logo_1978" descr=""/>
          <p:cNvPicPr/>
          <p:nvPr/>
        </p:nvPicPr>
        <p:blipFill>
          <a:blip r:embed="rId10"/>
          <a:stretch/>
        </p:blipFill>
        <p:spPr>
          <a:xfrm>
            <a:off x="7772400" y="3124080"/>
            <a:ext cx="993600" cy="925560"/>
          </a:xfrm>
          <a:prstGeom prst="rect">
            <a:avLst/>
          </a:prstGeom>
          <a:ln w="0">
            <a:noFill/>
          </a:ln>
        </p:spPr>
      </p:pic>
      <p:pic>
        <p:nvPicPr>
          <p:cNvPr id="188" name="sp_factsage" descr=""/>
          <p:cNvPicPr/>
          <p:nvPr/>
        </p:nvPicPr>
        <p:blipFill>
          <a:blip r:embed="rId11"/>
          <a:stretch/>
        </p:blipFill>
        <p:spPr>
          <a:xfrm>
            <a:off x="6553080" y="4648320"/>
            <a:ext cx="217188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14488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44880" y="2484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3200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2" name="demlog160" descr=""/>
          <p:cNvPicPr/>
          <p:nvPr/>
        </p:nvPicPr>
        <p:blipFill>
          <a:blip r:embed="rId12"/>
          <a:stretch/>
        </p:blipFill>
        <p:spPr>
          <a:xfrm>
            <a:off x="7772400" y="5486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47016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Pokračování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365120"/>
          <a:ext cx="8077320" cy="5086440"/>
        </p:xfrm>
        <a:graphic>
          <a:graphicData uri="http://schemas.openxmlformats.org/drawingml/2006/table">
            <a:tbl>
              <a:tblPr/>
              <a:tblGrid>
                <a:gridCol w="1143000"/>
                <a:gridCol w="1447920"/>
                <a:gridCol w="3200400"/>
                <a:gridCol w="228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méno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ůvod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bsah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řístu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0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omp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Thermodoc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1"/>
                        </a:rPr>
                        <a:t>Gemini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3366"/>
                          </a:solidFill>
                          <a:uFillTx/>
                          <a:latin typeface="Arial Unicode MS"/>
                          <a:hlinkClick r:id="rId2"/>
                        </a:rPr>
                        <a:t>THERMODATA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elements and substa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 inorganic chemistry,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ir reaction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(Bibliographic referenc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ertaining to th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dynamic properties of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elements, stoichiometric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tances, alloys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-stoichiometric phases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f interest to dry miner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hemistry)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ranspac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nternet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chemic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roperty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JICST. factual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bases (JOIS-F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thermophysical and relate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ata for inorganic an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low molecular weight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compounds and up to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3-component systems.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planned for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WWW,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subscript.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te: this service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is temporary down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2-12T15:02:49Z</dcterms:modified>
  <cp:revision>122</cp:revision>
  <dc:subject/>
  <dc:title>C6730 Fázové rovnováhy</dc:title>
</cp:coreProperties>
</file>