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.gif" ContentType="image/gif"/>
  <Override PartName="/ppt/media/image9.png" ContentType="image/png"/>
  <Override PartName="/ppt/media/image13.png" ContentType="image/png"/>
  <Override PartName="/ppt/media/image18.jpeg" ContentType="image/jpeg"/>
  <Override PartName="/ppt/media/image7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6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0EAA-5AC1-44BC-9BC6-0534983A4ED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4373-EE70-44B6-950D-0F332E26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E5FB-FACA-4389-9090-95D89234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708B-BCDB-4FF0-827D-32A51DC7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26AB-65CF-4DB4-8EDE-A1D66E25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F050-007F-4C52-95A7-7639FA3A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97AC-88E1-4641-8CBC-C05BF6D0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04EC-2346-4BA7-A283-29A55A94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E205-D2C0-489E-A062-CD097C76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3406-2C53-456E-88D3-E96FD8DC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54AB-A570-487E-ADA3-26E6D5E7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AB72-F74E-4213-A2CF-76471FDC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83B0-69EC-45B5-B41D-AD73C29B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2689-E0BA-4C81-9A06-D77DCC85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B54D-4924-4B8C-B55F-4B71FF1D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BD64-77AB-4FBA-8E5F-1EADDAC0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DCBA-C9D3-4E9F-941A-5D6B8F71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5CD1-F0B1-481A-AA05-CAA4C179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43FB-3F9E-4371-8B2E-FD25B48A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F30B-53EE-44A6-9B52-22B79D18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D021-7948-4F3C-AE78-B34D3D4A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EE1B-9EEA-4ADB-8A95-580DDF22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CF6-33EB-4FCF-896A-32F76D18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A19-D669-4183-BD85-9961810D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75D-0177-4AD4-8CD9-6B48D4BD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AE48-2546-403D-A73F-83AA19577D1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1CFE-4B86-4909-85BE-66997F2B1E7A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08a Quatermární soustav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Žáropevné oceli P91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3" name="Fig_FD_P91_oK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867640" cy="5311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400800" y="106668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P=1Atm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Fe-9wt%Cr-1%Mo-0,2%V-0,01%N-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0512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0512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260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reasonable_price_of_P91_steel_alloy_pipe" descr=""/>
          <p:cNvPicPr/>
          <p:nvPr/>
        </p:nvPicPr>
        <p:blipFill>
          <a:blip r:embed="rId2"/>
          <a:stretch/>
        </p:blipFill>
        <p:spPr>
          <a:xfrm>
            <a:off x="6248520" y="2362320"/>
            <a:ext cx="2609640" cy="1931760"/>
          </a:xfrm>
          <a:prstGeom prst="rect">
            <a:avLst/>
          </a:prstGeom>
          <a:ln w="0">
            <a:noFill/>
          </a:ln>
        </p:spPr>
      </p:pic>
      <p:pic>
        <p:nvPicPr>
          <p:cNvPr id="189" name="T91p91_1" descr=""/>
          <p:cNvPicPr/>
          <p:nvPr/>
        </p:nvPicPr>
        <p:blipFill>
          <a:blip r:embed="rId3"/>
          <a:stretch/>
        </p:blipFill>
        <p:spPr>
          <a:xfrm>
            <a:off x="6324480" y="4290840"/>
            <a:ext cx="2362320" cy="21225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00800" y="6477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evnost při creep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a_01_ph2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350120" cy="54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385920"/>
            <a:ext cx="82296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85920"/>
            <a:ext cx="9144000" cy="360"/>
          </a:xfrm>
          <a:prstGeom prst="rect">
            <a:avLst/>
          </a:prstGeom>
          <a:solidFill>
            <a:srgbClr val="d1d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5" name="a_03_ph2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5832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redikce FD 4 – složkové soustav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Quaternární soustav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65320"/>
            <a:ext cx="4495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rojekce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4479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763120" cy="5311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6516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516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95920" y="3859200"/>
            <a:ext cx="2482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5264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62120" y="3429000"/>
            <a:ext cx="27460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měsné sulfid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CAgSbZ3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114800" cy="3911760"/>
          </a:xfrm>
          <a:prstGeom prst="rect">
            <a:avLst/>
          </a:prstGeom>
          <a:ln w="0">
            <a:noFill/>
          </a:ln>
        </p:spPr>
      </p:pic>
      <p:pic>
        <p:nvPicPr>
          <p:cNvPr id="162" name="CAgSbZ6" descr="Three assemblages"/>
          <p:cNvPicPr/>
          <p:nvPr/>
        </p:nvPicPr>
        <p:blipFill>
          <a:blip r:embed="rId2"/>
          <a:stretch/>
        </p:blipFill>
        <p:spPr>
          <a:xfrm>
            <a:off x="4648320" y="1143000"/>
            <a:ext cx="4149720" cy="3944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28600" y="5334120"/>
            <a:ext cx="861048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'sphalerite' ….ZnS,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ArgCal … argentite-chalcocite solid solution (Ag,Cu)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,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Miargyrite….AgSb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 Pyrargyrite…Ag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b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ahlore…Cu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10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Zn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b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4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cs-CZ" sz="1600" spc="-1" strike="noStrike" baseline="-30000">
                <a:solidFill>
                  <a:srgbClr val="000066"/>
                </a:solidFill>
                <a:latin typeface="Times New Roman"/>
              </a:rPr>
              <a:t>13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86600" y="5334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research.amnh.org/~debel/sulfide/fahlore/CASZsys1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200"/>
            <a:ext cx="7772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Cryovolcanism on icy satellites: Application to Titan.</a:t>
            </a:r>
            <a:endParaRPr b="0" lang="en-US" sz="1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293040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3040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788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phase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154480" cy="4857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019920" y="1143000"/>
            <a:ext cx="2590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http://www.es.ucl.ac.uk/research/planetary/undergraduate/dom/weathering_titan/chap7.ht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clastic" descr=""/>
          <p:cNvPicPr/>
          <p:nvPr/>
        </p:nvPicPr>
        <p:blipFill>
          <a:blip r:embed="rId2"/>
          <a:stretch/>
        </p:blipFill>
        <p:spPr>
          <a:xfrm>
            <a:off x="5867280" y="2590920"/>
            <a:ext cx="2935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Ocel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Fe-4Mo-Cr-C%20at%201000%20degree%20C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894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593280"/>
            <a:ext cx="44956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Nerez ocel Fe-18Cr-8Ni-0,2%C-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83265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000680" cy="3782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2000" y="3048120"/>
            <a:ext cx="3581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Fig 1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Phase diagram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of stainless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eel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AISI 420 (X20Cr13) calculated by Thermocalc including isobars of equilibrium N2 pressure. At a temperature of 1100¿C and P(n2) just below 1 bar, for example, a nitrogen content of 0.35% is expected in the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eel</a:t>
            </a:r>
            <a:r>
              <a:rPr b="1" lang="cs-CZ" sz="1600" spc="-1" strike="noStrike">
                <a:solidFill>
                  <a:srgbClr val="666666"/>
                </a:solidFill>
                <a:latin typeface="Verdana"/>
              </a:rPr>
              <a:t> surface which, together with 0.2% C in the bulk material, is sufficient to produce a surface hardness of about 59 HRC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83266" descr=""/>
          <p:cNvPicPr/>
          <p:nvPr/>
        </p:nvPicPr>
        <p:blipFill>
          <a:blip r:embed="rId2"/>
          <a:stretch/>
        </p:blipFill>
        <p:spPr>
          <a:xfrm>
            <a:off x="6781680" y="304920"/>
            <a:ext cx="187164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097000" y="304920"/>
            <a:ext cx="6275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99840" y="227160"/>
            <a:ext cx="6705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b-oceli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1-66591" descr=""/>
          <p:cNvPicPr/>
          <p:nvPr/>
        </p:nvPicPr>
        <p:blipFill>
          <a:blip r:embed="rId1"/>
          <a:stretch/>
        </p:blipFill>
        <p:spPr>
          <a:xfrm>
            <a:off x="533520" y="895320"/>
            <a:ext cx="65530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5:29:23Z</dcterms:modified>
  <cp:revision>117</cp:revision>
  <dc:subject/>
  <dc:title>C6730 Fázové rovnováhy</dc:title>
</cp:coreProperties>
</file>