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.gif" ContentType="image/gif"/>
  <Override PartName="/ppt/media/image9.png" ContentType="image/png"/>
  <Override PartName="/ppt/media/image13.png" ContentType="image/png"/>
  <Override PartName="/ppt/media/image18.jpeg" ContentType="image/jpeg"/>
  <Override PartName="/ppt/media/image7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6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A5FB-356E-43FE-959D-85ED311FBF1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F995-DED2-4294-8C12-A68A008D1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78ED-FC01-4D5B-B81C-2BE9030E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0C87-2D4E-49E2-ABCB-B85AF0681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9EE1-E8FA-4B9D-AD5D-6411C6BA6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C49A-B73E-4921-9E8D-11DB3B98A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F0D9-4AD4-4B2F-B05B-72888074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D2FB-47AA-4F59-A58C-61BA6648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19DB-5D9C-401B-9107-94111BCA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2C00-E8C8-44E5-AE72-FC2258C3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D0F2-8D48-4741-AFA1-C927104B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03C3-E922-4D27-842B-4A25AE71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D26A-E974-4F99-A1D2-195A5F62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79B8-0F68-4B1C-BD21-62FBCBFB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5343-FB8A-4EF9-86DB-F6A28B72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BAA2-5445-496C-A22F-7A612039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78FE-9708-407C-B566-E3913AE45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7B92-E030-4BDE-BF2E-71E9892C5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714B-843F-4745-A84C-7F86C4D9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1B26-5693-4F9F-86AA-A490B1C2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189C-A014-4313-9B39-80CEE8D3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3DED-B4BB-4DFC-931F-CB3F7E7C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5BD1-80E7-4BF8-B452-43C1C341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E02C-49BA-4D0F-9573-0BFD278D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7237-12D9-4882-A797-24447FE2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71BE-37A0-4B76-9E58-EEF58FCD1750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D1FC-60CE-426A-95C5-558450C32524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08a Quatermární soustav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Žáropevné oceli P91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3" name="Fig_FD_P91_oK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867640" cy="5311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400800" y="1066680"/>
            <a:ext cx="2514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=1Atm,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Fe-9wt%Cr-1%Mo-0,2%V-0,01%N-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05120" y="24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05120" y="2484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2600" y="36450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8" name="reasonable_price_of_P91_steel_alloy_pipe" descr=""/>
          <p:cNvPicPr/>
          <p:nvPr/>
        </p:nvPicPr>
        <p:blipFill>
          <a:blip r:embed="rId2"/>
          <a:stretch/>
        </p:blipFill>
        <p:spPr>
          <a:xfrm>
            <a:off x="6248520" y="2362320"/>
            <a:ext cx="2609640" cy="1931760"/>
          </a:xfrm>
          <a:prstGeom prst="rect">
            <a:avLst/>
          </a:prstGeom>
          <a:ln w="0">
            <a:noFill/>
          </a:ln>
        </p:spPr>
      </p:pic>
      <p:pic>
        <p:nvPicPr>
          <p:cNvPr id="189" name="T91p91_1" descr=""/>
          <p:cNvPicPr/>
          <p:nvPr/>
        </p:nvPicPr>
        <p:blipFill>
          <a:blip r:embed="rId3"/>
          <a:stretch/>
        </p:blipFill>
        <p:spPr>
          <a:xfrm>
            <a:off x="6324480" y="4290840"/>
            <a:ext cx="2362320" cy="21225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400800" y="64771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Pevnost při creep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a_01_ph2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350120" cy="54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385920"/>
            <a:ext cx="82296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85920"/>
            <a:ext cx="9144000" cy="36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5" name="a_03_ph2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832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redikce FD 4 – složkové soustav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Quaternární soustav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65320"/>
            <a:ext cx="4495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Projekce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447920"/>
            <a:ext cx="77724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763120" cy="5311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965160" y="24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5160" y="2484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95920" y="3859200"/>
            <a:ext cx="248292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52640" y="36450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62120" y="3429000"/>
            <a:ext cx="27460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22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Směsné sulfid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1" name="CAgSbZ3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4114800" cy="3911760"/>
          </a:xfrm>
          <a:prstGeom prst="rect">
            <a:avLst/>
          </a:prstGeom>
          <a:ln w="0">
            <a:noFill/>
          </a:ln>
        </p:spPr>
      </p:pic>
      <p:pic>
        <p:nvPicPr>
          <p:cNvPr id="162" name="CAgSbZ6" descr="Three assemblages"/>
          <p:cNvPicPr/>
          <p:nvPr/>
        </p:nvPicPr>
        <p:blipFill>
          <a:blip r:embed="rId2"/>
          <a:stretch/>
        </p:blipFill>
        <p:spPr>
          <a:xfrm>
            <a:off x="4648320" y="1143000"/>
            <a:ext cx="4149720" cy="3944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8600" y="5334120"/>
            <a:ext cx="861048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'sphalerite' ….ZnS,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ArgCal … argentite-chalcocite solid solution (Ag,Cu)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,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Miargyrite….AgSbS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. Pyrargyrite…Ag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bS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Fahlore…Cu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b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4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13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86600" y="533412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http://research.amnh.org/~debel/sulfide/fahlore/CASZsys1.htm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30420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Cryovolcanism on icy satellites: Application to Titan.</a:t>
            </a:r>
            <a:endParaRPr b="0" lang="en-US" sz="1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2930400" y="24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30400" y="2484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17880" y="36450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phase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5154480" cy="48574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019920" y="1143000"/>
            <a:ext cx="259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http://www.es.ucl.ac.uk/research/planetary/undergraduate/dom/weathering_titan/chap7.ht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1" name="clastic" descr=""/>
          <p:cNvPicPr/>
          <p:nvPr/>
        </p:nvPicPr>
        <p:blipFill>
          <a:blip r:embed="rId2"/>
          <a:stretch/>
        </p:blipFill>
        <p:spPr>
          <a:xfrm>
            <a:off x="5867280" y="2590920"/>
            <a:ext cx="29354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Oceli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Fe-4Mo-Cr-C%20at%201000%20degree%20C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789444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449568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Nerez ocel Fe-18Cr-8Ni-0,2%C-N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5" name="83265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000680" cy="3782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572000" y="3048120"/>
            <a:ext cx="3581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666666"/>
                </a:solidFill>
                <a:latin typeface="Verdana"/>
              </a:rPr>
              <a:t>Fig 1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Phase diagram</a:t>
            </a:r>
            <a:r>
              <a:rPr b="1" lang="cs-CZ" sz="1600" spc="-1" strike="noStrike">
                <a:solidFill>
                  <a:srgbClr val="666666"/>
                </a:solidFill>
                <a:latin typeface="Verdana"/>
              </a:rPr>
              <a:t> of stainless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steel</a:t>
            </a:r>
            <a:r>
              <a:rPr b="1" lang="cs-CZ" sz="1600" spc="-1" strike="noStrike">
                <a:solidFill>
                  <a:srgbClr val="666666"/>
                </a:solidFill>
                <a:latin typeface="Verdana"/>
              </a:rPr>
              <a:t> AISI 420 (X20Cr13) calculated by Thermocalc including isobars of equilibrium N2 pressure. At a temperature of 1100¿C and P(n2) just below 1 bar, for example, a nitrogen content of 0.35% is expected in the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steel</a:t>
            </a:r>
            <a:r>
              <a:rPr b="1" lang="cs-CZ" sz="1600" spc="-1" strike="noStrike">
                <a:solidFill>
                  <a:srgbClr val="666666"/>
                </a:solidFill>
                <a:latin typeface="Verdana"/>
              </a:rPr>
              <a:t> surface which, together with 0.2% C in the bulk material, is sufficient to produce a surface hardness of about 59 HRC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7" name="83266" descr=""/>
          <p:cNvPicPr/>
          <p:nvPr/>
        </p:nvPicPr>
        <p:blipFill>
          <a:blip r:embed="rId2"/>
          <a:stretch/>
        </p:blipFill>
        <p:spPr>
          <a:xfrm>
            <a:off x="6781680" y="304920"/>
            <a:ext cx="1871640" cy="27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097000" y="304920"/>
            <a:ext cx="62755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99840" y="227160"/>
            <a:ext cx="6705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Nb-oceli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1-66591" descr=""/>
          <p:cNvPicPr/>
          <p:nvPr/>
        </p:nvPicPr>
        <p:blipFill>
          <a:blip r:embed="rId1"/>
          <a:stretch/>
        </p:blipFill>
        <p:spPr>
          <a:xfrm>
            <a:off x="533520" y="895320"/>
            <a:ext cx="655308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1T15:29:23Z</dcterms:modified>
  <cp:revision>117</cp:revision>
  <dc:subject/>
  <dc:title>C6730 Fázové rovnováhy</dc:title>
</cp:coreProperties>
</file>