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2.gif" ContentType="image/gif"/>
  <Override PartName="/ppt/media/image16.wmf" ContentType="image/x-wmf"/>
  <Override PartName="/ppt/media/image14.jpeg" ContentType="image/jpeg"/>
  <Override PartName="/ppt/media/image1.png" ContentType="image/png"/>
  <Override PartName="/ppt/media/image5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D171-ABCE-4424-B73E-43B08680CD8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7E9C-4DC6-4DE2-A68C-77F698E4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9ADE-BE5F-4326-BD35-7A6F522E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C748-7172-4CAA-B5B6-A2A42E36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64E0-851C-4276-B6F6-523B5DA9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190B-B857-49FE-B625-6A84D1F6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2A09-AFE3-4A71-9C65-A0108BC5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E2DD-DE62-47EB-8CEF-613380B2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9D7E-7795-4417-998F-A2ADB1C6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1037-B607-44C7-B383-4DA1B483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F300-B6F6-438D-8043-B072A1B3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2B24-A716-4A4B-AE37-2B6CAB37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0FC6-CB5C-4504-BCF2-AA33D16E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27A9-FAF4-4364-A671-09B0D354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6393-2875-469A-9A35-00B1135C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4697-DB93-46CB-A90E-A0CC13CD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67AC-AD09-40E2-AC3C-25674B5F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15F1-4048-4BB7-B13B-4B2A43FD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0582-AC3B-409F-969E-04F95680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0274-0EFB-4E17-916F-CBE0630E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49FA-4C5A-4C0B-A5D3-835E490A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15EF-8998-42A7-ACC0-10A0BB29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E94C-6C20-4D8E-8743-C34AF054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BC1D-BFCB-488B-8D77-D65FEDEB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6470-9826-4FB9-BC6F-B8CBF701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4F91-B52C-4D5A-B572-AAE9186557FA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76B0-5E37-4CC6-9D78-5774D33300C5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rct.polymtl.ca/thermo_databases.html" TargetMode="External"/><Relationship Id="rId3" Type="http://schemas.openxmlformats.org/officeDocument/2006/relationships/hyperlink" Target="http://www.crct.polymtl.ca/thermo_databases.html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vlxe.com/" TargetMode="External"/><Relationship Id="rId6" Type="http://schemas.openxmlformats.org/officeDocument/2006/relationships/hyperlink" Target="http://www.vlxe.com/" TargetMode="External"/><Relationship Id="rId7" Type="http://schemas.openxmlformats.org/officeDocument/2006/relationships/hyperlink" Target="http://www.vlxe.com/" TargetMode="External"/><Relationship Id="rId8" Type="http://schemas.openxmlformats.org/officeDocument/2006/relationships/hyperlink" Target="http://www.vlxe.com/" TargetMode="External"/><Relationship Id="rId9" Type="http://schemas.openxmlformats.org/officeDocument/2006/relationships/image" Target="../media/image1.png"/><Relationship Id="rId10" Type="http://schemas.openxmlformats.org/officeDocument/2006/relationships/hyperlink" Target="http://www.asminternational.org/asmenterprise/apd/default.aspx" TargetMode="External"/><Relationship Id="rId11" Type="http://schemas.openxmlformats.org/officeDocument/2006/relationships/hyperlink" Target="http://www.asminternational.org/asmenterprise/apd/default.aspx" TargetMode="External"/><Relationship Id="rId12" Type="http://schemas.openxmlformats.org/officeDocument/2006/relationships/hyperlink" Target="http://www.asminternational.org/asmenterprise/apd/default.aspx" TargetMode="External"/><Relationship Id="rId13" Type="http://schemas.openxmlformats.org/officeDocument/2006/relationships/hyperlink" Target="http://www.asminternational.org/asmenterprise/apd/default.aspx" TargetMode="External"/><Relationship Id="rId14" Type="http://schemas.openxmlformats.org/officeDocument/2006/relationships/hyperlink" Target="http://www.asminternational.org/asmenterprise/apd/default.aspx" TargetMode="External"/><Relationship Id="rId15" Type="http://schemas.openxmlformats.org/officeDocument/2006/relationships/hyperlink" Target="http://www.asminternational.org/asmenterprise/apd/default.aspx" TargetMode="External"/><Relationship Id="rId16" Type="http://schemas.openxmlformats.org/officeDocument/2006/relationships/hyperlink" Target="http://www.asminternational.org/asmenterprise/apd/default.aspx" TargetMode="External"/><Relationship Id="rId17" Type="http://schemas.openxmlformats.org/officeDocument/2006/relationships/hyperlink" Target="http://www.asminternational.org/asmenterprise/apd/default.aspx" TargetMode="External"/><Relationship Id="rId18" Type="http://schemas.openxmlformats.org/officeDocument/2006/relationships/hyperlink" Target="http://www.asminternational.org/asmenterprise/apd/default.aspx" TargetMode="External"/><Relationship Id="rId19" Type="http://schemas.openxmlformats.org/officeDocument/2006/relationships/hyperlink" Target="http://www.asminternational.org/asmenterprise/apd/default.aspx" TargetMode="External"/><Relationship Id="rId20" Type="http://schemas.openxmlformats.org/officeDocument/2006/relationships/hyperlink" Target="http://www.asminternational.org/asmenterprise/apd/default.aspx" TargetMode="External"/><Relationship Id="rId21" Type="http://schemas.openxmlformats.org/officeDocument/2006/relationships/image" Target="../media/image1.png"/><Relationship Id="rId22" Type="http://schemas.openxmlformats.org/officeDocument/2006/relationships/hyperlink" Target="http://www1.asminternational.org/AsmEnterprise/APD/" TargetMode="External"/><Relationship Id="rId23" Type="http://schemas.openxmlformats.org/officeDocument/2006/relationships/image" Target="../media/image1.png"/><Relationship Id="rId24" Type="http://schemas.openxmlformats.org/officeDocument/2006/relationships/hyperlink" Target="http://www.crct.polymtl.ca/sgte/index.php" TargetMode="External"/><Relationship Id="rId25" Type="http://schemas.openxmlformats.org/officeDocument/2006/relationships/hyperlink" Target="http://www.crct.polymtl.ca/sgte/index.php" TargetMode="External"/><Relationship Id="rId26" Type="http://schemas.openxmlformats.org/officeDocument/2006/relationships/hyperlink" Target="http://www.crct.polymtl.ca/sgte/index.php" TargetMode="External"/><Relationship Id="rId27" Type="http://schemas.openxmlformats.org/officeDocument/2006/relationships/hyperlink" Target="http://www.crct.polymtl.ca/sgte/index.php" TargetMode="External"/><Relationship Id="rId28" Type="http://schemas.openxmlformats.org/officeDocument/2006/relationships/hyperlink" Target="http://www.crct.polymtl.ca/sgte/index.php" TargetMode="External"/><Relationship Id="rId29" Type="http://schemas.openxmlformats.org/officeDocument/2006/relationships/hyperlink" Target="http://www.crct.polymtl.ca/sgte/index.php" TargetMode="External"/><Relationship Id="rId30" Type="http://schemas.openxmlformats.org/officeDocument/2006/relationships/hyperlink" Target="http://www.crct.polymtl.ca/sgte/index.php" TargetMode="External"/><Relationship Id="rId31" Type="http://schemas.openxmlformats.org/officeDocument/2006/relationships/hyperlink" Target="http://www.crct.polymtl.ca/sgte/index.php" TargetMode="External"/><Relationship Id="rId32" Type="http://schemas.openxmlformats.org/officeDocument/2006/relationships/image" Target="../media/image12.png"/><Relationship Id="rId33" Type="http://schemas.openxmlformats.org/officeDocument/2006/relationships/hyperlink" Target="http://www.nims.go.jp/cmsc/pst/database/periodic.htm" TargetMode="External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3.jpeg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hermocalc.com/" TargetMode="External"/><Relationship Id="rId2" Type="http://schemas.openxmlformats.org/officeDocument/2006/relationships/hyperlink" Target="http://www.thermocalc.com/" TargetMode="External"/><Relationship Id="rId3" Type="http://schemas.openxmlformats.org/officeDocument/2006/relationships/hyperlink" Target="http://www.thermocalc.com/" TargetMode="External"/><Relationship Id="rId4" Type="http://schemas.openxmlformats.org/officeDocument/2006/relationships/hyperlink" Target="http://www.computherm.com/home.html" TargetMode="External"/><Relationship Id="rId5" Type="http://schemas.openxmlformats.org/officeDocument/2006/relationships/hyperlink" Target="http://www.factsage.com/" TargetMode="External"/><Relationship Id="rId6" Type="http://schemas.openxmlformats.org/officeDocument/2006/relationships/hyperlink" Target="http://www.crct.polymtl.ca/thermo_databases.html" TargetMode="External"/><Relationship Id="rId7" Type="http://schemas.openxmlformats.org/officeDocument/2006/relationships/hyperlink" Target="http://resource.npl.co.uk/mtdata/mtdatasoftware.htm" TargetMode="External"/><Relationship Id="rId8" Type="http://schemas.openxmlformats.org/officeDocument/2006/relationships/hyperlink" Target="http://www.npl.co.uk/science-technology/advanced-materials/measurement-techniques/mtdata/" TargetMode="External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hermodata.online.fr/anglais.html" TargetMode="External"/><Relationship Id="rId2" Type="http://schemas.openxmlformats.org/officeDocument/2006/relationships/hyperlink" Target="http://thermodata.online.fr/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8 SW a termodynamické databáze pro výpočty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400800" y="4419720"/>
            <a:ext cx="22096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799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alší zdroje informací o F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  <a:hlinkClick r:id="rId2"/>
              </a:rPr>
              <a:t>http://www.crct.polymtl.ca/thermo_databases.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  <a:hlinkClick r:id="rId3"/>
              </a:rPr>
              <a:t>htm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LXE (polymery) free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"/>
              </a:rPr>
              <a:t>http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6"/>
              </a:rPr>
              <a:t>vlx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7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8"/>
              </a:rPr>
              <a:t>com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y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M 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0"/>
              </a:rPr>
              <a:t>ttp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1"/>
              </a:rPr>
              <a:t>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2"/>
              </a:rPr>
              <a:t>asminternational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3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4"/>
              </a:rPr>
              <a:t>org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5"/>
              </a:rPr>
              <a:t>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6"/>
              </a:rPr>
              <a:t>asmenterpris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7"/>
              </a:rPr>
              <a:t>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8"/>
              </a:rPr>
              <a:t>apd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9"/>
              </a:rPr>
              <a:t>/default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0"/>
              </a:rPr>
              <a:t>aspx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2"/>
              </a:rPr>
              <a:t>http://www1.asminternational.org/AsmEnterprise/APD/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GE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4"/>
              </a:rPr>
              <a:t>http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5"/>
              </a:rPr>
              <a:t>crct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6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7"/>
              </a:rPr>
              <a:t>polymtl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8"/>
              </a:rPr>
              <a:t>.ca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9"/>
              </a:rPr>
              <a:t>sgt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0"/>
              </a:rPr>
              <a:t>/index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1"/>
              </a:rPr>
              <a:t>php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Diagramy (JP) NIMS: 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hlinkClick r:id="rId33"/>
              </a:rPr>
              <a:t>http://www.nims.go.jp/cmsc/pst/database/periodic.htm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ssess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Kniha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http://www.springerlink.com/content/100270622k03v066/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7" name="nims_logo" descr=""/>
          <p:cNvPicPr/>
          <p:nvPr/>
        </p:nvPicPr>
        <p:blipFill>
          <a:blip r:embed="rId37"/>
          <a:stretch/>
        </p:blipFill>
        <p:spPr>
          <a:xfrm>
            <a:off x="6553080" y="4191120"/>
            <a:ext cx="1494000" cy="1093680"/>
          </a:xfrm>
          <a:prstGeom prst="rect">
            <a:avLst/>
          </a:prstGeom>
          <a:ln w="0">
            <a:noFill/>
          </a:ln>
        </p:spPr>
      </p:pic>
      <p:pic>
        <p:nvPicPr>
          <p:cNvPr id="198" name="ASM_Logo" descr=""/>
          <p:cNvPicPr/>
          <p:nvPr/>
        </p:nvPicPr>
        <p:blipFill>
          <a:blip r:embed="rId38"/>
          <a:stretch/>
        </p:blipFill>
        <p:spPr>
          <a:xfrm>
            <a:off x="6705720" y="1600200"/>
            <a:ext cx="197640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0" name="Thermodynamic_2" descr=""/>
          <p:cNvPicPr/>
          <p:nvPr/>
        </p:nvPicPr>
        <p:blipFill>
          <a:blip r:embed="rId1"/>
          <a:stretch/>
        </p:blipFill>
        <p:spPr>
          <a:xfrm>
            <a:off x="914400" y="1349280"/>
            <a:ext cx="706428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2" name="PH_p91" descr=""/>
          <p:cNvPicPr/>
          <p:nvPr/>
        </p:nvPicPr>
        <p:blipFill>
          <a:blip r:embed="rId1"/>
          <a:stretch/>
        </p:blipFill>
        <p:spPr>
          <a:xfrm>
            <a:off x="0" y="140976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828800" y="2133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41148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6699"/>
                </a:solidFill>
                <a:latin typeface="Tahoma"/>
              </a:rPr>
              <a:t>bcc</a:t>
            </a: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Tahoma"/>
              </a:rPr>
              <a:t>carbid M23</a:t>
            </a: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Carbonitrid 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95760" y="2590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M7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5486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3276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3048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 MX+M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4495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4114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bcc+M7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1600200"/>
            <a:ext cx="2682720" cy="30348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Řez FD  žárupevné oceli P91: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Fe-9%Cr-0,1%Ni-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0,96%Mo-0,3%V-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0,045%N-0,1%C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n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i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Nb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1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bc</a:t>
            </a: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c+MX+M23+M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2 bcc+fcc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+M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3 bcc+M23+M7+M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28800" y="4952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66"/>
                </a:solidFill>
                <a:latin typeface="Webdings"/>
                <a:ea typeface="Webdings"/>
              </a:rPr>
              <a:t>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lgoritmus výpočtu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ssessment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SW pro metodu CALPHAD a Termodynamické datab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lgoritmus výpočtz FR metodou CALPHAD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1147680"/>
            <a:ext cx="731520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ALPHAD metod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2792520" y="234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92520" y="234000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79640" y="350028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990720"/>
            <a:ext cx="3809880" cy="533160"/>
          </a:xfrm>
          <a:prstGeom prst="rect">
            <a:avLst/>
          </a:prstGeom>
          <a:solidFill>
            <a:srgbClr val="ffe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Termodynamická databáz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9810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5257800"/>
            <a:ext cx="297180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Řešení fázové rovnováhy (složení koexistujících fází,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5486400"/>
            <a:ext cx="228600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Fázový diagram soustav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62840" y="5562720"/>
            <a:ext cx="3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Wingdings 3"/>
                <a:ea typeface="Wingdings 3"/>
              </a:rPr>
              <a:t>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39320" y="350532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91600" y="15238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15280" y="487692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3276720"/>
            <a:ext cx="3429000" cy="1679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Celkové složení soustavy, T,p, vazné podmínky (zákon zachování hmoty, stechiometrie, elektroneutrality)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809880"/>
            <a:ext cx="34290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Minimalizace celkové Gibbsovy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soustav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22096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24382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všech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15120" y="3886200"/>
            <a:ext cx="3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Wingdings 3"/>
                <a:ea typeface="Wingdings 3"/>
              </a:rPr>
              <a:t>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914400"/>
            <a:ext cx="5181480" cy="1066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Arial"/>
              </a:rPr>
              <a:t>Termodynamické parametry (experimentálně dosažitelné z termodynamických měření, získatelné z fázových dat,  „ab-initio výpočet“ 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2133720"/>
            <a:ext cx="4952880" cy="533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rmodynamické modely fáz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343400"/>
            <a:ext cx="396252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dmíněná minimalizace účelové funkce mnoha proměnných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227160"/>
            <a:ext cx="8915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lgoritmus assessmentu F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447920"/>
            <a:ext cx="777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pokračování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873000"/>
            <a:ext cx="914400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ALPHAD assessmen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Calphad%20Scheme" descr=""/>
          <p:cNvPicPr/>
          <p:nvPr/>
        </p:nvPicPr>
        <p:blipFill>
          <a:blip r:embed="rId1"/>
          <a:stretch/>
        </p:blipFill>
        <p:spPr>
          <a:xfrm>
            <a:off x="457200" y="1130400"/>
            <a:ext cx="7543800" cy="5056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600200" y="6095880"/>
            <a:ext cx="541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66"/>
                </a:solidFill>
                <a:latin typeface="Times New Roman"/>
              </a:rPr>
              <a:t>http://www.flyhy.eu/science_wp3.htm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-1440"/>
            <a:ext cx="8534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SW - </a:t>
            </a:r>
            <a:r>
              <a:rPr b="1" lang="en-US" sz="1600" spc="-1" strike="noStrike">
                <a:solidFill>
                  <a:srgbClr val="4d4d4d"/>
                </a:solidFill>
                <a:latin typeface="Arial Unicode MS"/>
              </a:rPr>
              <a:t>DATABASES IN CHEMICAL THERMODYNAMICS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33520" y="838080"/>
          <a:ext cx="8305560" cy="5132520"/>
        </p:xfrm>
        <a:graphic>
          <a:graphicData uri="http://schemas.openxmlformats.org/drawingml/2006/table">
            <a:tbl>
              <a:tblPr/>
              <a:tblGrid>
                <a:gridCol w="1371600"/>
                <a:gridCol w="1447560"/>
                <a:gridCol w="3200400"/>
                <a:gridCol w="22860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mén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ůvo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bsah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řístu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1"/>
                        </a:rPr>
                        <a:t>Thermo</a:t>
                      </a: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2"/>
                        </a:rPr>
                        <a:t>-</a:t>
                      </a: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3"/>
                        </a:rPr>
                        <a:t>Calc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Royal Institut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Technolog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Swe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oftware for thermodynami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d phase diagram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alculations, specially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esigned for systems with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trongly non-ideal phases. Assessment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c and workstation, commertial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4"/>
                        </a:rPr>
                        <a:t>Panda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puTherm LLC</a:t>
                      </a:r>
                      <a:br>
                        <a:rPr sz="1600"/>
                      </a:br>
                      <a:r>
                        <a:rPr b="0" i="1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JP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hase diagrams and related thermodynamic calculations. Celkova G energie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mercial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3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5"/>
                        </a:rPr>
                        <a:t>F*A*C*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6"/>
                        </a:rPr>
                        <a:t>École Polytechnique_x000b_de Montréal</a:t>
                      </a: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 (FR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tegrated thermochemic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 which coupl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oftware with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data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nline, P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d web. Commertil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7"/>
                        </a:rPr>
                        <a:t>MT-dat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8"/>
                        </a:rPr>
                        <a:t>NPL</a:t>
                      </a:r>
                      <a:r>
                        <a:rPr b="0" lang="en-US" sz="16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 (UK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nk system for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hemical data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C-disks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ommercial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Thermo_Calc_logo" descr=""/>
          <p:cNvPicPr/>
          <p:nvPr/>
        </p:nvPicPr>
        <p:blipFill>
          <a:blip r:embed="rId9"/>
          <a:stretch/>
        </p:blipFill>
        <p:spPr>
          <a:xfrm>
            <a:off x="7772400" y="1905120"/>
            <a:ext cx="884160" cy="766800"/>
          </a:xfrm>
          <a:prstGeom prst="rect">
            <a:avLst/>
          </a:prstGeom>
          <a:ln w="0">
            <a:noFill/>
          </a:ln>
        </p:spPr>
      </p:pic>
      <p:pic>
        <p:nvPicPr>
          <p:cNvPr id="187" name="wwf_panda_logo_1978" descr=""/>
          <p:cNvPicPr/>
          <p:nvPr/>
        </p:nvPicPr>
        <p:blipFill>
          <a:blip r:embed="rId10"/>
          <a:stretch/>
        </p:blipFill>
        <p:spPr>
          <a:xfrm>
            <a:off x="7772400" y="3124080"/>
            <a:ext cx="993600" cy="925560"/>
          </a:xfrm>
          <a:prstGeom prst="rect">
            <a:avLst/>
          </a:prstGeom>
          <a:ln w="0">
            <a:noFill/>
          </a:ln>
        </p:spPr>
      </p:pic>
      <p:pic>
        <p:nvPicPr>
          <p:cNvPr id="188" name="sp_factsage" descr=""/>
          <p:cNvPicPr/>
          <p:nvPr/>
        </p:nvPicPr>
        <p:blipFill>
          <a:blip r:embed="rId11"/>
          <a:stretch/>
        </p:blipFill>
        <p:spPr>
          <a:xfrm>
            <a:off x="6553080" y="4648320"/>
            <a:ext cx="217188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144880" y="24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44880" y="24843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32000" y="36450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2" name="demlog160" descr=""/>
          <p:cNvPicPr/>
          <p:nvPr/>
        </p:nvPicPr>
        <p:blipFill>
          <a:blip r:embed="rId12"/>
          <a:stretch/>
        </p:blipFill>
        <p:spPr>
          <a:xfrm>
            <a:off x="7772400" y="5486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0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Pokračován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28600" y="1365120"/>
          <a:ext cx="8077320" cy="5086440"/>
        </p:xfrm>
        <a:graphic>
          <a:graphicData uri="http://schemas.openxmlformats.org/drawingml/2006/table">
            <a:tbl>
              <a:tblPr/>
              <a:tblGrid>
                <a:gridCol w="1143000"/>
                <a:gridCol w="1447920"/>
                <a:gridCol w="3200400"/>
                <a:gridCol w="228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mén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ůvo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bsah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řístu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0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om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(Thermodoc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1"/>
                        </a:rPr>
                        <a:t>Gemini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2"/>
                        </a:rPr>
                        <a:t>THERMODAT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properti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elements and substanc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 inorganic chemistry,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ir reactions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(Bibliographic referenc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ertaining to th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properties of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elements, stoichiometri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ubstances, alloys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on-stoichiometric phas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interest to dry miner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hemistry)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ranspac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ternet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physical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hemic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roperty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ICST. factu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s (JOIS-F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physical and relate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 for inorganic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low molecular weight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ompounds and up to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3-component systems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lanned for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WWW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ubscript.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ote: this servic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s temporary dow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2-12T15:02:49Z</dcterms:modified>
  <cp:revision>122</cp:revision>
  <dc:subject/>
  <dc:title>C6730 Fázové rovnováhy</dc:title>
</cp:coreProperties>
</file>