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9B3E-F478-4DBB-88F4-EA58806F8C5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7CA-EA80-4FC2-AACB-4E710A0F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6E0-5969-43E7-A59E-A7AF1CC3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C71-E12A-427B-88D5-71DC242D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872-11C7-49D8-8DE5-80D710C2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977C-C510-4D29-BD8D-EFAAC4BE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0B50-2177-43FF-B6E3-219EAC15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4674-24A8-48BF-9E08-A09D40E4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3CE2-BC71-4267-AFB3-3E4DBF10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8825-8992-48C6-A5FB-9709035A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1192-D0F7-4973-8FEA-F393E65A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7195-0FE3-493F-9FF2-4CADB2BD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3F4-1196-4E87-95D1-7FAF9407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1213-6FAC-4316-9473-FF1000F6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1433-A45F-495D-A4CD-60F98D0E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98AC-E3EE-49A7-9374-8E94951C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5394-5ECE-4AE3-B57D-3F689AD6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DFC0-F08D-42C0-B1B9-09E37F6C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7D5-3804-4AAD-9C8C-DC6C7F6F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A1C-3532-4F82-AACE-4F87FCB7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2B1A-944A-4E89-8BBA-8CBC50EC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3A0-2323-4961-9678-4C09FDEC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3A8-D11F-4EF5-A6A0-4BC1DCFE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185-F4CA-4902-8484-DB0886F7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77D-7F59-4726-BD62-7BCA5433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D4A9-4C03-4079-9FD4-9C681FD7B14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9411-F4BD-4CFB-A422-59636DCFA06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9a Difú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Fickovy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Řečení difúzních rovn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Vybrané Difúzní problé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ickovy záko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3800" cy="387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861048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245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9339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07:14Z</dcterms:modified>
  <cp:revision>117</cp:revision>
  <dc:subject/>
  <dc:title>C6730 Fázové rovnováhy</dc:title>
</cp:coreProperties>
</file>