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C8E6-725B-4642-BE4D-7C336246CB3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79E-8586-402B-BC70-46684EF4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85A-CD98-4258-801B-56770362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FC3-8FD7-4914-A45C-66335C28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BAC6-F300-4DE9-BD3B-18417F68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4F6A-B2CE-45F4-8201-2E085C09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6DC8-671E-4300-9932-4FD88946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A553-3CA5-42FD-AB12-A8F4630A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77F4-AEA5-46FD-B11D-B187AF91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7958-4C91-4E90-8A29-3F253106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F551-37C4-4997-8457-9473A198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E3EC-E883-48F0-B234-39A950D3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F81A-70AE-40A0-B16A-577FACC4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0B7E-260F-4771-9FE3-BC3831CF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D775-97E5-4953-81AF-088FAD0E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D648-64C7-4CC7-8BD0-B45E5048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6646-6967-4438-947D-61A6445B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D700-CF42-46A2-AF46-E18774B4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4EC7-D750-4DA4-B673-D66A781F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0B5C-303E-47D9-8832-2D17B67F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38A-B482-4F4C-A227-8B4DA8DE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3302-6F7B-416A-AA69-00C7A3DD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48A-12DC-4B11-B706-07EA4E2B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A35-E382-407F-BAB3-34AB0CB9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4D7-DA28-43DD-A378-68C81928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F324-5E57-4240-88D1-B9D028D1442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D900-1185-49CF-A436-97BA9C9F6543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9a Difú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Fickovy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Řečení difúzních rovn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Vybrané Difúzní problém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ickovy záko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543800" cy="387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861048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34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772400" cy="245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69339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07:14Z</dcterms:modified>
  <cp:revision>117</cp:revision>
  <dc:subject/>
  <dc:title>C6730 Fázové rovnováhy</dc:title>
</cp:coreProperties>
</file>