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028146"/>
        <c:axId val="72428872"/>
      </c:scatterChart>
      <c:valAx>
        <c:axId val="8802814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428872"/>
        <c:crosses val="autoZero"/>
        <c:crossBetween val="midCat"/>
        <c:majorUnit val="1"/>
      </c:valAx>
      <c:valAx>
        <c:axId val="7242887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02814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729396"/>
        <c:axId val="63705704"/>
      </c:scatterChart>
      <c:valAx>
        <c:axId val="972939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705704"/>
        <c:crosses val="autoZero"/>
        <c:crossBetween val="midCat"/>
        <c:majorUnit val="1"/>
      </c:valAx>
      <c:valAx>
        <c:axId val="6370570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2939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6968958"/>
        <c:axId val="11354278"/>
      </c:scatterChart>
      <c:valAx>
        <c:axId val="3696895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1354278"/>
        <c:crosses val="autoZero"/>
        <c:crossBetween val="midCat"/>
        <c:majorUnit val="2"/>
        <c:minorUnit val="1"/>
      </c:valAx>
      <c:valAx>
        <c:axId val="1135427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696895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9098092"/>
        <c:axId val="7986380"/>
      </c:scatterChart>
      <c:valAx>
        <c:axId val="490980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86380"/>
        <c:crosses val="autoZero"/>
        <c:crossBetween val="midCat"/>
        <c:majorUnit val="2"/>
        <c:minorUnit val="0.05"/>
      </c:valAx>
      <c:valAx>
        <c:axId val="798638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09809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5784837"/>
        <c:axId val="26555390"/>
      </c:scatterChart>
      <c:valAx>
        <c:axId val="157848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555390"/>
        <c:crosses val="autoZero"/>
        <c:crossBetween val="midCat"/>
        <c:majorUnit val="2"/>
        <c:minorUnit val="0.05"/>
      </c:valAx>
      <c:valAx>
        <c:axId val="2655539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7848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5509078"/>
        <c:axId val="65804795"/>
      </c:scatterChart>
      <c:valAx>
        <c:axId val="555090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804795"/>
        <c:crosses val="autoZero"/>
        <c:crossBetween val="midCat"/>
        <c:majorUnit val="2"/>
        <c:minorUnit val="0.05"/>
      </c:valAx>
      <c:valAx>
        <c:axId val="658047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50907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4866168"/>
        <c:axId val="87234077"/>
      </c:scatterChart>
      <c:valAx>
        <c:axId val="948661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234077"/>
        <c:crosses val="autoZero"/>
        <c:crossBetween val="midCat"/>
        <c:majorUnit val="2"/>
      </c:valAx>
      <c:valAx>
        <c:axId val="8723407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86616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6767723"/>
        <c:axId val="55090031"/>
      </c:scatterChart>
      <c:valAx>
        <c:axId val="9676772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090031"/>
        <c:crosses val="autoZero"/>
        <c:crossBetween val="midCat"/>
        <c:majorUnit val="2"/>
      </c:valAx>
      <c:valAx>
        <c:axId val="550900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76772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0326338"/>
        <c:axId val="69192022"/>
      </c:scatterChart>
      <c:valAx>
        <c:axId val="803263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192022"/>
        <c:crosses val="autoZero"/>
        <c:crossBetween val="midCat"/>
        <c:majorUnit val="2"/>
        <c:minorUnit val="0.05"/>
      </c:valAx>
      <c:valAx>
        <c:axId val="691920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3263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943B30-A8C8-4B39-B5CB-EC7CBC24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821FCB-915D-44F0-8179-2536BB5CFEE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0B6F2F-60B8-451F-AB17-6EA4A611E45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5A3044-FCE6-4980-B3B0-B30C528E485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