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9917183"/>
        <c:axId val="24637453"/>
      </c:scatterChart>
      <c:valAx>
        <c:axId val="6991718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637453"/>
        <c:crosses val="autoZero"/>
        <c:crossBetween val="midCat"/>
        <c:majorUnit val="1"/>
      </c:valAx>
      <c:valAx>
        <c:axId val="2463745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91718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5834307"/>
        <c:axId val="62524641"/>
      </c:scatterChart>
      <c:valAx>
        <c:axId val="7583430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524641"/>
        <c:crosses val="autoZero"/>
        <c:crossBetween val="midCat"/>
        <c:majorUnit val="1"/>
      </c:valAx>
      <c:valAx>
        <c:axId val="6252464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83430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24502924"/>
        <c:axId val="21018742"/>
      </c:scatterChart>
      <c:valAx>
        <c:axId val="24502924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1018742"/>
        <c:crosses val="autoZero"/>
        <c:crossBetween val="midCat"/>
        <c:majorUnit val="2"/>
        <c:minorUnit val="1"/>
      </c:valAx>
      <c:valAx>
        <c:axId val="2101874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4502924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0426708"/>
        <c:axId val="8286324"/>
      </c:scatterChart>
      <c:valAx>
        <c:axId val="2042670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86324"/>
        <c:crosses val="autoZero"/>
        <c:crossBetween val="midCat"/>
        <c:majorUnit val="2"/>
        <c:minorUnit val="0.05"/>
      </c:valAx>
      <c:valAx>
        <c:axId val="828632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42670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85607263"/>
        <c:axId val="58944711"/>
      </c:scatterChart>
      <c:valAx>
        <c:axId val="8560726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944711"/>
        <c:crosses val="autoZero"/>
        <c:crossBetween val="midCat"/>
        <c:majorUnit val="2"/>
        <c:minorUnit val="0.05"/>
      </c:valAx>
      <c:valAx>
        <c:axId val="5894471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60726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860129"/>
        <c:axId val="52881647"/>
      </c:scatterChart>
      <c:valAx>
        <c:axId val="886012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881647"/>
        <c:crosses val="autoZero"/>
        <c:crossBetween val="midCat"/>
        <c:majorUnit val="2"/>
        <c:minorUnit val="0.05"/>
      </c:valAx>
      <c:valAx>
        <c:axId val="5288164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6012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0680353"/>
        <c:axId val="58947084"/>
      </c:scatterChart>
      <c:valAx>
        <c:axId val="206803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947084"/>
        <c:crosses val="autoZero"/>
        <c:crossBetween val="midCat"/>
        <c:majorUnit val="2"/>
      </c:valAx>
      <c:valAx>
        <c:axId val="5894708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68035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0493641"/>
        <c:axId val="61127087"/>
      </c:scatterChart>
      <c:valAx>
        <c:axId val="4049364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127087"/>
        <c:crosses val="autoZero"/>
        <c:crossBetween val="midCat"/>
        <c:majorUnit val="2"/>
      </c:valAx>
      <c:valAx>
        <c:axId val="6112708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49364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1607509"/>
        <c:axId val="97515709"/>
      </c:scatterChart>
      <c:valAx>
        <c:axId val="7160750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515709"/>
        <c:crosses val="autoZero"/>
        <c:crossBetween val="midCat"/>
        <c:majorUnit val="2"/>
        <c:minorUnit val="0.05"/>
      </c:valAx>
      <c:valAx>
        <c:axId val="9751570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60750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22B13-A45D-4F8A-85B8-2AB4B988F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DD7CAD-00A7-4609-8B72-B7CDDA8BD2D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599159-9E70-4088-95F5-9B5CF3106CD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D781FB-FE10-42E2-A1CD-FF2DEED3BEC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