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3316474"/>
        <c:axId val="46700659"/>
      </c:scatterChart>
      <c:valAx>
        <c:axId val="7331647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700659"/>
        <c:crosses val="autoZero"/>
        <c:crossBetween val="midCat"/>
        <c:majorUnit val="1"/>
      </c:valAx>
      <c:valAx>
        <c:axId val="4670065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1647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0508067"/>
        <c:axId val="2276978"/>
      </c:scatterChart>
      <c:valAx>
        <c:axId val="6050806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6978"/>
        <c:crosses val="autoZero"/>
        <c:crossBetween val="midCat"/>
        <c:majorUnit val="1"/>
      </c:valAx>
      <c:valAx>
        <c:axId val="227697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50806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1553241"/>
        <c:axId val="493072"/>
      </c:scatterChart>
      <c:valAx>
        <c:axId val="4155324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93072"/>
        <c:crosses val="autoZero"/>
        <c:crossBetween val="midCat"/>
        <c:majorUnit val="2"/>
        <c:minorUnit val="1"/>
      </c:valAx>
      <c:valAx>
        <c:axId val="49307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155324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5062809"/>
        <c:axId val="87350780"/>
      </c:scatterChart>
      <c:valAx>
        <c:axId val="950628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350780"/>
        <c:crosses val="autoZero"/>
        <c:crossBetween val="midCat"/>
        <c:majorUnit val="2"/>
        <c:minorUnit val="0.05"/>
      </c:valAx>
      <c:valAx>
        <c:axId val="8735078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06280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9122622"/>
        <c:axId val="26384405"/>
      </c:scatterChart>
      <c:valAx>
        <c:axId val="591226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384405"/>
        <c:crosses val="autoZero"/>
        <c:crossBetween val="midCat"/>
        <c:majorUnit val="2"/>
        <c:minorUnit val="0.05"/>
      </c:valAx>
      <c:valAx>
        <c:axId val="2638440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1226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0547689"/>
        <c:axId val="28940384"/>
      </c:scatterChart>
      <c:valAx>
        <c:axId val="305476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940384"/>
        <c:crosses val="autoZero"/>
        <c:crossBetween val="midCat"/>
        <c:majorUnit val="2"/>
        <c:minorUnit val="0.05"/>
      </c:valAx>
      <c:valAx>
        <c:axId val="2894038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5476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4318806"/>
        <c:axId val="81843954"/>
      </c:scatterChart>
      <c:valAx>
        <c:axId val="1431880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843954"/>
        <c:crosses val="autoZero"/>
        <c:crossBetween val="midCat"/>
        <c:majorUnit val="2"/>
      </c:valAx>
      <c:valAx>
        <c:axId val="8184395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31880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4902220"/>
        <c:axId val="58600855"/>
      </c:scatterChart>
      <c:valAx>
        <c:axId val="549022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600855"/>
        <c:crosses val="autoZero"/>
        <c:crossBetween val="midCat"/>
        <c:majorUnit val="2"/>
      </c:valAx>
      <c:valAx>
        <c:axId val="5860085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9022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8496282"/>
        <c:axId val="18601382"/>
      </c:scatterChart>
      <c:valAx>
        <c:axId val="884962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601382"/>
        <c:crosses val="autoZero"/>
        <c:crossBetween val="midCat"/>
        <c:majorUnit val="2"/>
        <c:minorUnit val="0.05"/>
      </c:valAx>
      <c:valAx>
        <c:axId val="186013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4962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5A7295-35B3-4B4E-9F6A-5A2E0A2CB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5B2811-736F-4590-B8D3-E57E7DF095B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8C7E61-E3D1-457F-A27A-A26BBC25A1B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E0EC12-7D2E-4558-BF7F-D00069C6EAA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