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BAEC-7D6C-43E7-A488-AE0C79360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C75F-405E-4ECB-981B-E1B446B04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C7C6-D642-4F04-8D58-612B6BBF5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C0E5-CE9B-4C3E-976C-185FD3CB7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F0034-9F2A-4789-A476-81C4EBDA4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A31F8-B5C5-4200-8AA5-F0D906139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15B73-B8FC-4886-86C9-9B7D4764D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53D79-516D-4C92-B97D-EDE4D45ED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EBAC0-1FDB-48A7-AA5B-24A8C6403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3B810-71C3-4541-ABE4-294DAD8FA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26424-4C00-4483-948F-E2E482CA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9A5F-1E20-4A40-80FF-69C6836ED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E217D-FD2A-4905-B090-B5B888C2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608BD-3AC1-4C25-BD55-41D5A312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721E0-8BF2-4268-B8EC-52B6C1C91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F0935-EED7-44D3-A4B6-ACE1CF5DC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14AAA-F5EB-45A4-BFB0-47A7AD51D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D5D59-09AD-4873-BBDF-CDEA9F56B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C2D2F-F7D5-4815-932A-9837986C0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32356-E4C5-4A34-9314-B5F9AA66C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6927B-9FDB-440A-A8BD-6006B3555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D87E6-7451-4006-B618-2260BC57B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3125-65CF-4651-A00E-7882E3945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88022-9AB4-4482-B2F5-506724CFF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F5873-46C7-42C7-B506-9B475B813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B8835-BBAE-4620-8666-BD4649C2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E74B5-97F4-436A-8602-83E84AF63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C1F03-82A3-414D-87F7-B479835E5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984A9-6565-4CB1-826C-7D89582F5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A43DA-F96D-448F-B649-8EA9256A2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1E23-6540-44FA-B4D6-072D2245C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E546-8D10-4BC9-8E7C-8B226A76A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3C8F-9A69-4AEC-91CB-8161A4EEC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74D1-7506-4B41-B511-251F281AC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B65B-2F0A-4655-B54F-9A3249FAF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A4A0-C93C-4373-8CBF-40385F699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5EEA7A9-4E60-403E-B41F-3FEF50CFF904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275c6d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3E6A443-6C06-482E-BB03-C4B3708520C5}" type="slidenum"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47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275c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6D7C0B9-C2FA-430E-955B-AD6361D28DFD}" type="slidenum">
              <a:rPr b="1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9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office.microsoft.com/" TargetMode="External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524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26920" y="1844640"/>
            <a:ext cx="7848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KOLA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um, Tanvald, Školní 305, příspěvková organiz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CZ.1.07/1.5.00/34.0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ablony – Gymnázium Tanva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ŠABLON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VI/2 Vytváření podmínek pro rozvoj znalosti, schopností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ovedností v oblasti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UTOR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rmila Moravc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TEMATICKÁ OBLAST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 matematik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ropáčkovi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OŘADOVÉ ČÍSLO DUMu: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ÓD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M_VI/2_FIN_GRAM_MAT_I_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ATUM TVORB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29.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NOTACE (ROČNÍK)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rezentace je určena pro žáky 6.ročníku ZŠ nebo primy víceletých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í.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Seznamuje žáky se základy hospodaření rodiny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ožnostmi úsp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ETODICKÝ POKYN: Prezentace navazuje na dum č. 13 a podrobněji se zabývá možností,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k snížit některé výdaje rodi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0000"/>
                </a:solidFill>
                <a:latin typeface="Times New Roman"/>
              </a:rPr>
              <a:t>Př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-181440" y="1773360"/>
            <a:ext cx="90010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33"/>
                </a:solidFill>
                <a:latin typeface="Times New Roman"/>
              </a:rPr>
              <a:t>       </a:t>
            </a:r>
            <a:r>
              <a:rPr b="0" lang="cs-CZ" sz="2200" spc="-1" strike="noStrike">
                <a:solidFill>
                  <a:srgbClr val="000033"/>
                </a:solidFill>
                <a:latin typeface="Times New Roman"/>
              </a:rPr>
              <a:t>Pan Kropáček jezdí do města vzdáleného 15 km od místa bydliště kvůli pracovním povinnostem a nákupům 6 x týdně. Když si cesty lépe zorganizuje pojede pouze 4 x týdně. Spočítejte, kolik ušetří za čtyři týdny za benzín, když spotřeba jeho auta je 5,2 litru na 100 km a cena benzínu, který kupuje je 32,46 Kč. Výsledek zaokrouhlete na celé koruny.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5280" y="3573360"/>
            <a:ext cx="82296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ýpočet:</a:t>
            </a:r>
            <a:br>
              <a:rPr sz="24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ušetří cest za 4 týdny ………………………2*4 = 8 cest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1 cesta……………………….2 * 15 = 30 km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8 cest………………………..8 * 30 = 240 km</a:t>
            </a:r>
            <a:br>
              <a:rPr sz="8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00 km…….5,2 * 32,46 = 168,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 km………. 168,792 : 100 = 1,68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240 km…… 240 * 1,68792 = 405,10 Kč</a:t>
            </a:r>
            <a:br>
              <a:rPr sz="22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Tatínek za měsíc ( 4 týdny ) ušetří 405 Kč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5013360"/>
            <a:ext cx="78487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Závěr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Dnes jsme našli možnost úspor v nákladech na benzí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rotože se cena benzínu stále zvyšuje, bude možná pan Kropáček potřebovat víc peněz na provoz auta, i když omezil jízdy.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Bude na tom přesto lépe, než kdyby situaci neřešil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S paní Kropáčkovou příště posoudíme její nákup potravi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aní Kropáčková chce přispět do rozpočtu rodiny tím, že omezí služby kadeřníka a návštěvy kosmetiky bude platit z položky „ kapesné rodičů“. Tím ušetří měsíčně 650 Kč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Dnes se s vámi Kropáčkovi louč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3" name="imgPreview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1258920" y="1844640"/>
            <a:ext cx="5905440" cy="4464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195640" y="5229360"/>
            <a:ext cx="3457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Nashledan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47560" y="736560"/>
            <a:ext cx="7948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Times New Roman"/>
              </a:rPr>
              <a:t>použité zdroj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8209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8360">
              <a:spcBef>
                <a:spcPts val="476"/>
              </a:spcBef>
              <a:buClr>
                <a:srgbClr val="000033"/>
              </a:buClr>
              <a:buSzPct val="65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Times New Roman"/>
              </a:rPr>
              <a:t>Obrázky: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326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836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AUTOR NEUVEDEN. </a:t>
            </a:r>
            <a:r>
              <a:rPr b="1" i="1" lang="cs-CZ" sz="1700" spc="-1" strike="noStrike">
                <a:solidFill>
                  <a:srgbClr val="000033"/>
                </a:solidFill>
                <a:latin typeface="Times New Roman"/>
              </a:rPr>
              <a:t>Kliparty Microsoft Office</a:t>
            </a: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 [online]. [cit. 28.11.2012]. Dostupný na WWW: </a:t>
            </a:r>
            <a:r>
              <a:rPr b="0" lang="cs-CZ" sz="1700" spc="-1" strike="noStrike" u="sng">
                <a:solidFill>
                  <a:srgbClr val="666699"/>
                </a:solidFill>
                <a:uFillTx/>
                <a:latin typeface="Times New Roman"/>
                <a:hlinkClick r:id="rId1"/>
              </a:rPr>
              <a:t>http://office.microsoft.com/</a:t>
            </a: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3366"/>
                </a:solidFill>
                <a:latin typeface="Times New Roman"/>
              </a:rPr>
              <a:t>Rodina Kropáčkova chce šetřit: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4" name="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3203640" y="2060640"/>
            <a:ext cx="4824360" cy="3673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84360" y="2205000"/>
            <a:ext cx="23032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Mamin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Tatín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Eliš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Davíd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Co nás dnes čeká 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můžeme rodině Kropáčkovic hledat úspor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třídíme výdaje do skupi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soudíme situaci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myslíme, kde a kolik chceme ušetři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navrhneme řešení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dělíme úkol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vedeme výpočt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Rozhodnutí z minulé hodiny: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1828440"/>
            <a:ext cx="84358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03920" indent="-403920">
              <a:lnSpc>
                <a:spcPct val="90000"/>
              </a:lnSpc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Kropáčkovi zjistili, že příjmy rodiny se jim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v dohledné době nepodaří zvýšit.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-40392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Pokusí se tedy snížit výdaje a to asi                                                                                           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o </a:t>
            </a:r>
            <a:r>
              <a:rPr b="1" lang="cs-CZ" sz="2800" spc="-1" strike="noStrike" u="sng">
                <a:solidFill>
                  <a:srgbClr val="cc0000"/>
                </a:solidFill>
                <a:uFillTx/>
                <a:latin typeface="Times New Roman"/>
              </a:rPr>
              <a:t>2 000 až 3 000 Kč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400536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cc0000"/>
                </a:solidFill>
                <a:latin typeface="Times New Roman"/>
              </a:rPr>
              <a:t>Otevřete si sešity si a porovnejte své návrh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479736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92360" y="4724280"/>
            <a:ext cx="863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72428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44500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75c6d"/>
                </a:solidFill>
                <a:latin typeface="Times New Roman"/>
              </a:rPr>
              <a:t>Jaké položky máte v 1. 2. a 3. sloupci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54936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600" spc="-1" strike="noStrike">
                <a:solidFill>
                  <a:srgbClr val="003366"/>
                </a:solidFill>
                <a:latin typeface="Arial"/>
              </a:rPr>
              <a:t>Paní Kropáčková zapsala průměrné měsíční výdaje v Kč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68360" y="1268280"/>
          <a:ext cx="4038480" cy="5256360"/>
        </p:xfrm>
        <a:graphic>
          <a:graphicData uri="http://schemas.openxmlformats.org/drawingml/2006/table">
            <a:tbl>
              <a:tblPr/>
              <a:tblGrid>
                <a:gridCol w="3166920"/>
                <a:gridCol w="87156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yt: nájem a služ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 42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elektřina: zálo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ojištění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ve šk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 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v restaura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telefon, internet, telev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rogerie,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ůj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3 3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716360" y="1268280"/>
          <a:ext cx="4038840" cy="5254920"/>
        </p:xfrm>
        <a:graphic>
          <a:graphicData uri="http://schemas.openxmlformats.org/drawingml/2006/table">
            <a:tbl>
              <a:tblPr/>
              <a:tblGrid>
                <a:gridCol w="3095640"/>
                <a:gridCol w="94320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leč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opra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enzín a au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nihy a kul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škola a krouž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dět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deřník a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9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stat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219640" y="76500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ůjčky                      3 3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48360" y="765000"/>
            <a:ext cx="3228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rogerie, kosmetika   6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765000"/>
            <a:ext cx="3228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tel., int., televize      1 3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19640" y="836640"/>
            <a:ext cx="32292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v restauraci        8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doma               4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rodičů           2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ve škole        1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19640" y="765000"/>
            <a:ext cx="3229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ojištění                     8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elektřina: záloha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92720" y="765000"/>
            <a:ext cx="30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yt: nájem             7 420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0.05254 L -0.32292 0.25185 E">
                                      <p:cBhvr>
                                        <p:cTn id="18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11 0.02315 L -0.3184 0.31713 E">
                                      <p:cBhvr>
                                        <p:cTn id="192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29 0.0125 L -0.32622 0.40116 E">
                                      <p:cBhvr>
                                        <p:cTn id="200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3 0.00208 L -0.31041 0.46412 E">
                                      <p:cBhvr>
                                        <p:cTn id="208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0.10717 L -0.55451 0.70555 E">
                                      <p:cBhvr>
                                        <p:cTn id="216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09 0.03356 L -0.54671 0.54815 E">
                                      <p:cBhvr>
                                        <p:cTn id="224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08334 0.44305 E">
                                      <p:cBhvr>
                                        <p:cTn id="232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52 0.0368 L 0.06754 0.25717 E">
                                      <p:cBhvr>
                                        <p:cTn id="240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-0.04004 L -0.271 0.63195 E">
                                      <p:cBhvr>
                                        <p:cTn id="248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93 0.03356 L -0.3184 0.77893 E">
                                      <p:cBhvr>
                                        <p:cTn id="256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219640" y="90792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48360" y="981000"/>
            <a:ext cx="309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statní               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9272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rodičů     1 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1964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sport                         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deřník                    9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19640" y="907920"/>
            <a:ext cx="309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dětí            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272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škola a kroužky        4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19640" y="907920"/>
            <a:ext cx="31687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nihy a kultura         6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92720" y="907920"/>
            <a:ext cx="3095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enzín a auto         1 4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oprava                    7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92720" y="907920"/>
            <a:ext cx="30970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lečení                 1 0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63 0.025 L -0.27951 0.22454 E">
                                      <p:cBhvr>
                                        <p:cTn id="300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6771 0.28356 E">
                                      <p:cBhvr>
                                        <p:cTn id="308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3681 L 0.0434 0.23635 E">
                                      <p:cBhvr>
                                        <p:cTn id="316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02754 L -0.57483 0.48033 E">
                                      <p:cBhvr>
                                        <p:cTn id="324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8351 0.39907 E">
                                      <p:cBhvr>
                                        <p:cTn id="332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11111E-006 L -0.26371 0.53565 E">
                                      <p:cBhvr>
                                        <p:cTn id="340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0.03542 L -0.57864 0.67986 E">
                                      <p:cBhvr>
                                        <p:cTn id="348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0.03519 L 0.03542 0.35 E">
                                      <p:cBhvr>
                                        <p:cTn id="356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6296E-006 L 0.05504 0.55648 E">
                                      <p:cBhvr>
                                        <p:cTn id="364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5254 L -0.27951 0.75602 E">
                                      <p:cBhvr>
                                        <p:cTn id="372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jídlo dom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Maminka se pokusí ušetřit na jídle,které jí rodina doma, ale protože ceny potravin stále rostou, tak nečeká velké úspo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 příště si připraví seznam potravin, které kupu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Společně vybereme, které potraviny jsou pro zdravý jídelníček potřebné a nechceme je omezit a které jsou dokonce nezdravé a omezit bychom je mě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Rodina se shodla, že do restaurace půjdou jen někdy na výletě a tím sníží tento výdaj na polovin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benzín a provoz aut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potřebuje auto ke své práci, proto nemůže příliš omezit jeho provoz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Protože se ceny benzínu stále zvyšují, promyslí si lépe trasy svých ce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příklad na větší nákup do města nebude jezdit       v sobotu dopoledne, ale nakoupí už v pátek več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si spočítal, že takto ušetří asi 400 Kč měsíčně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5T05:09:32Z</dcterms:created>
  <dc:creator>herrmannova</dc:creator>
  <dc:description/>
  <dc:language>en-US</dc:language>
  <cp:lastModifiedBy>RNDr. Zdeněk Moravec</cp:lastModifiedBy>
  <dcterms:modified xsi:type="dcterms:W3CDTF">2013-02-01T13:21:36Z</dcterms:modified>
  <cp:revision>70</cp:revision>
  <dc:subject/>
  <dc:title>Snímek 1</dc:title>
</cp:coreProperties>
</file>