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6980307"/>
        <c:axId val="20875675"/>
      </c:scatterChart>
      <c:valAx>
        <c:axId val="5698030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875675"/>
        <c:crosses val="autoZero"/>
        <c:crossBetween val="midCat"/>
        <c:majorUnit val="1"/>
      </c:valAx>
      <c:valAx>
        <c:axId val="20875675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98030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8592370"/>
        <c:axId val="57167074"/>
      </c:scatterChart>
      <c:valAx>
        <c:axId val="4859237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167074"/>
        <c:crosses val="autoZero"/>
        <c:crossBetween val="midCat"/>
        <c:majorUnit val="1"/>
      </c:valAx>
      <c:valAx>
        <c:axId val="5716707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59237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4548578"/>
        <c:axId val="894512"/>
      </c:scatterChart>
      <c:valAx>
        <c:axId val="14548578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94512"/>
        <c:crosses val="autoZero"/>
        <c:crossBetween val="midCat"/>
        <c:majorUnit val="2"/>
        <c:minorUnit val="1"/>
      </c:valAx>
      <c:valAx>
        <c:axId val="89451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4548578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8618729"/>
        <c:axId val="76055068"/>
      </c:scatterChart>
      <c:valAx>
        <c:axId val="3861872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055068"/>
        <c:crosses val="autoZero"/>
        <c:crossBetween val="midCat"/>
        <c:majorUnit val="2"/>
        <c:minorUnit val="0.05"/>
      </c:valAx>
      <c:valAx>
        <c:axId val="7605506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61872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7928289"/>
        <c:axId val="33434394"/>
      </c:scatterChart>
      <c:valAx>
        <c:axId val="3792828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434394"/>
        <c:crosses val="autoZero"/>
        <c:crossBetween val="midCat"/>
        <c:majorUnit val="2"/>
        <c:minorUnit val="0.05"/>
      </c:valAx>
      <c:valAx>
        <c:axId val="3343439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92828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9420752"/>
        <c:axId val="29296904"/>
      </c:scatterChart>
      <c:valAx>
        <c:axId val="3942075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296904"/>
        <c:crosses val="autoZero"/>
        <c:crossBetween val="midCat"/>
        <c:majorUnit val="2"/>
        <c:minorUnit val="0.05"/>
      </c:valAx>
      <c:valAx>
        <c:axId val="2929690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42075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9470704"/>
        <c:axId val="37759610"/>
      </c:scatterChart>
      <c:valAx>
        <c:axId val="3947070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759610"/>
        <c:crosses val="autoZero"/>
        <c:crossBetween val="midCat"/>
        <c:majorUnit val="2"/>
      </c:valAx>
      <c:valAx>
        <c:axId val="3775961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47070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4699442"/>
        <c:axId val="48541169"/>
      </c:scatterChart>
      <c:valAx>
        <c:axId val="1469944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541169"/>
        <c:crosses val="autoZero"/>
        <c:crossBetween val="midCat"/>
        <c:majorUnit val="2"/>
      </c:valAx>
      <c:valAx>
        <c:axId val="4854116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69944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29047851"/>
        <c:axId val="22612661"/>
      </c:scatterChart>
      <c:valAx>
        <c:axId val="2904785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612661"/>
        <c:crosses val="autoZero"/>
        <c:crossBetween val="midCat"/>
        <c:majorUnit val="2"/>
        <c:minorUnit val="0.05"/>
      </c:valAx>
      <c:valAx>
        <c:axId val="2261266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04785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13FDA9-9317-4F66-A174-5E82C429D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1040C6-83C5-4535-AB2C-318C16D1263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4A2A0A-6F77-432F-901F-A439C1986F0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71B880-9FF8-4DA7-A128-2323DB00572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