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2574435"/>
        <c:axId val="81647922"/>
      </c:scatterChart>
      <c:valAx>
        <c:axId val="9257443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647922"/>
        <c:crosses val="autoZero"/>
        <c:crossBetween val="midCat"/>
        <c:majorUnit val="1"/>
      </c:valAx>
      <c:valAx>
        <c:axId val="81647922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57443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58698952"/>
        <c:axId val="29059327"/>
      </c:scatterChart>
      <c:valAx>
        <c:axId val="5869895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059327"/>
        <c:crosses val="autoZero"/>
        <c:crossBetween val="midCat"/>
        <c:majorUnit val="1"/>
      </c:valAx>
      <c:valAx>
        <c:axId val="29059327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869895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17984556"/>
        <c:axId val="67572664"/>
      </c:scatterChart>
      <c:valAx>
        <c:axId val="17984556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7572664"/>
        <c:crosses val="autoZero"/>
        <c:crossBetween val="midCat"/>
        <c:majorUnit val="2"/>
        <c:minorUnit val="1"/>
      </c:valAx>
      <c:valAx>
        <c:axId val="67572664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7984556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9762773"/>
        <c:axId val="60129159"/>
      </c:scatterChart>
      <c:valAx>
        <c:axId val="8976277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0129159"/>
        <c:crosses val="autoZero"/>
        <c:crossBetween val="midCat"/>
        <c:majorUnit val="2"/>
        <c:minorUnit val="0.05"/>
      </c:valAx>
      <c:valAx>
        <c:axId val="6012915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76277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13476438"/>
        <c:axId val="14605303"/>
      </c:scatterChart>
      <c:valAx>
        <c:axId val="1347643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605303"/>
        <c:crosses val="autoZero"/>
        <c:crossBetween val="midCat"/>
        <c:majorUnit val="2"/>
        <c:minorUnit val="0.05"/>
      </c:valAx>
      <c:valAx>
        <c:axId val="1460530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47643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36040975"/>
        <c:axId val="7642403"/>
      </c:scatterChart>
      <c:valAx>
        <c:axId val="3604097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42403"/>
        <c:crosses val="autoZero"/>
        <c:crossBetween val="midCat"/>
        <c:majorUnit val="2"/>
        <c:minorUnit val="0.05"/>
      </c:valAx>
      <c:valAx>
        <c:axId val="764240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604097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3895355"/>
        <c:axId val="64390837"/>
      </c:scatterChart>
      <c:valAx>
        <c:axId val="9389535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390837"/>
        <c:crosses val="autoZero"/>
        <c:crossBetween val="midCat"/>
        <c:majorUnit val="2"/>
      </c:valAx>
      <c:valAx>
        <c:axId val="6439083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895355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9042496"/>
        <c:axId val="12169527"/>
      </c:scatterChart>
      <c:valAx>
        <c:axId val="8904249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169527"/>
        <c:crosses val="autoZero"/>
        <c:crossBetween val="midCat"/>
        <c:majorUnit val="2"/>
      </c:valAx>
      <c:valAx>
        <c:axId val="1216952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04249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41991643"/>
        <c:axId val="20460988"/>
      </c:scatterChart>
      <c:valAx>
        <c:axId val="4199164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460988"/>
        <c:crosses val="autoZero"/>
        <c:crossBetween val="midCat"/>
        <c:majorUnit val="2"/>
        <c:minorUnit val="0.05"/>
      </c:valAx>
      <c:valAx>
        <c:axId val="2046098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99164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205DE1-27B3-4A2B-B5B8-94C883AED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5309F4-1258-44BE-BB98-B745769FDD6E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C510B6-8803-469E-9C8B-6A9506CABA5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B9DA9E-9C55-48A9-9631-CD8588BA895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