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689980"/>
        <c:axId val="95476113"/>
      </c:scatterChart>
      <c:valAx>
        <c:axId val="9368998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476113"/>
        <c:crosses val="autoZero"/>
        <c:crossBetween val="midCat"/>
        <c:majorUnit val="1"/>
      </c:valAx>
      <c:valAx>
        <c:axId val="9547611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68998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3480202"/>
        <c:axId val="68731275"/>
      </c:scatterChart>
      <c:valAx>
        <c:axId val="8348020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731275"/>
        <c:crosses val="autoZero"/>
        <c:crossBetween val="midCat"/>
        <c:majorUnit val="1"/>
      </c:valAx>
      <c:valAx>
        <c:axId val="68731275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48020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2592627"/>
        <c:axId val="7288303"/>
      </c:scatterChart>
      <c:valAx>
        <c:axId val="6259262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288303"/>
        <c:crosses val="autoZero"/>
        <c:crossBetween val="midCat"/>
        <c:majorUnit val="2"/>
        <c:minorUnit val="1"/>
      </c:valAx>
      <c:valAx>
        <c:axId val="728830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259262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8802390"/>
        <c:axId val="14143727"/>
      </c:scatterChart>
      <c:valAx>
        <c:axId val="988023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143727"/>
        <c:crosses val="autoZero"/>
        <c:crossBetween val="midCat"/>
        <c:majorUnit val="2"/>
        <c:minorUnit val="0.05"/>
      </c:valAx>
      <c:valAx>
        <c:axId val="1414372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80239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8717200"/>
        <c:axId val="77928419"/>
      </c:scatterChart>
      <c:valAx>
        <c:axId val="9871720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928419"/>
        <c:crosses val="autoZero"/>
        <c:crossBetween val="midCat"/>
        <c:majorUnit val="2"/>
        <c:minorUnit val="0.05"/>
      </c:valAx>
      <c:valAx>
        <c:axId val="7792841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71720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6115397"/>
        <c:axId val="30131011"/>
      </c:scatterChart>
      <c:valAx>
        <c:axId val="761153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131011"/>
        <c:crosses val="autoZero"/>
        <c:crossBetween val="midCat"/>
        <c:majorUnit val="2"/>
        <c:minorUnit val="0.05"/>
      </c:valAx>
      <c:valAx>
        <c:axId val="3013101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11539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6706392"/>
        <c:axId val="78078403"/>
      </c:scatterChart>
      <c:valAx>
        <c:axId val="667063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078403"/>
        <c:crosses val="autoZero"/>
        <c:crossBetween val="midCat"/>
        <c:majorUnit val="2"/>
      </c:valAx>
      <c:valAx>
        <c:axId val="7807840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70639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005511"/>
        <c:axId val="54792985"/>
      </c:scatterChart>
      <c:valAx>
        <c:axId val="550055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792985"/>
        <c:crosses val="autoZero"/>
        <c:crossBetween val="midCat"/>
        <c:majorUnit val="2"/>
      </c:valAx>
      <c:valAx>
        <c:axId val="5479298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00551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4731782"/>
        <c:axId val="53670156"/>
      </c:scatterChart>
      <c:valAx>
        <c:axId val="347317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670156"/>
        <c:crosses val="autoZero"/>
        <c:crossBetween val="midCat"/>
        <c:majorUnit val="2"/>
        <c:minorUnit val="0.05"/>
      </c:valAx>
      <c:valAx>
        <c:axId val="5367015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7317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10E3F-A854-4189-B3F8-2BB136FE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A65AF4-1C08-44B4-9F6E-ABCFA97C111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47B9E1-33D8-4E5E-B5C7-723926C5788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04F776-B8F5-492B-91CD-6D9189CED7D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