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0812-1148-426D-BE22-ACB3D97B3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1431-AF84-4DA1-9ADE-CFF466BCA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9726-7A78-420C-B7F3-6F10597D8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E88E-EB6D-4283-984B-A23394416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FC9C3-A088-4198-8B34-B29B89F3A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24DB7-87E7-426F-9F8D-20752CC67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8E337-A5CB-484A-BD1C-D43B389DC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BB1B9-CCAF-4567-AD67-5DF80CFB7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284F4-6099-4908-82EC-8A2B334F7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E3960-893C-4DDC-A287-9C182C23A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9CC98-D95E-41FA-B308-A33A7DD09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93AD-72E3-4BAB-9824-FFFFE9ECD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07360-2D3E-4E33-B045-1D557B37D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72E6B-55C2-4ECB-815A-C2B838093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A66DA-565D-4CA3-9F03-882C2695F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F62E8-ED7C-439E-A093-F39290F7A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3A4B5-BF19-4FD9-A824-8ABBD1248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29A0E9-7518-46B6-9F8E-1A3BA4503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F5E8DA-22C5-4F4C-A779-C76FE2F14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D451A9-9655-42A0-AEE6-906B36C2E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F28193-31F9-4A1E-ABDC-8F2EA4F75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1D4B56-8237-4267-A316-400086636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4D8B-7008-4613-B363-70BD91DC9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660FC9-0295-4FF1-B24B-089DA8342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F05E54-1112-4915-BD94-53BC735C0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F0D4E0-DCEA-4484-9DDE-2E672CDFB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F5B93B-AFD0-4BAF-8952-351B238C9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1453A4-9826-4ED7-82F9-F0220A787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8B6003-710C-4243-AA29-C8FFAF8B2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35075C-7E58-4E6B-ABB4-0006C89B8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CC18-8C82-4983-A73A-217347770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D8F5-5E64-4F2B-9FE2-56C5C5FBB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9EA2-204F-4E5E-AD7E-CD81C6A54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9B52-EB83-43A5-9492-70F97BB07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3EE8-8209-4236-A671-1217A2B88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3643-E032-4EBC-90E3-5FECCD68E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096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1334A073-39E4-47CC-95EA-1475453DADA4}" type="slidenum">
              <a: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275c6d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a7d2d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8470569-E929-42F0-B30B-E48DE2D20224}" type="slidenum"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47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275c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FA7B157-18A6-4BBD-8B2A-7D777A4B2600}" type="slidenum">
              <a:rPr b="1" lang="cs-CZ" sz="1000" spc="-1" strike="noStrike">
                <a:solidFill>
                  <a:srgbClr val="00003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94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office.microsoft.com/" TargetMode="External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763640" y="260280"/>
            <a:ext cx="5256360" cy="13255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5372280" y="318960"/>
            <a:ext cx="5443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3524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7524720" y="549360"/>
            <a:ext cx="503280" cy="4888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826920" y="1844640"/>
            <a:ext cx="7848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ŠKOLA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Gymnázium, Tanvald, Školní 305, příspěvková organiz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ČÍSLO PROJEKT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CZ.1.07/1.5.00/34.04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NÁZEV PROJEKT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Šablony – Gymnázium Tanva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ČÍSLO ŠABLONY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VI/2 Vytváření podmínek pro rozvoj znalosti, schopností a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dovedností v oblasti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finanční gramotnost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AUTOR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Jarmila Moravcov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TEMATICKÁ OBLAST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Finanční gramotnost matematik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NÁZEV DUM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Kropáčkovi I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POŘADOVÉ ČÍSLO DUMu: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KÓD DUM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JM_VI/2_FIN_GRAM_MAT_I_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DATUM TVORBY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29.1.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ANOTACE (ROČNÍK)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Prezentace je určena pro žáky 6.ročníku ZŠ nebo primy víceletých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gymnázií.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Seznamuje žáky se základy hospodaření rodiny a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možnostmi úsp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METODICKÝ POKYN: Prezentace navazuje na dum č. 13 a podrobněji se zabývá možností,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jak snížit některé výdaje rodin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0000"/>
                </a:solidFill>
                <a:latin typeface="Times New Roman"/>
              </a:rPr>
              <a:t>Př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-181440" y="1773360"/>
            <a:ext cx="900108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33"/>
                </a:solidFill>
                <a:latin typeface="Times New Roman"/>
              </a:rPr>
              <a:t>       </a:t>
            </a:r>
            <a:r>
              <a:rPr b="0" lang="cs-CZ" sz="2200" spc="-1" strike="noStrike">
                <a:solidFill>
                  <a:srgbClr val="000033"/>
                </a:solidFill>
                <a:latin typeface="Times New Roman"/>
              </a:rPr>
              <a:t>Pan Kropáček jezdí do města vzdáleného 15 km od místa bydliště kvůli pracovním povinnostem a nákupům 6 x týdně. Když si cesty lépe zorganizuje pojede pouze 4 x týdně. Spočítejte, kolik ušetří za čtyři týdny za benzín, když spotřeba jeho auta je 5,2 litru na 100 km a cena benzínu, který kupuje je 32,46 Kč. Výsledek zaokrouhlete na celé koruny.</a:t>
            </a:r>
            <a:endParaRPr b="0" lang="en-US" sz="2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95280" y="3573360"/>
            <a:ext cx="822960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výpočet:</a:t>
            </a:r>
            <a:br>
              <a:rPr sz="24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ušetří cest za 4 týdny ………………………2*4 = 8 cest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1 cesta……………………….2 * 15 = 30 km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8 cest………………………..8 * 30 = 240 km</a:t>
            </a:r>
            <a:br>
              <a:rPr sz="800"/>
            </a:br>
            <a:br>
              <a:rPr sz="8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cena benzínu na 100 km…….5,2 * 32,46 = 168,792 Kč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cena benzínu na 1 km………. 168,792 : 100 = 1,68792 Kč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Cena benzínu na 240 km…… 240 * 1,68792 = 405,10 Kč</a:t>
            </a:r>
            <a:br>
              <a:rPr sz="2200"/>
            </a:br>
            <a:br>
              <a:rPr sz="8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Tatínek za měsíc ( 4 týdny ) ušetří 405 Kč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68360" y="5013360"/>
            <a:ext cx="784872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Závěr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1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Dnes jsme našli možnost úspor v nákladech na benzín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Protože se cena benzínu stále zvyšuje, bude možná pan Kropáček potřebovat víc peněz na provoz auta, i když omezil jízdy. 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Bude na tom přesto lépe, než kdyby situaci neřešil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S paní Kropáčkovou příště posoudíme její nákup potravin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Paní Kropáčková chce přispět do rozpočtu rodiny tím, že omezí služby kadeřníka a návštěvy kosmetiky bude platit z položky „ kapesné rodičů“. Tím ušetří měsíčně 650 Kč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Dnes se s vámi Kropáčkovi loučí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03" name="imgPreview" descr="chlapci,dcery,d&amp;ecaron;ti,dívky,matky,mu&amp;zcaron;i,osoby,otcové,po&amp;ccaron;así,ro&amp;ccaron;ní období,rodiny,sn&amp;ecaron;huláci,synové,&amp;zcaron;eny,zima"/>
          <p:cNvPicPr/>
          <p:nvPr/>
        </p:nvPicPr>
        <p:blipFill>
          <a:blip r:embed="rId1"/>
          <a:stretch/>
        </p:blipFill>
        <p:spPr>
          <a:xfrm>
            <a:off x="1258920" y="1844640"/>
            <a:ext cx="5905440" cy="44640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2195640" y="5229360"/>
            <a:ext cx="3457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Nashledanou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47560" y="736560"/>
            <a:ext cx="7948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Times New Roman"/>
              </a:rPr>
              <a:t>použité zdroje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94920" y="1989000"/>
            <a:ext cx="82090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8360">
              <a:spcBef>
                <a:spcPts val="476"/>
              </a:spcBef>
              <a:buClr>
                <a:srgbClr val="000033"/>
              </a:buClr>
              <a:buSzPct val="65000"/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Times New Roman"/>
              </a:rPr>
              <a:t>Obrázky:</a:t>
            </a: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326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8360"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cs-CZ" sz="1700" spc="-1" strike="noStrike">
                <a:solidFill>
                  <a:srgbClr val="000033"/>
                </a:solidFill>
                <a:latin typeface="Times New Roman"/>
              </a:rPr>
              <a:t>AUTOR NEUVEDEN. </a:t>
            </a:r>
            <a:r>
              <a:rPr b="1" i="1" lang="cs-CZ" sz="1700" spc="-1" strike="noStrike">
                <a:solidFill>
                  <a:srgbClr val="000033"/>
                </a:solidFill>
                <a:latin typeface="Times New Roman"/>
              </a:rPr>
              <a:t>Kliparty Microsoft Office</a:t>
            </a:r>
            <a:r>
              <a:rPr b="1" lang="cs-CZ" sz="1700" spc="-1" strike="noStrike">
                <a:solidFill>
                  <a:srgbClr val="000033"/>
                </a:solidFill>
                <a:latin typeface="Times New Roman"/>
              </a:rPr>
              <a:t> [online]. [cit. 28.11.2012]. Dostupný na WWW: </a:t>
            </a:r>
            <a:r>
              <a:rPr b="0" lang="cs-CZ" sz="1700" spc="-1" strike="noStrike" u="sng">
                <a:solidFill>
                  <a:srgbClr val="666699"/>
                </a:solidFill>
                <a:uFillTx/>
                <a:latin typeface="Times New Roman"/>
                <a:hlinkClick r:id="rId1"/>
              </a:rPr>
              <a:t>http://office.microsoft.com/</a:t>
            </a: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3366"/>
                </a:solidFill>
                <a:latin typeface="Times New Roman"/>
              </a:rPr>
              <a:t>Rodina Kropáčkova chce šetřit: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4" name="" descr="chlapci,dcery,d&amp;ecaron;ti,dívky,matky,mu&amp;zcaron;i,osoby,otcové,po&amp;ccaron;así,ro&amp;ccaron;ní období,rodiny,sn&amp;ecaron;huláci,synové,&amp;zcaron;eny,zima"/>
          <p:cNvPicPr/>
          <p:nvPr/>
        </p:nvPicPr>
        <p:blipFill>
          <a:blip r:embed="rId1"/>
          <a:stretch/>
        </p:blipFill>
        <p:spPr>
          <a:xfrm>
            <a:off x="3203640" y="2060640"/>
            <a:ext cx="4824360" cy="36734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684360" y="2205000"/>
            <a:ext cx="2303280" cy="53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Mamin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Tatín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Eliš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Davíd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Co nás dnes čeká 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omůžeme rodině Kropáčkovic hledat úspor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roztřídíme výdaje do skupin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osoudíme situaci 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romyslíme, kde a kolik chceme ušetřit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navrhneme řešení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rozdělíme úkol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rovedeme výpočt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Rozhodnutí z minulé hodiny: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50560" y="1828440"/>
            <a:ext cx="84358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403920" indent="-403920">
              <a:lnSpc>
                <a:spcPct val="90000"/>
              </a:lnSpc>
              <a:spcBef>
                <a:spcPts val="799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Kropáčkovi zjistili, že příjmy rodiny se jim 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v dohledné době nepodaří zvýšit.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-40392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Pokusí se tedy snížit výdaje a to asi                                                                                           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o </a:t>
            </a:r>
            <a:r>
              <a:rPr b="1" lang="cs-CZ" sz="2800" spc="-1" strike="noStrike" u="sng">
                <a:solidFill>
                  <a:srgbClr val="cc0000"/>
                </a:solidFill>
                <a:uFillTx/>
                <a:latin typeface="Times New Roman"/>
              </a:rPr>
              <a:t>2 000 až 3 000 Kč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4000" y="4005360"/>
            <a:ext cx="8353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cc0000"/>
                </a:solidFill>
                <a:latin typeface="Times New Roman"/>
              </a:rPr>
              <a:t>Otevřete si sešity si a porovnejte své návrhy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55640" y="479736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492360" y="4724280"/>
            <a:ext cx="8636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227640" y="472428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MOŽ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445000"/>
            <a:ext cx="8353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275c6d"/>
                </a:solidFill>
                <a:latin typeface="Times New Roman"/>
              </a:rPr>
              <a:t>Jaké položky máte v 1. 2. a 3. sloupci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54936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600" spc="-1" strike="noStrike">
                <a:solidFill>
                  <a:srgbClr val="003366"/>
                </a:solidFill>
                <a:latin typeface="Arial"/>
              </a:rPr>
              <a:t>Paní Kropáčková zapsala průměrné měsíční výdaje v Kč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468360" y="1268280"/>
          <a:ext cx="4038480" cy="5256360"/>
        </p:xfrm>
        <a:graphic>
          <a:graphicData uri="http://schemas.openxmlformats.org/drawingml/2006/table">
            <a:tbl>
              <a:tblPr/>
              <a:tblGrid>
                <a:gridCol w="3166920"/>
                <a:gridCol w="871560"/>
              </a:tblGrid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byt: nájem a služb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7 42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elektřina: záloh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pojištění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8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bědy ve ško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bědy rodič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2 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jídlo do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4 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jídlo v restaurac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8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telefon, internet, telev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3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drogerie, kosmeti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6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půjč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3 3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4716360" y="1268280"/>
          <a:ext cx="4038840" cy="5254920"/>
        </p:xfrm>
        <a:graphic>
          <a:graphicData uri="http://schemas.openxmlformats.org/drawingml/2006/table">
            <a:tbl>
              <a:tblPr/>
              <a:tblGrid>
                <a:gridCol w="3095640"/>
                <a:gridCol w="943200"/>
              </a:tblGrid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bleče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06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doprav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7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benzín a au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4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nihy a kultu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6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škola a krouž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4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apesné dět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2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adeřník a kosmeti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9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spo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apesné rodič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stat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5219640" y="765000"/>
            <a:ext cx="3168720" cy="503280"/>
          </a:xfrm>
          <a:prstGeom prst="rect">
            <a:avLst/>
          </a:prstGeom>
          <a:solidFill>
            <a:srgbClr val="a7d2df">
              <a:alpha val="64000"/>
            </a:srgbClr>
          </a:solidFill>
          <a:ln w="381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55640" y="184464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987640" y="436572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227640" y="429264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MOˇZN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443640" y="184464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MOŽ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64000" y="1844640"/>
            <a:ext cx="863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94920" y="620280"/>
            <a:ext cx="3024360" cy="66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90033"/>
                </a:solidFill>
                <a:latin typeface="Times New Roman"/>
              </a:rPr>
              <a:t>Možné řešení 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půjčky                      3 3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148360" y="765000"/>
            <a:ext cx="32288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drogerie, kosmetika   6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48360" y="765000"/>
            <a:ext cx="32288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tel., int., televize      1 3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219640" y="836640"/>
            <a:ext cx="32292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jídlo v restauraci        8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jídlo doma               4 2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bědy rodičů           2 6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bědy ve škole        1 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219640" y="765000"/>
            <a:ext cx="3229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pojištění                     8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elektřina: záloha     1 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292720" y="765000"/>
            <a:ext cx="3024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0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byt: nájem             7 420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81 0.05254 L -0.32292 0.25185 E">
                                      <p:cBhvr>
                                        <p:cTn id="184" dur="2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611 0.02315 L -0.3184 0.31713 E">
                                      <p:cBhvr>
                                        <p:cTn id="192" dur="2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829 0.0125 L -0.32622 0.40116 E">
                                      <p:cBhvr>
                                        <p:cTn id="200" dur="2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83 0.00208 L -0.31041 0.46412 E">
                                      <p:cBhvr>
                                        <p:cTn id="208" dur="2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049 0.10717 L -0.55451 0.70555 E">
                                      <p:cBhvr>
                                        <p:cTn id="216" dur="2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409 0.03356 L -0.54671 0.54815 E">
                                      <p:cBhvr>
                                        <p:cTn id="224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11111E-006 L 0.08334 0.44305 E">
                                      <p:cBhvr>
                                        <p:cTn id="232" dur="2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52 0.0368 L 0.06754 0.25717 E">
                                      <p:cBhvr>
                                        <p:cTn id="240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049 -0.04004 L -0.271 0.63195 E">
                                      <p:cBhvr>
                                        <p:cTn id="248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393 0.03356 L -0.3184 0.77893 E">
                                      <p:cBhvr>
                                        <p:cTn id="256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5219640" y="907920"/>
            <a:ext cx="3168720" cy="503280"/>
          </a:xfrm>
          <a:prstGeom prst="rect">
            <a:avLst/>
          </a:prstGeom>
          <a:solidFill>
            <a:srgbClr val="a7d2df">
              <a:alpha val="64000"/>
            </a:srgbClr>
          </a:solidFill>
          <a:ln w="381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55640" y="184464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987640" y="436572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227640" y="429264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MOˇZN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443640" y="184464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MOŽ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564000" y="1844640"/>
            <a:ext cx="863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94920" y="620280"/>
            <a:ext cx="3024360" cy="66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90033"/>
                </a:solidFill>
                <a:latin typeface="Times New Roman"/>
              </a:rPr>
              <a:t>Možné řešení 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148360" y="981000"/>
            <a:ext cx="3095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statní                    1 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292720" y="98100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apesné rodičů     1 4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219640" y="98100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sport                          6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219640" y="90792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adeřník                    9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219640" y="907920"/>
            <a:ext cx="3095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apesné dětí             2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292720" y="90792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škola a kroužky        4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19640" y="907920"/>
            <a:ext cx="316872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nihy a kultura         6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292720" y="907920"/>
            <a:ext cx="30956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benzín a auto         1 4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19640" y="90792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doprava                    7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292720" y="907920"/>
            <a:ext cx="309708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blečení                 1 06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63 0.025 L -0.27951 0.22454 E">
                                      <p:cBhvr>
                                        <p:cTn id="300" dur="200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6771 0.28356 E">
                                      <p:cBhvr>
                                        <p:cTn id="308" dur="2000" fill="hold"/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99 0.03681 L 0.0434 0.23635 E">
                                      <p:cBhvr>
                                        <p:cTn id="316" dur="2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0.02754 L -0.57483 0.48033 E">
                                      <p:cBhvr>
                                        <p:cTn id="324" dur="2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8351 0.39907 E">
                                      <p:cBhvr>
                                        <p:cTn id="332" dur="2000" fill="hold"/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11111E-006 L -0.26371 0.53565 E">
                                      <p:cBhvr>
                                        <p:cTn id="340" dur="2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541 0.03542 L -0.57864 0.67986 E">
                                      <p:cBhvr>
                                        <p:cTn id="348" dur="20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 0.03519 L 0.03542 0.35 E">
                                      <p:cBhvr>
                                        <p:cTn id="356" dur="2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2.96296E-006 L 0.05504 0.55648 E">
                                      <p:cBhvr>
                                        <p:cTn id="364" dur="2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0.05254 L -0.27951 0.75602 E">
                                      <p:cBhvr>
                                        <p:cTn id="372" dur="2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Poznámky:   </a:t>
            </a:r>
            <a:r>
              <a:rPr b="1" lang="cs-CZ" sz="3200" spc="-1" strike="noStrike">
                <a:solidFill>
                  <a:srgbClr val="cc0000"/>
                </a:solidFill>
                <a:latin typeface="Times New Roman"/>
              </a:rPr>
              <a:t>jídlo dom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39640" y="1773360"/>
            <a:ext cx="835344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Maminka se pokusí ušetřit na jídle,které jí rodina doma, ale protože ceny potravin stále rostou, tak nečeká velké úspor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Na příště si připraví seznam potravin, které kupuj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Společně vybereme, které potraviny jsou pro zdravý jídelníček potřebné a nechceme je omezit a které jsou dokonce nezdravé a omezit bychom je měl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Rodina se shodla, že do restaurace půjdou jen někdy na výletě a tím sníží tento výdaj na polovin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Poznámky:  </a:t>
            </a:r>
            <a:r>
              <a:rPr b="1" lang="cs-CZ" sz="3200" spc="-1" strike="noStrike">
                <a:solidFill>
                  <a:srgbClr val="cc0000"/>
                </a:solidFill>
                <a:latin typeface="Times New Roman"/>
              </a:rPr>
              <a:t>benzín a provoz aut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39640" y="1773360"/>
            <a:ext cx="835344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Tatínek potřebuje auto ke své práci, proto nemůže příliš omezit jeho provoz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Protože se ceny benzínu stále zvyšují, promyslí si lépe trasy svých ces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Například na větší nákup do města nebude jezdit       v sobotu dopoledne, ale nakoupí už v pátek več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Tatínek si spočítal, že takto ušetří asi 400 Kč měsíčně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5T05:09:32Z</dcterms:created>
  <dc:creator>herrmannova</dc:creator>
  <dc:description/>
  <dc:language>en-US</dc:language>
  <cp:lastModifiedBy>RNDr. Zdeněk Moravec</cp:lastModifiedBy>
  <dcterms:modified xsi:type="dcterms:W3CDTF">2013-02-01T13:21:36Z</dcterms:modified>
  <cp:revision>70</cp:revision>
  <dc:subject/>
  <dc:title>Snímek 1</dc:title>
</cp:coreProperties>
</file>