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32633666"/>
        <c:axId val="18189383"/>
      </c:scatterChart>
      <c:valAx>
        <c:axId val="32633666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8189383"/>
        <c:crosses val="autoZero"/>
        <c:crossBetween val="midCat"/>
        <c:majorUnit val="1"/>
      </c:valAx>
      <c:valAx>
        <c:axId val="18189383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2633666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69218344"/>
        <c:axId val="36963839"/>
      </c:scatterChart>
      <c:valAx>
        <c:axId val="69218344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6963839"/>
        <c:crosses val="autoZero"/>
        <c:crossBetween val="midCat"/>
        <c:majorUnit val="1"/>
      </c:valAx>
      <c:valAx>
        <c:axId val="36963839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9218344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96546181"/>
        <c:axId val="1262510"/>
      </c:scatterChart>
      <c:valAx>
        <c:axId val="96546181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1262510"/>
        <c:crosses val="autoZero"/>
        <c:crossBetween val="midCat"/>
        <c:majorUnit val="2"/>
        <c:minorUnit val="1"/>
      </c:valAx>
      <c:valAx>
        <c:axId val="1262510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96546181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33782597"/>
        <c:axId val="25268953"/>
      </c:scatterChart>
      <c:valAx>
        <c:axId val="3378259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5268953"/>
        <c:crosses val="autoZero"/>
        <c:crossBetween val="midCat"/>
        <c:majorUnit val="2"/>
        <c:minorUnit val="0.05"/>
      </c:valAx>
      <c:valAx>
        <c:axId val="25268953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3782597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58785007"/>
        <c:axId val="21405182"/>
      </c:scatterChart>
      <c:valAx>
        <c:axId val="5878500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1405182"/>
        <c:crosses val="autoZero"/>
        <c:crossBetween val="midCat"/>
        <c:majorUnit val="2"/>
        <c:minorUnit val="0.05"/>
      </c:valAx>
      <c:valAx>
        <c:axId val="21405182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8785007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7807449"/>
        <c:axId val="82475434"/>
      </c:scatterChart>
      <c:valAx>
        <c:axId val="780744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2475434"/>
        <c:crosses val="autoZero"/>
        <c:crossBetween val="midCat"/>
        <c:majorUnit val="2"/>
        <c:minorUnit val="0.05"/>
      </c:valAx>
      <c:valAx>
        <c:axId val="82475434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807449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78969704"/>
        <c:axId val="74045"/>
      </c:scatterChart>
      <c:valAx>
        <c:axId val="7896970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4045"/>
        <c:crosses val="autoZero"/>
        <c:crossBetween val="midCat"/>
        <c:majorUnit val="2"/>
      </c:valAx>
      <c:valAx>
        <c:axId val="74045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8969704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39445220"/>
        <c:axId val="37366527"/>
      </c:scatterChart>
      <c:valAx>
        <c:axId val="3944522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7366527"/>
        <c:crosses val="autoZero"/>
        <c:crossBetween val="midCat"/>
        <c:majorUnit val="2"/>
      </c:valAx>
      <c:valAx>
        <c:axId val="37366527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9445220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32662915"/>
        <c:axId val="48911766"/>
      </c:scatterChart>
      <c:valAx>
        <c:axId val="3266291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8911766"/>
        <c:crosses val="autoZero"/>
        <c:crossBetween val="midCat"/>
        <c:majorUnit val="2"/>
        <c:minorUnit val="0.05"/>
      </c:valAx>
      <c:valAx>
        <c:axId val="48911766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2662915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C6501C-3B1F-405E-9CFB-0E5DD3B37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72383C-B0C5-44DF-82AC-CEB13A41F709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784779-EAEE-4F72-92EF-327DD7143AF6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C8B83F-0F40-4131-8013-04E7DB7BDF0B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