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1792882"/>
        <c:axId val="64372431"/>
      </c:scatterChart>
      <c:valAx>
        <c:axId val="8179288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372431"/>
        <c:crosses val="autoZero"/>
        <c:crossBetween val="midCat"/>
        <c:majorUnit val="1"/>
      </c:valAx>
      <c:valAx>
        <c:axId val="64372431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79288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31091720"/>
        <c:axId val="82444627"/>
      </c:scatterChart>
      <c:valAx>
        <c:axId val="3109172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444627"/>
        <c:crosses val="autoZero"/>
        <c:crossBetween val="midCat"/>
        <c:majorUnit val="1"/>
      </c:valAx>
      <c:valAx>
        <c:axId val="82444627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109172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32793337"/>
        <c:axId val="58910331"/>
      </c:scatterChart>
      <c:valAx>
        <c:axId val="32793337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8910331"/>
        <c:crosses val="autoZero"/>
        <c:crossBetween val="midCat"/>
        <c:majorUnit val="2"/>
        <c:minorUnit val="1"/>
      </c:valAx>
      <c:valAx>
        <c:axId val="58910331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32793337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2835561"/>
        <c:axId val="4445753"/>
      </c:scatterChart>
      <c:valAx>
        <c:axId val="9283556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445753"/>
        <c:crosses val="autoZero"/>
        <c:crossBetween val="midCat"/>
        <c:majorUnit val="2"/>
        <c:minorUnit val="0.05"/>
      </c:valAx>
      <c:valAx>
        <c:axId val="444575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83556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90220069"/>
        <c:axId val="32333336"/>
      </c:scatterChart>
      <c:valAx>
        <c:axId val="9022006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333336"/>
        <c:crosses val="autoZero"/>
        <c:crossBetween val="midCat"/>
        <c:majorUnit val="2"/>
        <c:minorUnit val="0.05"/>
      </c:valAx>
      <c:valAx>
        <c:axId val="3233333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22006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7196474"/>
        <c:axId val="45686978"/>
      </c:scatterChart>
      <c:valAx>
        <c:axId val="4719647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686978"/>
        <c:crosses val="autoZero"/>
        <c:crossBetween val="midCat"/>
        <c:majorUnit val="2"/>
        <c:minorUnit val="0.05"/>
      </c:valAx>
      <c:valAx>
        <c:axId val="4568697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19647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9163556"/>
        <c:axId val="39265035"/>
      </c:scatterChart>
      <c:valAx>
        <c:axId val="8916355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265035"/>
        <c:crosses val="autoZero"/>
        <c:crossBetween val="midCat"/>
        <c:majorUnit val="2"/>
      </c:valAx>
      <c:valAx>
        <c:axId val="3926503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16355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791832"/>
        <c:axId val="37290844"/>
      </c:scatterChart>
      <c:valAx>
        <c:axId val="379183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290844"/>
        <c:crosses val="autoZero"/>
        <c:crossBetween val="midCat"/>
        <c:majorUnit val="2"/>
      </c:valAx>
      <c:valAx>
        <c:axId val="3729084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9183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82039169"/>
        <c:axId val="30909700"/>
      </c:scatterChart>
      <c:valAx>
        <c:axId val="8203916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909700"/>
        <c:crosses val="autoZero"/>
        <c:crossBetween val="midCat"/>
        <c:majorUnit val="2"/>
        <c:minorUnit val="0.05"/>
      </c:valAx>
      <c:valAx>
        <c:axId val="3090970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03916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8D4608-A62A-4A9D-9B75-D7177BA33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E1B63C-8AC1-484E-A808-A64D87DE48F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606D55-E1FF-43F8-A48F-EB3DA22DEA4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0BC770-E473-436C-BCB4-39712CD4D8F2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