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3391950"/>
        <c:axId val="18062633"/>
      </c:scatterChart>
      <c:valAx>
        <c:axId val="1339195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062633"/>
        <c:crosses val="autoZero"/>
        <c:crossBetween val="midCat"/>
        <c:majorUnit val="1"/>
      </c:valAx>
      <c:valAx>
        <c:axId val="1806263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39195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6731646"/>
        <c:axId val="57777881"/>
      </c:scatterChart>
      <c:valAx>
        <c:axId val="8673164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777881"/>
        <c:crosses val="autoZero"/>
        <c:crossBetween val="midCat"/>
        <c:majorUnit val="1"/>
      </c:valAx>
      <c:valAx>
        <c:axId val="5777788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73164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9200907"/>
        <c:axId val="94042054"/>
      </c:scatterChart>
      <c:valAx>
        <c:axId val="1920090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4042054"/>
        <c:crosses val="autoZero"/>
        <c:crossBetween val="midCat"/>
        <c:majorUnit val="2"/>
        <c:minorUnit val="1"/>
      </c:valAx>
      <c:valAx>
        <c:axId val="9404205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920090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9287731"/>
        <c:axId val="3105786"/>
      </c:scatterChart>
      <c:valAx>
        <c:axId val="5928773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05786"/>
        <c:crosses val="autoZero"/>
        <c:crossBetween val="midCat"/>
        <c:majorUnit val="2"/>
        <c:minorUnit val="0.05"/>
      </c:valAx>
      <c:valAx>
        <c:axId val="310578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28773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1121422"/>
        <c:axId val="47245173"/>
      </c:scatterChart>
      <c:valAx>
        <c:axId val="9112142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245173"/>
        <c:crosses val="autoZero"/>
        <c:crossBetween val="midCat"/>
        <c:majorUnit val="2"/>
        <c:minorUnit val="0.05"/>
      </c:valAx>
      <c:valAx>
        <c:axId val="4724517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12142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7374019"/>
        <c:axId val="38396484"/>
      </c:scatterChart>
      <c:valAx>
        <c:axId val="2737401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396484"/>
        <c:crosses val="autoZero"/>
        <c:crossBetween val="midCat"/>
        <c:majorUnit val="2"/>
        <c:minorUnit val="0.05"/>
      </c:valAx>
      <c:valAx>
        <c:axId val="3839648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37401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9650058"/>
        <c:axId val="25380848"/>
      </c:scatterChart>
      <c:valAx>
        <c:axId val="4965005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380848"/>
        <c:crosses val="autoZero"/>
        <c:crossBetween val="midCat"/>
        <c:majorUnit val="2"/>
      </c:valAx>
      <c:valAx>
        <c:axId val="2538084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65005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8672525"/>
        <c:axId val="62891438"/>
      </c:scatterChart>
      <c:valAx>
        <c:axId val="9867252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891438"/>
        <c:crosses val="autoZero"/>
        <c:crossBetween val="midCat"/>
        <c:majorUnit val="2"/>
      </c:valAx>
      <c:valAx>
        <c:axId val="6289143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67252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3329810"/>
        <c:axId val="80322081"/>
      </c:scatterChart>
      <c:valAx>
        <c:axId val="7332981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322081"/>
        <c:crosses val="autoZero"/>
        <c:crossBetween val="midCat"/>
        <c:majorUnit val="2"/>
        <c:minorUnit val="0.05"/>
      </c:valAx>
      <c:valAx>
        <c:axId val="8032208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32981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A9C418-A9E1-4C4C-B688-DEBFBD60F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473041-1BB2-47C0-8966-EB5B522DD50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8EC995-FB51-4254-99CE-92B79B170AC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546B01-CEFF-45CA-A789-06FB6EA6D87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