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B716-F170-4E73-9402-FA7CE41D4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5042-BA2F-4F8F-BFF0-3A692B6C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C5F1-380E-4D2D-BC47-C97A8A257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3365-7DC9-4B68-8D7C-189414768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FAE31-D54B-4F32-832B-B9614AB88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1397C-5B38-4F2D-B86C-DA41F7616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34CC4-FB81-474C-A562-81E76D1BF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D9F1F-BAB6-43D4-81AE-7BBC487C2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8713B-8770-403B-B1BF-DCEDEA027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56DD0-6E2B-43CC-A175-19555C1A8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30AD2-34D5-43CB-AE44-230127DE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181C-B7FB-4989-BB4D-E107B6051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DAE85-EC21-490F-9A0D-EAD6A2B1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BEA5D-562C-4CC0-9FCD-4ABBB918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E2EF1-3AC0-4821-BF07-C51C7D183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BD5BA-6E0F-46C5-994D-C85637F52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65645-8B58-4950-805A-55E0ACAD0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FE67-7016-497B-9DE0-D249DBC5C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0387-81DE-4BBD-B23B-9D8820B2F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6E47-5931-4B9F-8A65-326C0CBBE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1150-A28F-4950-92A3-FAB8244C8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E3D2-0124-460B-B831-A9A8150B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F26C-F64A-4FC9-93DA-DF872422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2800-EE8F-43B3-B8E2-B7F1873D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1027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1028"/>
              <p:cNvSpPr/>
              <p:nvPr/>
            </p:nvSpPr>
            <p:spPr>
              <a:xfrm flipH="1">
                <a:off x="66600" y="-4680"/>
                <a:ext cx="976320" cy="683280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1029"/>
              <p:cNvSpPr/>
              <p:nvPr/>
            </p:nvSpPr>
            <p:spPr>
              <a:xfrm flipH="1">
                <a:off x="61200" y="169740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1030"/>
              <p:cNvSpPr/>
              <p:nvPr/>
            </p:nvSpPr>
            <p:spPr>
              <a:xfrm flipH="1">
                <a:off x="67320" y="1281240"/>
                <a:ext cx="976680" cy="5029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1031"/>
              <p:cNvSpPr/>
              <p:nvPr/>
            </p:nvSpPr>
            <p:spPr>
              <a:xfrm flipH="1">
                <a:off x="67320" y="145800"/>
                <a:ext cx="976680" cy="302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1032"/>
              <p:cNvSpPr/>
              <p:nvPr/>
            </p:nvSpPr>
            <p:spPr>
              <a:xfrm flipH="1">
                <a:off x="61200" y="990000"/>
                <a:ext cx="976680" cy="3481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1033"/>
              <p:cNvSpPr/>
              <p:nvPr/>
            </p:nvSpPr>
            <p:spPr>
              <a:xfrm flipH="1">
                <a:off x="63000" y="679680"/>
                <a:ext cx="976680" cy="4327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34"/>
              <p:cNvSpPr/>
              <p:nvPr/>
            </p:nvSpPr>
            <p:spPr>
              <a:xfrm flipH="1">
                <a:off x="64440" y="37188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035"/>
              <p:cNvSpPr/>
              <p:nvPr/>
            </p:nvSpPr>
            <p:spPr>
              <a:xfrm flipH="1">
                <a:off x="47520" y="3930120"/>
                <a:ext cx="976320" cy="4993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036"/>
              <p:cNvSpPr/>
              <p:nvPr/>
            </p:nvSpPr>
            <p:spPr>
              <a:xfrm flipH="1">
                <a:off x="52920" y="353664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037"/>
              <p:cNvSpPr/>
              <p:nvPr/>
            </p:nvSpPr>
            <p:spPr>
              <a:xfrm flipH="1">
                <a:off x="53280" y="2397960"/>
                <a:ext cx="976680" cy="3042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038"/>
              <p:cNvSpPr/>
              <p:nvPr/>
            </p:nvSpPr>
            <p:spPr>
              <a:xfrm flipH="1">
                <a:off x="52920" y="3228480"/>
                <a:ext cx="976680" cy="34704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039"/>
              <p:cNvSpPr/>
              <p:nvPr/>
            </p:nvSpPr>
            <p:spPr>
              <a:xfrm flipH="1">
                <a:off x="52920" y="293148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040"/>
              <p:cNvSpPr/>
              <p:nvPr/>
            </p:nvSpPr>
            <p:spPr>
              <a:xfrm flipH="1">
                <a:off x="53280" y="261576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041"/>
              <p:cNvSpPr/>
              <p:nvPr/>
            </p:nvSpPr>
            <p:spPr>
              <a:xfrm flipH="1">
                <a:off x="48240" y="4962600"/>
                <a:ext cx="976680" cy="4993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042"/>
              <p:cNvSpPr/>
              <p:nvPr/>
            </p:nvSpPr>
            <p:spPr>
              <a:xfrm flipH="1">
                <a:off x="55440" y="4547520"/>
                <a:ext cx="976320" cy="5029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043"/>
              <p:cNvSpPr/>
              <p:nvPr/>
            </p:nvSpPr>
            <p:spPr>
              <a:xfrm flipH="1">
                <a:off x="47520" y="5654520"/>
                <a:ext cx="976320" cy="30276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1044"/>
              <p:cNvSpPr/>
              <p:nvPr/>
            </p:nvSpPr>
            <p:spPr>
              <a:xfrm flipH="1" rot="16200000">
                <a:off x="361440" y="6191280"/>
                <a:ext cx="345960" cy="97812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78120"/>
                  <a:gd name="textAreaBottom" fmla="*/ 978480 h 97812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1045"/>
              <p:cNvSpPr/>
              <p:nvPr/>
            </p:nvSpPr>
            <p:spPr>
              <a:xfrm flipH="1">
                <a:off x="40680" y="619344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1046"/>
              <p:cNvSpPr/>
              <p:nvPr/>
            </p:nvSpPr>
            <p:spPr>
              <a:xfrm flipH="1">
                <a:off x="40680" y="588312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1047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1048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E352A-0177-4D07-821C-DF5DE8A2B0A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7360"/>
              <a:chOff x="-3240" y="2479680"/>
              <a:chExt cx="9146880" cy="10173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480" y="2786760"/>
                <a:ext cx="990360" cy="40428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536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6040" y="2643480"/>
                <a:ext cx="990360" cy="6681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0840" y="2650320"/>
                <a:ext cx="990720" cy="667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840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4240" y="269136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ACCF7-F4D9-4AA5-8349-D2ED5ABB212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ndat.org/photo-6593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0628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4e3b30"/>
                </a:solidFill>
                <a:latin typeface="Times New Roman"/>
              </a:rPr>
              <a:t>Matematický milionář </a:t>
            </a:r>
            <a:endParaRPr b="0" lang="en-US" sz="7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357360" y="5857920"/>
            <a:ext cx="21430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oto: a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123840" y="27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4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3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1">
            <a:hlinkClick r:id="rId1"/>
          </p:cNvPr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12"/>
          <p:cNvSpPr/>
          <p:nvPr/>
        </p:nvSpPr>
        <p:spPr>
          <a:xfrm>
            <a:off x="0" y="63961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Dostupné z Metodického portálu www.rvp.cz, ISSN: 1802-4785, financovaného z ESF a státního rozpočtu ČR.</a:t>
            </a:r>
            <a:br>
              <a:rPr sz="1200"/>
            </a:b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Provozováno Výzkumným ústavem pedagogickým v Pra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7" descr="C:\Katka\Studium Vysoká škola\Foto disertačka\100OLYMP\Pocity z matematiky-fotky\11a - Kopie.JPG"/>
          <p:cNvPicPr/>
          <p:nvPr/>
        </p:nvPicPr>
        <p:blipFill>
          <a:blip r:embed="rId2"/>
          <a:stretch/>
        </p:blipFill>
        <p:spPr>
          <a:xfrm>
            <a:off x="2786040" y="3571920"/>
            <a:ext cx="328608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89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2"/>
          <a:stretch/>
        </p:blipFill>
        <p:spPr>
          <a:xfrm>
            <a:off x="1857240" y="257184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9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3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4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"/>
          <p:cNvPicPr/>
          <p:nvPr/>
        </p:nvPicPr>
        <p:blipFill>
          <a:blip r:embed="rId2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3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4"/>
          <a:stretch/>
        </p:blipFill>
        <p:spPr>
          <a:xfrm>
            <a:off x="1857240" y="2571840"/>
            <a:ext cx="525600" cy="5713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6786720" y="328284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6786720" y="328608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0" y="6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08:41:51Z</dcterms:created>
  <dc:creator>Kateřina Crháková</dc:creator>
  <dc:description>Dostupné z Metodického portálu www.rvp.cz, ISSN: 1802-4785, financovaného z ESF a státního rozpočtu ČR. Provozováno Výzkumným ústavem pedagogickým v Praze.</dc:description>
  <dc:language>en-US</dc:language>
  <cp:lastModifiedBy>Štěpánka</cp:lastModifiedBy>
  <dcterms:modified xsi:type="dcterms:W3CDTF">2010-01-31T19:46:09Z</dcterms:modified>
  <cp:revision>44</cp:revision>
  <dc:subject/>
  <dc:title>Matematický milionář</dc:title>
</cp:coreProperties>
</file>