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9844334"/>
        <c:axId val="95022290"/>
      </c:scatterChart>
      <c:valAx>
        <c:axId val="7984433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022290"/>
        <c:crosses val="autoZero"/>
        <c:crossBetween val="midCat"/>
        <c:majorUnit val="1"/>
      </c:valAx>
      <c:valAx>
        <c:axId val="95022290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84433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99057614"/>
        <c:axId val="75675159"/>
      </c:scatterChart>
      <c:valAx>
        <c:axId val="9905761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675159"/>
        <c:crosses val="autoZero"/>
        <c:crossBetween val="midCat"/>
        <c:majorUnit val="1"/>
      </c:valAx>
      <c:valAx>
        <c:axId val="75675159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05761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72316615"/>
        <c:axId val="5287693"/>
      </c:scatterChart>
      <c:valAx>
        <c:axId val="72316615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287693"/>
        <c:crosses val="autoZero"/>
        <c:crossBetween val="midCat"/>
        <c:majorUnit val="2"/>
        <c:minorUnit val="1"/>
      </c:valAx>
      <c:valAx>
        <c:axId val="528769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2316615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5004262"/>
        <c:axId val="45857274"/>
      </c:scatterChart>
      <c:valAx>
        <c:axId val="1500426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857274"/>
        <c:crosses val="autoZero"/>
        <c:crossBetween val="midCat"/>
        <c:majorUnit val="2"/>
        <c:minorUnit val="0.05"/>
      </c:valAx>
      <c:valAx>
        <c:axId val="4585727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00426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51390773"/>
        <c:axId val="62076949"/>
      </c:scatterChart>
      <c:valAx>
        <c:axId val="5139077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076949"/>
        <c:crosses val="autoZero"/>
        <c:crossBetween val="midCat"/>
        <c:majorUnit val="2"/>
        <c:minorUnit val="0.05"/>
      </c:valAx>
      <c:valAx>
        <c:axId val="6207694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39077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7589220"/>
        <c:axId val="62398447"/>
      </c:scatterChart>
      <c:valAx>
        <c:axId val="9758922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398447"/>
        <c:crosses val="autoZero"/>
        <c:crossBetween val="midCat"/>
        <c:majorUnit val="2"/>
        <c:minorUnit val="0.05"/>
      </c:valAx>
      <c:valAx>
        <c:axId val="6239844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58922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5357221"/>
        <c:axId val="60536497"/>
      </c:scatterChart>
      <c:valAx>
        <c:axId val="4535722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536497"/>
        <c:crosses val="autoZero"/>
        <c:crossBetween val="midCat"/>
        <c:majorUnit val="2"/>
      </c:valAx>
      <c:valAx>
        <c:axId val="6053649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35722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7118185"/>
        <c:axId val="67617920"/>
      </c:scatterChart>
      <c:valAx>
        <c:axId val="5711818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617920"/>
        <c:crosses val="autoZero"/>
        <c:crossBetween val="midCat"/>
        <c:majorUnit val="2"/>
      </c:valAx>
      <c:valAx>
        <c:axId val="6761792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118185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25478113"/>
        <c:axId val="83419912"/>
      </c:scatterChart>
      <c:valAx>
        <c:axId val="2547811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419912"/>
        <c:crosses val="autoZero"/>
        <c:crossBetween val="midCat"/>
        <c:majorUnit val="2"/>
        <c:minorUnit val="0.05"/>
      </c:valAx>
      <c:valAx>
        <c:axId val="8341991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47811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2A951D-82F7-4912-BDE7-028D6EC44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F8E8A1-4B09-417C-A59B-91E63B091EA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10D8A7-5894-46C3-A919-D510872963A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293C87-8B31-4EC2-B486-C58DF6756C0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