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8659310"/>
        <c:axId val="68495300"/>
      </c:scatterChart>
      <c:valAx>
        <c:axId val="3865931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495300"/>
        <c:crosses val="autoZero"/>
        <c:crossBetween val="midCat"/>
        <c:majorUnit val="1"/>
      </c:valAx>
      <c:valAx>
        <c:axId val="6849530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65931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8686838"/>
        <c:axId val="62498502"/>
      </c:scatterChart>
      <c:valAx>
        <c:axId val="5868683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498502"/>
        <c:crosses val="autoZero"/>
        <c:crossBetween val="midCat"/>
        <c:majorUnit val="1"/>
      </c:valAx>
      <c:valAx>
        <c:axId val="6249850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68683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7359731"/>
        <c:axId val="55228415"/>
      </c:scatterChart>
      <c:valAx>
        <c:axId val="9735973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228415"/>
        <c:crosses val="autoZero"/>
        <c:crossBetween val="midCat"/>
        <c:majorUnit val="2"/>
        <c:minorUnit val="1"/>
      </c:valAx>
      <c:valAx>
        <c:axId val="55228415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735973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752033"/>
        <c:axId val="29614963"/>
      </c:scatterChart>
      <c:valAx>
        <c:axId val="175203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614963"/>
        <c:crosses val="autoZero"/>
        <c:crossBetween val="midCat"/>
        <c:majorUnit val="2"/>
        <c:minorUnit val="0.05"/>
      </c:valAx>
      <c:valAx>
        <c:axId val="2961496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5203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0693720"/>
        <c:axId val="85142693"/>
      </c:scatterChart>
      <c:valAx>
        <c:axId val="506937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142693"/>
        <c:crosses val="autoZero"/>
        <c:crossBetween val="midCat"/>
        <c:majorUnit val="2"/>
        <c:minorUnit val="0.05"/>
      </c:valAx>
      <c:valAx>
        <c:axId val="8514269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6937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4988906"/>
        <c:axId val="59430517"/>
      </c:scatterChart>
      <c:valAx>
        <c:axId val="7498890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430517"/>
        <c:crosses val="autoZero"/>
        <c:crossBetween val="midCat"/>
        <c:majorUnit val="2"/>
        <c:minorUnit val="0.05"/>
      </c:valAx>
      <c:valAx>
        <c:axId val="5943051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98890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9431401"/>
        <c:axId val="1885186"/>
      </c:scatterChart>
      <c:valAx>
        <c:axId val="7943140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85186"/>
        <c:crosses val="autoZero"/>
        <c:crossBetween val="midCat"/>
        <c:majorUnit val="2"/>
      </c:valAx>
      <c:valAx>
        <c:axId val="188518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43140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4595286"/>
        <c:axId val="73964624"/>
      </c:scatterChart>
      <c:valAx>
        <c:axId val="3459528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964624"/>
        <c:crosses val="autoZero"/>
        <c:crossBetween val="midCat"/>
        <c:majorUnit val="2"/>
      </c:valAx>
      <c:valAx>
        <c:axId val="7396462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59528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6996176"/>
        <c:axId val="28003210"/>
      </c:scatterChart>
      <c:valAx>
        <c:axId val="869961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003210"/>
        <c:crosses val="autoZero"/>
        <c:crossBetween val="midCat"/>
        <c:majorUnit val="2"/>
        <c:minorUnit val="0.05"/>
      </c:valAx>
      <c:valAx>
        <c:axId val="2800321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99617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F63B4-6408-4B24-9CE1-E8D9540A1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A550AC-F6E1-47C9-BC14-3E134B34B0C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685E3-F528-417A-8F53-3465165300D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1C372E-0524-4A86-9309-66FACF02015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