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1524809"/>
        <c:axId val="25452891"/>
      </c:scatterChart>
      <c:valAx>
        <c:axId val="1152480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452891"/>
        <c:crosses val="autoZero"/>
        <c:crossBetween val="midCat"/>
        <c:majorUnit val="1"/>
      </c:valAx>
      <c:valAx>
        <c:axId val="25452891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52480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86704528"/>
        <c:axId val="32634124"/>
      </c:scatterChart>
      <c:valAx>
        <c:axId val="8670452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634124"/>
        <c:crosses val="autoZero"/>
        <c:crossBetween val="midCat"/>
        <c:majorUnit val="1"/>
      </c:valAx>
      <c:valAx>
        <c:axId val="3263412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70452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77716727"/>
        <c:axId val="66815645"/>
      </c:scatterChart>
      <c:valAx>
        <c:axId val="77716727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6815645"/>
        <c:crosses val="autoZero"/>
        <c:crossBetween val="midCat"/>
        <c:majorUnit val="2"/>
        <c:minorUnit val="1"/>
      </c:valAx>
      <c:valAx>
        <c:axId val="66815645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7716727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1137057"/>
        <c:axId val="27404581"/>
      </c:scatterChart>
      <c:valAx>
        <c:axId val="7113705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404581"/>
        <c:crosses val="autoZero"/>
        <c:crossBetween val="midCat"/>
        <c:majorUnit val="2"/>
        <c:minorUnit val="0.05"/>
      </c:valAx>
      <c:valAx>
        <c:axId val="2740458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13705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26223105"/>
        <c:axId val="33682385"/>
      </c:scatterChart>
      <c:valAx>
        <c:axId val="2622310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682385"/>
        <c:crosses val="autoZero"/>
        <c:crossBetween val="midCat"/>
        <c:majorUnit val="2"/>
        <c:minorUnit val="0.05"/>
      </c:valAx>
      <c:valAx>
        <c:axId val="3368238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22310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9150317"/>
        <c:axId val="17807749"/>
      </c:scatterChart>
      <c:valAx>
        <c:axId val="7915031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807749"/>
        <c:crosses val="autoZero"/>
        <c:crossBetween val="midCat"/>
        <c:majorUnit val="2"/>
        <c:minorUnit val="0.05"/>
      </c:valAx>
      <c:valAx>
        <c:axId val="1780774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15031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2652179"/>
        <c:axId val="32378831"/>
      </c:scatterChart>
      <c:valAx>
        <c:axId val="9265217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378831"/>
        <c:crosses val="autoZero"/>
        <c:crossBetween val="midCat"/>
        <c:majorUnit val="2"/>
      </c:valAx>
      <c:valAx>
        <c:axId val="3237883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65217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9109667"/>
        <c:axId val="87025597"/>
      </c:scatterChart>
      <c:valAx>
        <c:axId val="4910966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025597"/>
        <c:crosses val="autoZero"/>
        <c:crossBetween val="midCat"/>
        <c:majorUnit val="2"/>
      </c:valAx>
      <c:valAx>
        <c:axId val="8702559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10966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73127455"/>
        <c:axId val="54249688"/>
      </c:scatterChart>
      <c:valAx>
        <c:axId val="7312745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249688"/>
        <c:crosses val="autoZero"/>
        <c:crossBetween val="midCat"/>
        <c:majorUnit val="2"/>
        <c:minorUnit val="0.05"/>
      </c:valAx>
      <c:valAx>
        <c:axId val="5424968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12745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C767FE-9E0B-44CD-B36B-F979078D4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446E47-5F27-4993-A582-9079451FA306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DF1A39-140F-402D-9659-1A03FD943DA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1E34D7-F4DD-4DF0-8686-694F9BC61BE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