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3019364"/>
        <c:axId val="86846666"/>
      </c:scatterChart>
      <c:valAx>
        <c:axId val="9301936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846666"/>
        <c:crosses val="autoZero"/>
        <c:crossBetween val="midCat"/>
        <c:majorUnit val="1"/>
      </c:valAx>
      <c:valAx>
        <c:axId val="8684666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01936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3023613"/>
        <c:axId val="97726402"/>
      </c:scatterChart>
      <c:valAx>
        <c:axId val="7302361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726402"/>
        <c:crosses val="autoZero"/>
        <c:crossBetween val="midCat"/>
        <c:majorUnit val="1"/>
      </c:valAx>
      <c:valAx>
        <c:axId val="9772640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02361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4063036"/>
        <c:axId val="287359"/>
      </c:scatterChart>
      <c:valAx>
        <c:axId val="6406303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87359"/>
        <c:crosses val="autoZero"/>
        <c:crossBetween val="midCat"/>
        <c:majorUnit val="2"/>
        <c:minorUnit val="1"/>
      </c:valAx>
      <c:valAx>
        <c:axId val="28735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406303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5875017"/>
        <c:axId val="31318987"/>
      </c:scatterChart>
      <c:valAx>
        <c:axId val="5587501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318987"/>
        <c:crosses val="autoZero"/>
        <c:crossBetween val="midCat"/>
        <c:majorUnit val="2"/>
        <c:minorUnit val="0.05"/>
      </c:valAx>
      <c:valAx>
        <c:axId val="3131898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87501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4362447"/>
        <c:axId val="1689865"/>
      </c:scatterChart>
      <c:valAx>
        <c:axId val="743624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89865"/>
        <c:crosses val="autoZero"/>
        <c:crossBetween val="midCat"/>
        <c:majorUnit val="2"/>
        <c:minorUnit val="0.05"/>
      </c:valAx>
      <c:valAx>
        <c:axId val="168986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36244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9725810"/>
        <c:axId val="59645476"/>
      </c:scatterChart>
      <c:valAx>
        <c:axId val="797258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645476"/>
        <c:crosses val="autoZero"/>
        <c:crossBetween val="midCat"/>
        <c:majorUnit val="2"/>
        <c:minorUnit val="0.05"/>
      </c:valAx>
      <c:valAx>
        <c:axId val="5964547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72581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9333819"/>
        <c:axId val="87963968"/>
      </c:scatterChart>
      <c:valAx>
        <c:axId val="6933381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963968"/>
        <c:crosses val="autoZero"/>
        <c:crossBetween val="midCat"/>
        <c:majorUnit val="2"/>
      </c:valAx>
      <c:valAx>
        <c:axId val="8796396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33381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7171717"/>
        <c:axId val="25203350"/>
      </c:scatterChart>
      <c:valAx>
        <c:axId val="9717171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203350"/>
        <c:crosses val="autoZero"/>
        <c:crossBetween val="midCat"/>
        <c:majorUnit val="2"/>
      </c:valAx>
      <c:valAx>
        <c:axId val="2520335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17171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0780889"/>
        <c:axId val="72783099"/>
      </c:scatterChart>
      <c:valAx>
        <c:axId val="107808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783099"/>
        <c:crosses val="autoZero"/>
        <c:crossBetween val="midCat"/>
        <c:majorUnit val="2"/>
        <c:minorUnit val="0.05"/>
      </c:valAx>
      <c:valAx>
        <c:axId val="7278309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7808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BB8587-2499-4D78-BE97-2383B733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E0E0F-6FBE-4A4B-95C1-7F32A483B7A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8E68E5-44E7-4CB4-B693-D14DE107B78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96DD2B-B1F9-4DC6-90D6-965D6524480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