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1C7B-986C-4A1C-A380-8E28790A9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CB6E-9EB2-4DD0-8A56-09331D03B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E291-0ACD-4567-8A77-59D957A35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29BE-8A7A-41A9-B65F-6BEE1F6FA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64EF-E77F-4EC0-A026-FD96925B5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DA97-DB23-4E6C-BE72-76C77FDF9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7FBA-4DF4-414C-9D2C-6814B659C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61F6-497C-4B09-80E6-DBC1815D8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7F52-5668-4AAF-9346-4357D15B5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E0F1-2D70-4BBE-B1DC-6C14387A4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08FC-2CBB-439A-BC18-32C6216D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B808-9C9C-4E4E-8597-5E1568D7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690B4-5616-441D-8970-29B3AB5C439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BE4E1-F66D-4476-A82D-1B7753CECE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</a:rPr>
              <a:t>Čtverec kružítk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Tento trojúhelník je rovnoramenný, a proto výška půlí základn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Z Pythagorovy věty potom pro délku této výš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LN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platí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5837040" cy="4892400"/>
          </a:xfrm>
          <a:prstGeom prst="rect">
            <a:avLst/>
          </a:prstGeom>
          <a:ln w="0">
            <a:noFill/>
          </a:ln>
        </p:spPr>
      </p:pic>
      <p:sp>
        <p:nvSpPr>
          <p:cNvPr id="7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a to jsme potřebovali. Možný postup j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sou dány bo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vrcholy pravidelného šestiúhelníku vepsaného do kružnice o poloměr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 = │AB 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nad průměrem této kružnice vrchol rovnoramenného trojúhelníku s rameny dlouhými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│AB│∙√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délku jeho výšky k základně a vzdálenost mezi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jako poloměry dvou kružnic opsaných z bod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esp.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 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, a sestrojíme tak 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estrojíme např. na průsečíku kružnic se stře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 poloměr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Řešení najdete na další straně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6583320" cy="6116760"/>
          </a:xfrm>
          <a:prstGeom prst="rect">
            <a:avLst/>
          </a:prstGeom>
          <a:ln w="0">
            <a:noFill/>
          </a:ln>
        </p:spPr>
      </p:pic>
      <p:sp>
        <p:nvSpPr>
          <p:cNvPr id="78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Jsou dány body A a B. Sestrojte vrcholy C a D čtverce ABCD pouze s použitím kružítk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Zástupný symbol pro zápatí 3"/>
          <p:cNvSpPr/>
          <p:nvPr/>
        </p:nvSpPr>
        <p:spPr>
          <a:xfrm>
            <a:off x="642960" y="637704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Bookman Old Style"/>
              </a:rPr>
              <a:t>Mascheronské konstruk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Ital Lorenzo Mascheroni dokázal, že všechny konstrukce bodů, k jejichž sestrojení je třeba kružítka a pravítka lze sestrojit pouze kružítk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 to pracnější, zato delší post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dnu „mascheronskou“ konstrukci už znáte. Ktero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estrojte vrcholy pravidelného šestiúhelníku vepsaného do dané kružn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268360" y="1484280"/>
            <a:ext cx="4969080" cy="4549680"/>
          </a:xfrm>
          <a:prstGeom prst="rect">
            <a:avLst/>
          </a:prstGeom>
          <a:ln w="0">
            <a:noFill/>
          </a:ln>
        </p:spPr>
      </p:pic>
      <p:sp>
        <p:nvSpPr>
          <p:cNvPr id="5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Pokusíme se odvodit konstrukci vrcholů čtverce pomocí jeho vlastností a využije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i znalost sestrojení šestiúhelník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a všechny výpočty si vystačí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 Pythagorovou věto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ejdříve provedeme několik výpočt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řiřaďte délky a úhly k úsečkám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v obrazcích, je-li a =│AB │= │EF 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652320" y="1600200"/>
            <a:ext cx="783936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Řešen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563400" y="1600200"/>
            <a:ext cx="801540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ozor na chyb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147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a obrázku to vypadá, že velikost úseč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EI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(červená) je rovna 7mi základním dílkům rastru pozadí (stran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měří 4 dílky), ale ve skutečnosti je její délka rovn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√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3 =a ∙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1,73205080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995640" y="2637000"/>
            <a:ext cx="3735360" cy="3342960"/>
          </a:xfrm>
          <a:prstGeom prst="rect">
            <a:avLst/>
          </a:prstGeom>
          <a:ln w="0">
            <a:noFill/>
          </a:ln>
        </p:spPr>
      </p:pic>
      <p:sp>
        <p:nvSpPr>
          <p:cNvPr id="65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3467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yní se můžeme pustit do původní úloh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it vrcholy čtverce kružítkem znamená mít k dispozici dvě délky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Délka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e dána umístěním bodů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čtverce, zbývá tedy sestrojit úsečku o velikosti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následující trojúhelník, jehož velikosti stran můžeme přenést z pravidelného šestiúhelník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995640" y="404640"/>
            <a:ext cx="4802400" cy="5616720"/>
          </a:xfrm>
          <a:prstGeom prst="rect">
            <a:avLst/>
          </a:prstGeom>
          <a:ln w="0">
            <a:noFill/>
          </a:ln>
        </p:spPr>
      </p:pic>
      <p:sp>
        <p:nvSpPr>
          <p:cNvPr id="69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7:27:27Z</dcterms:created>
  <dc:creator>Mgr. David Hanzlíček</dc:creator>
  <dc:description>Dostupné z Metodického portálu www.rvp.cz, ISSN: 1802-4785, financovaného z ESF a státního rozpočtu ČR. Provozováno Výzkumným ústavem pedagogickým v Praze.</dc:description>
  <dc:language>en-US</dc:language>
  <cp:lastModifiedBy>Martin Klzo</cp:lastModifiedBy>
  <dcterms:modified xsi:type="dcterms:W3CDTF">2010-08-09T11:09:04Z</dcterms:modified>
  <cp:revision>14</cp:revision>
  <dc:subject/>
  <dc:title>Čtverec kružítkem</dc:title>
</cp:coreProperties>
</file>