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6437281"/>
        <c:axId val="22059218"/>
      </c:scatterChart>
      <c:valAx>
        <c:axId val="4643728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059218"/>
        <c:crosses val="autoZero"/>
        <c:crossBetween val="midCat"/>
        <c:majorUnit val="1"/>
      </c:valAx>
      <c:valAx>
        <c:axId val="2205921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43728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3263153"/>
        <c:axId val="3688716"/>
      </c:scatterChart>
      <c:valAx>
        <c:axId val="7326315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88716"/>
        <c:crosses val="autoZero"/>
        <c:crossBetween val="midCat"/>
        <c:majorUnit val="1"/>
      </c:valAx>
      <c:valAx>
        <c:axId val="368871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26315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4214370"/>
        <c:axId val="27388656"/>
      </c:scatterChart>
      <c:valAx>
        <c:axId val="9421437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7388656"/>
        <c:crosses val="autoZero"/>
        <c:crossBetween val="midCat"/>
        <c:majorUnit val="2"/>
        <c:minorUnit val="1"/>
      </c:valAx>
      <c:valAx>
        <c:axId val="2738865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421437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0733634"/>
        <c:axId val="14230520"/>
      </c:scatterChart>
      <c:valAx>
        <c:axId val="407336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230520"/>
        <c:crosses val="autoZero"/>
        <c:crossBetween val="midCat"/>
        <c:majorUnit val="2"/>
        <c:minorUnit val="0.05"/>
      </c:valAx>
      <c:valAx>
        <c:axId val="1423052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73363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14523735"/>
        <c:axId val="98966111"/>
      </c:scatterChart>
      <c:valAx>
        <c:axId val="1452373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966111"/>
        <c:crosses val="autoZero"/>
        <c:crossBetween val="midCat"/>
        <c:majorUnit val="2"/>
        <c:minorUnit val="0.05"/>
      </c:valAx>
      <c:valAx>
        <c:axId val="9896611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52373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3836775"/>
        <c:axId val="92465722"/>
      </c:scatterChart>
      <c:valAx>
        <c:axId val="9383677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465722"/>
        <c:crosses val="autoZero"/>
        <c:crossBetween val="midCat"/>
        <c:majorUnit val="2"/>
        <c:minorUnit val="0.05"/>
      </c:valAx>
      <c:valAx>
        <c:axId val="9246572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83677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0489954"/>
        <c:axId val="45229146"/>
      </c:scatterChart>
      <c:valAx>
        <c:axId val="8048995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229146"/>
        <c:crosses val="autoZero"/>
        <c:crossBetween val="midCat"/>
        <c:majorUnit val="2"/>
      </c:valAx>
      <c:valAx>
        <c:axId val="4522914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48995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492692"/>
        <c:axId val="61701183"/>
      </c:scatterChart>
      <c:valAx>
        <c:axId val="5549269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701183"/>
        <c:crosses val="autoZero"/>
        <c:crossBetween val="midCat"/>
        <c:majorUnit val="2"/>
      </c:valAx>
      <c:valAx>
        <c:axId val="6170118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49269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9181057"/>
        <c:axId val="45362198"/>
      </c:scatterChart>
      <c:valAx>
        <c:axId val="591810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362198"/>
        <c:crosses val="autoZero"/>
        <c:crossBetween val="midCat"/>
        <c:majorUnit val="2"/>
        <c:minorUnit val="0.05"/>
      </c:valAx>
      <c:valAx>
        <c:axId val="4536219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1810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1BEB4-0E40-4C1F-B4B0-E4E73160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A19A88-3FEC-4C50-95D1-A48FF492465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A47A52-9C1A-4001-B2DA-A398108288F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13EF54-B5CC-4E86-8FB8-7D65CB578E9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