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7013020"/>
        <c:axId val="6630103"/>
      </c:scatterChart>
      <c:valAx>
        <c:axId val="7701302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30103"/>
        <c:crosses val="autoZero"/>
        <c:crossBetween val="midCat"/>
        <c:majorUnit val="1"/>
      </c:valAx>
      <c:valAx>
        <c:axId val="663010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01302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5682232"/>
        <c:axId val="73301129"/>
      </c:scatterChart>
      <c:valAx>
        <c:axId val="2568223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01129"/>
        <c:crosses val="autoZero"/>
        <c:crossBetween val="midCat"/>
        <c:majorUnit val="1"/>
      </c:valAx>
      <c:valAx>
        <c:axId val="7330112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68223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774105"/>
        <c:axId val="51607924"/>
      </c:scatterChart>
      <c:valAx>
        <c:axId val="777410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1607924"/>
        <c:crosses val="autoZero"/>
        <c:crossBetween val="midCat"/>
        <c:majorUnit val="2"/>
        <c:minorUnit val="1"/>
      </c:valAx>
      <c:valAx>
        <c:axId val="5160792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77410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294800"/>
        <c:axId val="61482281"/>
      </c:scatterChart>
      <c:valAx>
        <c:axId val="129480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482281"/>
        <c:crosses val="autoZero"/>
        <c:crossBetween val="midCat"/>
        <c:majorUnit val="2"/>
        <c:minorUnit val="0.05"/>
      </c:valAx>
      <c:valAx>
        <c:axId val="614822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9480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1430538"/>
        <c:axId val="29668680"/>
      </c:scatterChart>
      <c:valAx>
        <c:axId val="414305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668680"/>
        <c:crosses val="autoZero"/>
        <c:crossBetween val="midCat"/>
        <c:majorUnit val="2"/>
        <c:minorUnit val="0.05"/>
      </c:valAx>
      <c:valAx>
        <c:axId val="2966868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305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9588491"/>
        <c:axId val="37026117"/>
      </c:scatterChart>
      <c:valAx>
        <c:axId val="495884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026117"/>
        <c:crosses val="autoZero"/>
        <c:crossBetween val="midCat"/>
        <c:majorUnit val="2"/>
        <c:minorUnit val="0.05"/>
      </c:valAx>
      <c:valAx>
        <c:axId val="3702611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58849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5957210"/>
        <c:axId val="15474669"/>
      </c:scatterChart>
      <c:valAx>
        <c:axId val="659572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474669"/>
        <c:crosses val="autoZero"/>
        <c:crossBetween val="midCat"/>
        <c:majorUnit val="2"/>
      </c:valAx>
      <c:valAx>
        <c:axId val="1547466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95721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6294167"/>
        <c:axId val="62037195"/>
      </c:scatterChart>
      <c:valAx>
        <c:axId val="162941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037195"/>
        <c:crosses val="autoZero"/>
        <c:crossBetween val="midCat"/>
        <c:majorUnit val="2"/>
      </c:valAx>
      <c:valAx>
        <c:axId val="6203719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29416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8691568"/>
        <c:axId val="61324783"/>
      </c:scatterChart>
      <c:valAx>
        <c:axId val="986915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324783"/>
        <c:crosses val="autoZero"/>
        <c:crossBetween val="midCat"/>
        <c:majorUnit val="2"/>
        <c:minorUnit val="0.05"/>
      </c:valAx>
      <c:valAx>
        <c:axId val="6132478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69156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2DF725-7A1E-480F-BA4A-58EC82C2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1D2C6-DF51-4677-93CB-2BA046E5704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96DFD1-2500-484D-9C55-C287C1A9AAF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697252-F3B8-4881-982D-1223B0D8B51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