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18543381"/>
        <c:axId val="31070830"/>
      </c:scatterChart>
      <c:valAx>
        <c:axId val="18543381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1070830"/>
        <c:crosses val="autoZero"/>
        <c:crossBetween val="midCat"/>
        <c:majorUnit val="1"/>
      </c:valAx>
      <c:valAx>
        <c:axId val="31070830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8543381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55657140"/>
        <c:axId val="14974396"/>
      </c:scatterChart>
      <c:valAx>
        <c:axId val="55657140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4974396"/>
        <c:crosses val="autoZero"/>
        <c:crossBetween val="midCat"/>
        <c:majorUnit val="1"/>
      </c:valAx>
      <c:valAx>
        <c:axId val="14974396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5657140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12511115"/>
        <c:axId val="59132820"/>
      </c:scatterChart>
      <c:valAx>
        <c:axId val="12511115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59132820"/>
        <c:crosses val="autoZero"/>
        <c:crossBetween val="midCat"/>
        <c:majorUnit val="2"/>
        <c:minorUnit val="1"/>
      </c:valAx>
      <c:valAx>
        <c:axId val="59132820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12511115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99690325"/>
        <c:axId val="12897352"/>
      </c:scatterChart>
      <c:valAx>
        <c:axId val="9969032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2897352"/>
        <c:crosses val="autoZero"/>
        <c:crossBetween val="midCat"/>
        <c:majorUnit val="2"/>
        <c:minorUnit val="0.05"/>
      </c:valAx>
      <c:valAx>
        <c:axId val="1289735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969032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20677626"/>
        <c:axId val="26682339"/>
      </c:scatterChart>
      <c:valAx>
        <c:axId val="2067762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6682339"/>
        <c:crosses val="autoZero"/>
        <c:crossBetween val="midCat"/>
        <c:majorUnit val="2"/>
        <c:minorUnit val="0.05"/>
      </c:valAx>
      <c:valAx>
        <c:axId val="2668233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067762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70464845"/>
        <c:axId val="54083061"/>
      </c:scatterChart>
      <c:valAx>
        <c:axId val="7046484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4083061"/>
        <c:crosses val="autoZero"/>
        <c:crossBetween val="midCat"/>
        <c:majorUnit val="2"/>
        <c:minorUnit val="0.05"/>
      </c:valAx>
      <c:valAx>
        <c:axId val="5408306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046484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4838241"/>
        <c:axId val="26475204"/>
      </c:scatterChart>
      <c:valAx>
        <c:axId val="8483824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6475204"/>
        <c:crosses val="autoZero"/>
        <c:crossBetween val="midCat"/>
        <c:majorUnit val="2"/>
      </c:valAx>
      <c:valAx>
        <c:axId val="26475204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4838241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3803092"/>
        <c:axId val="41053928"/>
      </c:scatterChart>
      <c:valAx>
        <c:axId val="5380309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1053928"/>
        <c:crosses val="autoZero"/>
        <c:crossBetween val="midCat"/>
        <c:majorUnit val="2"/>
      </c:valAx>
      <c:valAx>
        <c:axId val="41053928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3803092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52063750"/>
        <c:axId val="49167510"/>
      </c:scatterChart>
      <c:valAx>
        <c:axId val="5206375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9167510"/>
        <c:crosses val="autoZero"/>
        <c:crossBetween val="midCat"/>
        <c:majorUnit val="2"/>
        <c:minorUnit val="0.05"/>
      </c:valAx>
      <c:valAx>
        <c:axId val="4916751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206375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937958-3DB6-4385-AA2A-EEFC1E120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6B13A1-9820-4A55-9AB6-2D326735C54D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9CE76C-EDF1-4CBE-90F6-74474FB42A44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086687-026E-4435-B924-0A427D7079C1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