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8894554"/>
        <c:axId val="79327117"/>
      </c:scatterChart>
      <c:valAx>
        <c:axId val="78894554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9327117"/>
        <c:crosses val="autoZero"/>
        <c:crossBetween val="midCat"/>
        <c:majorUnit val="1"/>
      </c:valAx>
      <c:valAx>
        <c:axId val="79327117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894554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63311410"/>
        <c:axId val="68005471"/>
      </c:scatterChart>
      <c:valAx>
        <c:axId val="6331141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8005471"/>
        <c:crosses val="autoZero"/>
        <c:crossBetween val="midCat"/>
        <c:majorUnit val="1"/>
      </c:valAx>
      <c:valAx>
        <c:axId val="68005471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331141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42252416"/>
        <c:axId val="65105384"/>
      </c:scatterChart>
      <c:valAx>
        <c:axId val="42252416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5105384"/>
        <c:crosses val="autoZero"/>
        <c:crossBetween val="midCat"/>
        <c:majorUnit val="2"/>
        <c:minorUnit val="1"/>
      </c:valAx>
      <c:valAx>
        <c:axId val="65105384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42252416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63890913"/>
        <c:axId val="6809232"/>
      </c:scatterChart>
      <c:valAx>
        <c:axId val="6389091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809232"/>
        <c:crosses val="autoZero"/>
        <c:crossBetween val="midCat"/>
        <c:majorUnit val="2"/>
        <c:minorUnit val="0.05"/>
      </c:valAx>
      <c:valAx>
        <c:axId val="680923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389091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6948405"/>
        <c:axId val="75280122"/>
      </c:scatterChart>
      <c:valAx>
        <c:axId val="694840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280122"/>
        <c:crosses val="autoZero"/>
        <c:crossBetween val="midCat"/>
        <c:majorUnit val="2"/>
        <c:minorUnit val="0.05"/>
      </c:valAx>
      <c:valAx>
        <c:axId val="7528012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94840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56206594"/>
        <c:axId val="6683101"/>
      </c:scatterChart>
      <c:valAx>
        <c:axId val="5620659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683101"/>
        <c:crosses val="autoZero"/>
        <c:crossBetween val="midCat"/>
        <c:majorUnit val="2"/>
        <c:minorUnit val="0.05"/>
      </c:valAx>
      <c:valAx>
        <c:axId val="668310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20659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5238519"/>
        <c:axId val="97647220"/>
      </c:scatterChart>
      <c:valAx>
        <c:axId val="3523851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7647220"/>
        <c:crosses val="autoZero"/>
        <c:crossBetween val="midCat"/>
        <c:majorUnit val="2"/>
      </c:valAx>
      <c:valAx>
        <c:axId val="97647220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5238519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3286857"/>
        <c:axId val="13535123"/>
      </c:scatterChart>
      <c:valAx>
        <c:axId val="6328685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3535123"/>
        <c:crosses val="autoZero"/>
        <c:crossBetween val="midCat"/>
        <c:majorUnit val="2"/>
      </c:valAx>
      <c:valAx>
        <c:axId val="13535123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3286857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2721237"/>
        <c:axId val="82963181"/>
      </c:scatterChart>
      <c:valAx>
        <c:axId val="272123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2963181"/>
        <c:crosses val="autoZero"/>
        <c:crossBetween val="midCat"/>
        <c:majorUnit val="2"/>
        <c:minorUnit val="0.05"/>
      </c:valAx>
      <c:valAx>
        <c:axId val="8296318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72123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1E9738-DCBA-4784-A2C9-554F1032F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C8368B-BD75-403E-AD4F-F5F1F8F8ACD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791D2F-67C8-4EAA-909E-D62F14166971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4630C1-3618-435C-940E-E9F07D043BAF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