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5742116"/>
        <c:axId val="83451437"/>
      </c:scatterChart>
      <c:valAx>
        <c:axId val="2574211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451437"/>
        <c:crosses val="autoZero"/>
        <c:crossBetween val="midCat"/>
        <c:majorUnit val="1"/>
      </c:valAx>
      <c:valAx>
        <c:axId val="8345143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74211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6797610"/>
        <c:axId val="67533621"/>
      </c:scatterChart>
      <c:valAx>
        <c:axId val="3679761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533621"/>
        <c:crosses val="autoZero"/>
        <c:crossBetween val="midCat"/>
        <c:majorUnit val="1"/>
      </c:valAx>
      <c:valAx>
        <c:axId val="67533621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79761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49052752"/>
        <c:axId val="79006031"/>
      </c:scatterChart>
      <c:valAx>
        <c:axId val="4905275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9006031"/>
        <c:crosses val="autoZero"/>
        <c:crossBetween val="midCat"/>
        <c:majorUnit val="2"/>
        <c:minorUnit val="1"/>
      </c:valAx>
      <c:valAx>
        <c:axId val="7900603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905275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8926907"/>
        <c:axId val="44879685"/>
      </c:scatterChart>
      <c:valAx>
        <c:axId val="3892690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879685"/>
        <c:crosses val="autoZero"/>
        <c:crossBetween val="midCat"/>
        <c:majorUnit val="2"/>
        <c:minorUnit val="0.05"/>
      </c:valAx>
      <c:valAx>
        <c:axId val="4487968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92690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0707483"/>
        <c:axId val="23233175"/>
      </c:scatterChart>
      <c:valAx>
        <c:axId val="3070748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233175"/>
        <c:crosses val="autoZero"/>
        <c:crossBetween val="midCat"/>
        <c:majorUnit val="2"/>
        <c:minorUnit val="0.05"/>
      </c:valAx>
      <c:valAx>
        <c:axId val="2323317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70748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9284671"/>
        <c:axId val="18729683"/>
      </c:scatterChart>
      <c:valAx>
        <c:axId val="7928467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729683"/>
        <c:crosses val="autoZero"/>
        <c:crossBetween val="midCat"/>
        <c:majorUnit val="2"/>
        <c:minorUnit val="0.05"/>
      </c:valAx>
      <c:valAx>
        <c:axId val="1872968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28467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7801213"/>
        <c:axId val="30026252"/>
      </c:scatterChart>
      <c:valAx>
        <c:axId val="178012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026252"/>
        <c:crosses val="autoZero"/>
        <c:crossBetween val="midCat"/>
        <c:majorUnit val="2"/>
      </c:valAx>
      <c:valAx>
        <c:axId val="3002625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80121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7691030"/>
        <c:axId val="51077192"/>
      </c:scatterChart>
      <c:valAx>
        <c:axId val="876910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077192"/>
        <c:crosses val="autoZero"/>
        <c:crossBetween val="midCat"/>
        <c:majorUnit val="2"/>
      </c:valAx>
      <c:valAx>
        <c:axId val="5107719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69103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4535327"/>
        <c:axId val="27438580"/>
      </c:scatterChart>
      <c:valAx>
        <c:axId val="1453532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438580"/>
        <c:crosses val="autoZero"/>
        <c:crossBetween val="midCat"/>
        <c:majorUnit val="2"/>
        <c:minorUnit val="0.05"/>
      </c:valAx>
      <c:valAx>
        <c:axId val="2743858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53532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14F7B9-F4FD-49E9-861D-7CF0B628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E65BBD-A2A0-4B67-92FC-A439D583AFF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71615F-D286-4E82-91A7-A3953AB495A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EA4254-ECD5-41EF-9349-BE0EDD7C5C5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