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0625040"/>
        <c:axId val="18540861"/>
      </c:scatterChart>
      <c:valAx>
        <c:axId val="5062504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540861"/>
        <c:crosses val="autoZero"/>
        <c:crossBetween val="midCat"/>
        <c:majorUnit val="1"/>
      </c:valAx>
      <c:valAx>
        <c:axId val="1854086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062504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9900521"/>
        <c:axId val="5344374"/>
      </c:scatterChart>
      <c:valAx>
        <c:axId val="4990052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44374"/>
        <c:crosses val="autoZero"/>
        <c:crossBetween val="midCat"/>
        <c:majorUnit val="1"/>
      </c:valAx>
      <c:valAx>
        <c:axId val="534437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90052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6114818"/>
        <c:axId val="2805463"/>
      </c:scatterChart>
      <c:valAx>
        <c:axId val="96114818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805463"/>
        <c:crosses val="autoZero"/>
        <c:crossBetween val="midCat"/>
        <c:majorUnit val="2"/>
        <c:minorUnit val="1"/>
      </c:valAx>
      <c:valAx>
        <c:axId val="280546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6114818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2995388"/>
        <c:axId val="88875222"/>
      </c:scatterChart>
      <c:valAx>
        <c:axId val="229953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875222"/>
        <c:crosses val="autoZero"/>
        <c:crossBetween val="midCat"/>
        <c:majorUnit val="2"/>
        <c:minorUnit val="0.05"/>
      </c:valAx>
      <c:valAx>
        <c:axId val="8887522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99538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89527610"/>
        <c:axId val="67911173"/>
      </c:scatterChart>
      <c:valAx>
        <c:axId val="8952761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911173"/>
        <c:crosses val="autoZero"/>
        <c:crossBetween val="midCat"/>
        <c:majorUnit val="2"/>
        <c:minorUnit val="0.05"/>
      </c:valAx>
      <c:valAx>
        <c:axId val="6791117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52761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483088"/>
        <c:axId val="48975810"/>
      </c:scatterChart>
      <c:valAx>
        <c:axId val="548308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975810"/>
        <c:crosses val="autoZero"/>
        <c:crossBetween val="midCat"/>
        <c:majorUnit val="2"/>
        <c:minorUnit val="0.05"/>
      </c:valAx>
      <c:valAx>
        <c:axId val="4897581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8308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4654831"/>
        <c:axId val="5589479"/>
      </c:scatterChart>
      <c:valAx>
        <c:axId val="5465483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89479"/>
        <c:crosses val="autoZero"/>
        <c:crossBetween val="midCat"/>
        <c:majorUnit val="2"/>
      </c:valAx>
      <c:valAx>
        <c:axId val="558947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65483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453671"/>
        <c:axId val="85132649"/>
      </c:scatterChart>
      <c:valAx>
        <c:axId val="245367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132649"/>
        <c:crosses val="autoZero"/>
        <c:crossBetween val="midCat"/>
        <c:majorUnit val="2"/>
      </c:valAx>
      <c:valAx>
        <c:axId val="8513264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5367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2543920"/>
        <c:axId val="70064316"/>
      </c:scatterChart>
      <c:valAx>
        <c:axId val="125439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064316"/>
        <c:crosses val="autoZero"/>
        <c:crossBetween val="midCat"/>
        <c:majorUnit val="2"/>
        <c:minorUnit val="0.05"/>
      </c:valAx>
      <c:valAx>
        <c:axId val="7006431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54392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9A342E-9923-49C5-AF9A-4A069E0AD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954D92-F22D-4597-9D34-B40A7376C6E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624D57-B467-4823-B0C3-CB3082A39FD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17F805-3788-45DA-88AB-FEADFA4BE898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