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8.png" ContentType="image/png"/>
  <Override PartName="/ppt/media/image7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3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CB88-D93A-43C1-9A2F-99A8220EC8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97E2-ECCA-4031-86B1-D488878D6D73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93A-9FA3-4B8F-9F78-84F4F2AB4528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C640-EE0E-480E-8F23-6BA894353B3F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B549-832E-438F-8F50-7E36269ED892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2A0-D5FA-4A65-88EA-BC2BF85C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FDDD-B883-47A7-AD25-22A68E1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0188-7AD7-48D8-8FA5-A64F1F5B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15C-F9CB-43DC-9E11-26A9A4E1A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08E0-3F72-4B8F-8709-A5A755D7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E668-373F-42BC-B477-FAC3081F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C968-2A32-4B0B-89C1-B174DA2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6A28-F61B-43E1-8F5A-133064BA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B9B-7A23-4D90-A23F-A98528BF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EED9-0DFC-410D-A5E1-B64DCD98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4B7E-5A63-4543-BEE0-6FF33FE2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7D9-7CC3-44EC-8182-FE5E5D7B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811E-C846-4357-A1B0-B5384601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083B-5123-4F7A-9DD9-DD1148B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5DC8-FDEE-4509-BC5C-626890AF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F39A-122C-4433-BEF0-2CE179AA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E74-0587-475A-BDA6-4D2EC1AD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091-EFD6-4626-B092-E62FD418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2FF-A3C0-49AF-AAA6-C95B1366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4479-C46A-4B85-8B96-77F860DB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CAD-473C-4329-B12A-66690D99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48B-6B12-45A0-AC26-BF4A1E3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D0A-0E6A-4681-B858-7B276D68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308-49CB-4CF3-8818-BF3BFF8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447F-6D29-43BD-A125-5ECEE36081E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C03E-68DE-447C-9B59-0AFB676D1854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opousek@mail.muni.cz" TargetMode="External"/><Relationship Id="rId2" Type="http://schemas.openxmlformats.org/officeDocument/2006/relationships/hyperlink" Target="mailto:sopousek@mail.muni.cz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iazsWW3tfkAhUMblAKHYLCDWcQjRx6BAgBEAQ&amp;url=https%3A%2F%2Fwww.sciencedirect.com%2Fscience%2Farticle%2Fpii%2FS0364591616302383&amp;psig=AOvVaw2hJUZQfkq0iSPgXJV07xIS&amp;ust=1568805506530172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is.muni.cz/auth/predmety/uplny_vypis.pl?fakulta=1431;obdobi=4443;kod=C6730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books.bfwpub.com/pchemoup.ph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is.muni.cz/auth/publication/156266" TargetMode="External"/><Relationship Id="rId2" Type="http://schemas.openxmlformats.org/officeDocument/2006/relationships/hyperlink" Target="https://is.muni.cz/auth/publication/173835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JqJez1tfkAhVQIVAKHZtmDR4QjRx6BAgBEAQ&amp;url=https%3A%2F%2Fwww.pinterest.com%2Fpin%2F414894184402859522%2F&amp;psig=AOvVaw2bMv8W_y5ztogEHRLZRYHD&amp;ust=1568803429700853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2ahUKEwi5yvy_1dfkAhUGKFAKHZwJCCYQjRx6BAgBEAQ&amp;url=http%3A%2F%2Fsv.rkriz.net%2Fclasses%2FMSE2094_NoteBook%2F96ClassProj%2Fexperimental%2Fternary2.html&amp;psig=AOvVaw3j33MDCwQPbR1EfpPY0R5V&amp;ust=1568803187446169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br>
              <a:rPr sz="4400"/>
            </a:b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(Phase Equilibria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J.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Kancelář: UKB, A12, M23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l: 549497138, E-mail: </a:t>
            </a:r>
            <a:r>
              <a:rPr b="0" lang="cs-CZ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opousek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@mail.muni.cz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Nadpis 1"/>
          <p:cNvSpPr/>
          <p:nvPr/>
        </p:nvSpPr>
        <p:spPr>
          <a:xfrm>
            <a:off x="193680" y="195120"/>
            <a:ext cx="86263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Vybrané projekty na UCh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ovéPole 8"/>
          <p:cNvSpPr/>
          <p:nvPr/>
        </p:nvSpPr>
        <p:spPr>
          <a:xfrm>
            <a:off x="5508720" y="1644480"/>
            <a:ext cx="3095640" cy="155412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2844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rmal and phase stability of advanced thermoelectric materials 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P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 Bro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ž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).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Focused also on nanostructured thermoelectric materials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2" descr="https://www.researchgate.net/profile/Nathan_Newman/publication/268330588/figure/fig2/AS:295404747935745@1447441388439/Figure-13-Schematic-of-thermoelectric-refrigeration-left-power-generation-and-power.png"/>
          <p:cNvPicPr/>
          <p:nvPr/>
        </p:nvPicPr>
        <p:blipFill>
          <a:blip r:embed="rId1"/>
          <a:stretch/>
        </p:blipFill>
        <p:spPr>
          <a:xfrm>
            <a:off x="200160" y="1596960"/>
            <a:ext cx="4948200" cy="3127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http://ars.els-cdn.com/content/image/1-s2.0-S0196890415008055-fx1.jpg"/>
          <p:cNvPicPr/>
          <p:nvPr/>
        </p:nvPicPr>
        <p:blipFill>
          <a:blip r:embed="rId2"/>
          <a:stretch/>
        </p:blipFill>
        <p:spPr>
          <a:xfrm>
            <a:off x="4057560" y="47242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0160" y="5695920"/>
            <a:ext cx="33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http://thermoelectrics.matsci.northwestern.edu/thermoelectrics/nanomaterial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bdélník 1"/>
          <p:cNvSpPr/>
          <p:nvPr/>
        </p:nvSpPr>
        <p:spPr>
          <a:xfrm>
            <a:off x="324000" y="100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Nanostrukturovaná termoelektrik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1"/>
          <p:cNvSpPr/>
          <p:nvPr/>
        </p:nvSpPr>
        <p:spPr>
          <a:xfrm>
            <a:off x="225360" y="3762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tudium vlastností nanočástic v závislosti na jejich velikosti (Pinka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ovéPole 7"/>
          <p:cNvSpPr/>
          <p:nvPr/>
        </p:nvSpPr>
        <p:spPr>
          <a:xfrm>
            <a:off x="206280" y="1711440"/>
            <a:ext cx="4267440" cy="1310760"/>
          </a:xfrm>
          <a:prstGeom prst="rect">
            <a:avLst/>
          </a:prstGeom>
          <a:solidFill>
            <a:srgbClr val="9cc2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2017-2019, GA17-15405S: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dvanced experimental and theoretical approaches to phase diagrams of nanoalloys including the influence of particle size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Investigator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J. Pinkas)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Picture 8" descr="Výsledek obrázku pro nanoparticle size phase diagr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5360" y="3143160"/>
            <a:ext cx="4273560" cy="345456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4705200" y="6037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imes New Roman"/>
              </a:rPr>
              <a:t>http://www.scielo.br/scielo.php?pid=S0001-37652018000200719&amp;script=sci_art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12" descr="Výsledek obrázku pro nanoparticle size phase diagram"/>
          <p:cNvPicPr/>
          <p:nvPr/>
        </p:nvPicPr>
        <p:blipFill>
          <a:blip r:embed="rId3"/>
          <a:stretch/>
        </p:blipFill>
        <p:spPr>
          <a:xfrm>
            <a:off x="5405400" y="1403280"/>
            <a:ext cx="31719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Syntéza a vlastnosti nanočástic a nanostrukturovaných materiálů (Sopoušek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2" descr="Výsledek obrázku pro nanoparticle synthesis"/>
          <p:cNvPicPr/>
          <p:nvPr/>
        </p:nvPicPr>
        <p:blipFill>
          <a:blip r:embed="rId1"/>
          <a:stretch/>
        </p:blipFill>
        <p:spPr>
          <a:xfrm>
            <a:off x="324000" y="1484280"/>
            <a:ext cx="4286160" cy="177156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2"/>
          <p:cNvSpPr/>
          <p:nvPr/>
        </p:nvSpPr>
        <p:spPr>
          <a:xfrm>
            <a:off x="536400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tch and continual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168560" y="3500280"/>
            <a:ext cx="68817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49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d4d4d"/>
                </a:solidFill>
                <a:latin typeface="Arial"/>
              </a:rPr>
              <a:t>Upřesněný plán přednášek PS 2019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143000"/>
          <a:ext cx="8382240" cy="4849920"/>
        </p:xfrm>
        <a:graphic>
          <a:graphicData uri="http://schemas.openxmlformats.org/drawingml/2006/table">
            <a:tbl>
              <a:tblPr/>
              <a:tblGrid>
                <a:gridCol w="914400"/>
                <a:gridCol w="2971800"/>
                <a:gridCol w="762120"/>
                <a:gridCol w="3733920"/>
              </a:tblGrid>
              <a:tr h="49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 (det. viz anotace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ýde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Úvod (exkurse po UKB, nebo VUT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álné rovnováhy (destilace, extrakce, oceli, pájky bez olova, …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Základy Termodynamiky, opakování fyzikální chemi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ýpočty fázových diagramů (Metoda CALPHAD, ThermoCalc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e a materiál, základní pravidla. Popis rovnovážných stavů, podmínka fázové rovnováhy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transformace (poruchy krystalové mříže, nukleace, kinetika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ázové diagramy, výpočty, konstrukce použití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chanismy difúze, mobilita, TD+Kin faktor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perimentální metody sledování FR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Kinetika reálných soustav technické materiály, svary ocelí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kurse (na AVČR UFM)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.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ouvislosti mezi fáz. a fyz.-mech vlastnostmi reál. soust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uvisející přednáš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324000" y="765000"/>
            <a:ext cx="8459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c,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335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částice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PS, Sopoušek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gr. Studium (materiálová orientac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675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eriálová chemie kov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Brož, jaro 202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5303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modelování pevných látek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podzim 2019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88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anochemistry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8870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yntéza a analýza nových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S, Pinkas, Brož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oktorské stud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C8965 Rovnovážné stavy a fázové transformace materiálů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Sopoušek)</a:t>
            </a:r>
            <a:r>
              <a:rPr b="1" lang="pt-BR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C9135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kročilé fyzikálně-chemické metody studia materiálů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(jaro 2020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4d4d4d"/>
                </a:solidFill>
                <a:uFillTx/>
                <a:latin typeface="Arial Black"/>
              </a:rPr>
              <a:t>Oblasti praktického využití výsledkù studia fázových rovnováh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Obdélník 2"/>
          <p:cNvSpPr/>
          <p:nvPr/>
        </p:nvSpPr>
        <p:spPr>
          <a:xfrm>
            <a:off x="179280" y="1052640"/>
            <a:ext cx="86407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 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ymezující podmínky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ažení termodynamické rovnováh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vhodný model popisu termodynamických vlastností fáz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termodynamických dat k popisu soustavy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ostupnost experimentálních fázových dat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fázov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talurgie (optimalizace tepelného zpracování,  stabilita materiálù p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i dlouhodobé tepelné expozici,  sva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vání slitin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ovrchové úpravy materiálù (nauhlièování, nadusièování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Geologie a Mineralogie (pøedpovídání proces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ů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, 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Organická chemie (optimalizace chemických výrob, extrakce, separace plastù, ...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Chemie oxidù (supravodièe, chemie silikátù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redikce fázových vlastností  materiálu (pevnost , tvrdost, odolnost proti k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ř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hkému lomu,..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Plánování experimentù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Výpo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č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y chemických rovnová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Nízkoteplotní plasma, posuzování možných produktù chemických reakcí, ..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Osnova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Info z informačního systému M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áce s interaktivní osnovou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ylabus přednášky viz I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tudijní materiály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Časový plán přednáše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udijní materiál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Učebn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Atkins' physical chemistry</a:t>
            </a: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 / Peter Atkins, Julio de Paula.. -- 8th ed.. -- Oxford : Oxford University Press, 2006.. -- xxx, 1064 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ebooks.bfwpub.com/pchemoup.ph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(user: knihovna, heslo: uzivatel1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Komentář k fázovým rovnováhá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Literatura (knihy, časopisy, konference, programy, komentář k HP, interne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ahraniční literatur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TextovéPole 2"/>
          <p:cNvSpPr/>
          <p:nvPr/>
        </p:nvSpPr>
        <p:spPr>
          <a:xfrm>
            <a:off x="431640" y="981000"/>
            <a:ext cx="828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PORTER, David A. Phase Transfformations in Metal and Alloys. New York: Van Nostrand Reinhol, 1981. 445 s. ISBN 0-442-30439-0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SAUNDERS, Nigel a Peter A. MIODOWNIK. </a:t>
            </a:r>
            <a:r>
              <a:rPr b="0" i="1" lang="cs-CZ" sz="2000" spc="-1" strike="noStrike">
                <a:solidFill>
                  <a:srgbClr val="000066"/>
                </a:solidFill>
                <a:latin typeface="Times New Roman"/>
              </a:rPr>
              <a:t>Calphad :calculation of phase diagrams : a comprehensive guide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. Oxford: Pergamon, 1998. xvi, 479 s. ISBN 0-08-042129-6.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info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Atlasy fázových diagramů (knihy a www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Mats Hillert: Phase Equilibria, Phase Diagrams and Phase Transformations (Their Thermodynamic Basis), 2nd Edition, ISBN: 978052185351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Picture 2" descr="http://assets.cambridge.org/97805215/65844/cover/9780521565844.jpg"/>
          <p:cNvPicPr/>
          <p:nvPr/>
        </p:nvPicPr>
        <p:blipFill>
          <a:blip r:embed="rId3"/>
          <a:stretch/>
        </p:blipFill>
        <p:spPr>
          <a:xfrm>
            <a:off x="4427640" y="3936960"/>
            <a:ext cx="1714320" cy="2228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Výsledek obrázku pro Hillert Phase equilibria transformations Diagrams"/>
          <p:cNvPicPr/>
          <p:nvPr/>
        </p:nvPicPr>
        <p:blipFill>
          <a:blip r:embed="rId4"/>
          <a:stretch/>
        </p:blipFill>
        <p:spPr>
          <a:xfrm>
            <a:off x="2484360" y="393696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http://ecx.images-amazon.com/images/I/51MKesOklQL._SX326_BO1,204,203,200_.jpg"/>
          <p:cNvPicPr/>
          <p:nvPr/>
        </p:nvPicPr>
        <p:blipFill>
          <a:blip r:embed="rId5"/>
          <a:stretch/>
        </p:blipFill>
        <p:spPr>
          <a:xfrm>
            <a:off x="431640" y="3830760"/>
            <a:ext cx="1703520" cy="2587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Binary Alloy Phase Diagrams [Hardcover]"/>
          <p:cNvPicPr/>
          <p:nvPr/>
        </p:nvPicPr>
        <p:blipFill>
          <a:blip r:embed="rId6"/>
          <a:stretch/>
        </p:blipFill>
        <p:spPr>
          <a:xfrm>
            <a:off x="6289560" y="3754440"/>
            <a:ext cx="27082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bdélník 1"/>
          <p:cNvSpPr/>
          <p:nvPr/>
        </p:nvSpPr>
        <p:spPr>
          <a:xfrm>
            <a:off x="404640" y="1484280"/>
            <a:ext cx="7912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erekvizita pro zkoušku: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- presentace cca 10min (použití 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Vlastní zkoušk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čtení fázových diagramů (z odborných článků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odpovědi na vylosované otázky (temata viz sylabus)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Obdélník 3"/>
          <p:cNvSpPr/>
          <p:nvPr/>
        </p:nvSpPr>
        <p:spPr>
          <a:xfrm>
            <a:off x="1617840" y="591840"/>
            <a:ext cx="50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věrečné hodnocení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345456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Čtení fázových diagramů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Eutectic is my friend. Article I need for campfire pottery, and everything else ceramic. ternary-diagram-large"/>
          <p:cNvPicPr/>
          <p:nvPr/>
        </p:nvPicPr>
        <p:blipFill>
          <a:blip r:embed="rId1"/>
          <a:stretch/>
        </p:blipFill>
        <p:spPr>
          <a:xfrm>
            <a:off x="4211640" y="189000"/>
            <a:ext cx="3871800" cy="655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Iron/Carbon/Steel phase diagram"/>
          <p:cNvPicPr/>
          <p:nvPr/>
        </p:nvPicPr>
        <p:blipFill>
          <a:blip r:embed="rId2"/>
          <a:stretch/>
        </p:blipFill>
        <p:spPr>
          <a:xfrm>
            <a:off x="250920" y="2637000"/>
            <a:ext cx="38894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7400" y="250920"/>
            <a:ext cx="77724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Fe-C phase diagram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Výsledek obrázku pro phase diagram Fe 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5560"/>
            <a:ext cx="9144000" cy="57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D nanočásti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https://www.mpq.univ-paris-diderot.fr/IMG/jpg/Figure_generale.jpg?1051/c5300bbfec17960fa6628d855136ce2fda1d4607"/>
          <p:cNvPicPr/>
          <p:nvPr/>
        </p:nvPicPr>
        <p:blipFill>
          <a:blip r:embed="rId1"/>
          <a:stretch/>
        </p:blipFill>
        <p:spPr>
          <a:xfrm>
            <a:off x="250920" y="1558800"/>
            <a:ext cx="4686120" cy="49658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5292720" y="5351400"/>
            <a:ext cx="341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https://www.mpq.univ-paris-diderot.fr/Size-and-Shape-of-magnetic-nanoparticles-influence-their-phase-diagram?lang=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3"/>
          <p:cNvSpPr/>
          <p:nvPr/>
        </p:nvSpPr>
        <p:spPr>
          <a:xfrm>
            <a:off x="5292720" y="1552680"/>
            <a:ext cx="34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ze and Shape of magnetic nanoparticles influence their phase diagram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 (Co-P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1240"/>
            <a:ext cx="777240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ískání dovednosti používat  fázové diagramy </a:t>
            </a:r>
            <a:br>
              <a:rPr sz="3200"/>
            </a:br>
            <a:r>
              <a:rPr b="0" lang="cs-CZ" sz="1800" spc="-1" strike="noStrike">
                <a:solidFill>
                  <a:srgbClr val="4d4d4d"/>
                </a:solidFill>
                <a:latin typeface="Arial Black"/>
              </a:rPr>
              <a:t>(Např. : odhad vlastností materiálu z fázového diagramu)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2" descr="Výsledek obrázku pro phase diagram Fe Cr N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1989000"/>
            <a:ext cx="4400640" cy="4030920"/>
          </a:xfrm>
          <a:prstGeom prst="rect">
            <a:avLst/>
          </a:prstGeom>
          <a:ln w="0">
            <a:noFill/>
          </a:ln>
        </p:spPr>
      </p:pic>
      <p:sp>
        <p:nvSpPr>
          <p:cNvPr id="173" name="Obdélník 1"/>
          <p:cNvSpPr/>
          <p:nvPr/>
        </p:nvSpPr>
        <p:spPr>
          <a:xfrm>
            <a:off x="1548720" y="623736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ázový diagram Fe-Cr-Ni  (design nerezové ocel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ucitel</cp:lastModifiedBy>
  <dcterms:modified xsi:type="dcterms:W3CDTF">2019-09-17T12:56:29Z</dcterms:modified>
  <cp:revision>48</cp:revision>
  <dc:subject/>
  <dc:title>C6730 Fázové rovnováhy</dc:title>
</cp:coreProperties>
</file>