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1999-FB8E-43C4-BD9F-DDF3F907B8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4E99-6215-4733-9A3C-A8290D50AA3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FC43-8EA4-40A6-8BA7-A977CFCDBDD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E9F-56C9-4FCD-B43B-A502AEA735B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559A-3EB3-4389-816D-255F5B2B53BC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CDF-EC2C-4BBD-A08B-2199D40A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FE6-F2C6-44FD-97AF-21C7C04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B04-FF90-4374-9FC2-A4F54F72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17F-EF68-4113-94AA-54B4B291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41EE-9714-4096-BBC4-7770DE7D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A7EC-852C-4BB1-BCA5-2817B7D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172C-61D9-45AF-8BA1-CE79B28F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4CB7-D392-4208-8D45-3689A6E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0B1E-0CD5-4836-A3BF-58512774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FAD5-2FB9-4D87-BB03-063B14C0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1C7E-1FE4-4925-9E4D-2B2B547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C2C-BA08-4FCC-9EE9-56B068D8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5BF-5035-4BB4-B16C-30D466B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3D55-B99C-44D7-B552-590D4BAB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B4A3-AC0C-422C-8D36-53400954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71EB-730C-49A1-A33B-C801A72B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5C89-9038-42FD-8564-331B083B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106-835C-4078-B056-083AB746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568-F4B9-45C2-A8F9-47636A51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F1C-AD4E-4D36-B09F-F57783A5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983-096C-4C7A-A474-2E53F942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924-3679-4F8C-83AE-EC978B3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889-9021-45BC-8228-40FFB600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A3B-CCF5-47FC-A793-94D1C61F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E135-93DA-4F9B-8359-D4DF15BEBB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ED31-51FB-4F07-86C4-FCD04231841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pousek@mail.muni.cz" TargetMode="External"/><Relationship Id="rId2" Type="http://schemas.openxmlformats.org/officeDocument/2006/relationships/hyperlink" Target="mailto:sopousek@mail.muni.cz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iazsWW3tfkAhUMblAKHYLCDWcQjRx6BAgBEAQ&amp;url=https%3A%2F%2Fwww.sciencedirect.com%2Fscience%2Farticle%2Fpii%2FS0364591616302383&amp;psig=AOvVaw2hJUZQfkq0iSPgXJV07xIS&amp;ust=1568805506530172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4443;kod=C6730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ooks.bfwpub.com/pchemoup.ph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.muni.cz/auth/publication/156266" TargetMode="External"/><Relationship Id="rId2" Type="http://schemas.openxmlformats.org/officeDocument/2006/relationships/hyperlink" Target="https://is.muni.cz/auth/publication/173835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2ahUKEwi5yvy_1dfkAhUGKFAKHZwJCCYQjRx6BAgBEAQ&amp;url=http%3A%2F%2Fsv.rkriz.net%2Fclasses%2FMSE2094_NoteBook%2F96ClassProj%2Fexperimental%2Fternary2.html&amp;psig=AOvVaw3j33MDCwQPbR1EfpPY0R5V&amp;ust=1568803187446169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Phase Equilibria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J.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ancelář: UKB, A12, M2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l: 549497138, E-mail: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opousek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mail.muni.c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Nadpis 1"/>
          <p:cNvSpPr/>
          <p:nvPr/>
        </p:nvSpPr>
        <p:spPr>
          <a:xfrm>
            <a:off x="193680" y="195120"/>
            <a:ext cx="86263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Vybrané projekty na UCh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ovéPole 8"/>
          <p:cNvSpPr/>
          <p:nvPr/>
        </p:nvSpPr>
        <p:spPr>
          <a:xfrm>
            <a:off x="5508720" y="1644480"/>
            <a:ext cx="3095640" cy="155412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2844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rmal and phase stability of advanced thermoelectric materials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P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 Bro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ž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Focused also on nanostructured thermoelectric materials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2" descr="https://www.researchgate.net/profile/Nathan_Newman/publication/268330588/figure/fig2/AS:295404747935745@1447441388439/Figure-13-Schematic-of-thermoelectric-refrigeration-left-power-generation-and-power.png"/>
          <p:cNvPicPr/>
          <p:nvPr/>
        </p:nvPicPr>
        <p:blipFill>
          <a:blip r:embed="rId1"/>
          <a:stretch/>
        </p:blipFill>
        <p:spPr>
          <a:xfrm>
            <a:off x="200160" y="1596960"/>
            <a:ext cx="4948200" cy="3127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ars.els-cdn.com/content/image/1-s2.0-S0196890415008055-fx1.jpg"/>
          <p:cNvPicPr/>
          <p:nvPr/>
        </p:nvPicPr>
        <p:blipFill>
          <a:blip r:embed="rId2"/>
          <a:stretch/>
        </p:blipFill>
        <p:spPr>
          <a:xfrm>
            <a:off x="4057560" y="47242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0160" y="5695920"/>
            <a:ext cx="33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http://thermoelectrics.matsci.northwestern.edu/thermoelectrics/nanomaterial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bdélník 1"/>
          <p:cNvSpPr/>
          <p:nvPr/>
        </p:nvSpPr>
        <p:spPr>
          <a:xfrm>
            <a:off x="324000" y="100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anostrukturovaná termoelektrik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1"/>
          <p:cNvSpPr/>
          <p:nvPr/>
        </p:nvSpPr>
        <p:spPr>
          <a:xfrm>
            <a:off x="225360" y="3762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tudium vlastností nanočástic v závislosti na jejich velikosti (Pinka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ovéPole 7"/>
          <p:cNvSpPr/>
          <p:nvPr/>
        </p:nvSpPr>
        <p:spPr>
          <a:xfrm>
            <a:off x="206280" y="1711440"/>
            <a:ext cx="4267440" cy="131076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5405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dvanced experimental and theoretical approaches to phase diagrams of nanoalloys including the influence of particle size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. Pinkas)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8" descr="Výsledek obrázku pro nanoparticle size phas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360" y="3143160"/>
            <a:ext cx="4273560" cy="34545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705200" y="603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ttp://www.scielo.br/scielo.php?pid=S0001-37652018000200719&amp;script=sci_art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12" descr="Výsledek obrázku pro nanoparticle size phase diagram"/>
          <p:cNvPicPr/>
          <p:nvPr/>
        </p:nvPicPr>
        <p:blipFill>
          <a:blip r:embed="rId3"/>
          <a:stretch/>
        </p:blipFill>
        <p:spPr>
          <a:xfrm>
            <a:off x="5405400" y="1403280"/>
            <a:ext cx="3171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yntéza a vlastnosti nanočástic a nanostrukturovaných materiálů (Sopoušek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2" descr="Výsledek obrázku pro nanoparticle synthesis"/>
          <p:cNvPicPr/>
          <p:nvPr/>
        </p:nvPicPr>
        <p:blipFill>
          <a:blip r:embed="rId1"/>
          <a:stretch/>
        </p:blipFill>
        <p:spPr>
          <a:xfrm>
            <a:off x="324000" y="1484280"/>
            <a:ext cx="428616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536400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tch and continual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168560" y="3500280"/>
            <a:ext cx="68817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"/>
              </a:rPr>
              <a:t>Upřesněný plán přednášek PS 2019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143000"/>
          <a:ext cx="8382240" cy="484992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 (exkurse po UKB, nebo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(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uvisející přednáš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324000" y="765000"/>
            <a:ext cx="84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c,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335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částice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PS, Sopouše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gr. Studium (materiálová orientac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75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eriálová chemie kov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Brož, jaro 202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5303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modelování pevných látek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podzim 2019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88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chemistry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7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yntéza a analýza nových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, Brož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ktorské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8965 Rovnovážné stavy a fázové transformace materiálů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Sopoušek)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9135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fyzikálně-chemické metody studia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aro 2020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d4d4d"/>
                </a:solidFill>
                <a:uFillTx/>
                <a:latin typeface="Arial Black"/>
              </a:rPr>
              <a:t>Oblasti praktického využití výsledkù studia fázových rovnováh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Obdélník 2"/>
          <p:cNvSpPr/>
          <p:nvPr/>
        </p:nvSpPr>
        <p:spPr>
          <a:xfrm>
            <a:off x="179280" y="1052640"/>
            <a:ext cx="864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ymezující podmínk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ažení termodynamické rovnováh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vhodný model popisu termodynamických vlastností fáz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termodynamických dat k popisu soustav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experimentálních fázových dat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fázov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talurgie (optimalizace tepelného zpracování,  stabilita materiálù p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i dlouhodobé tepelné expozici,  sva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vání slitin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ovrchové úpravy materiálù (nauhlièování, nadusièování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Geologie a Mineralogie (pøedpovídání proces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rganická chemie (optimalizace chemických výrob, extrakce, separace plastù, ...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Chemie oxidù (supravodièe, chemie silikátù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redikce fázových vlastností  materiálu (pevnost , tvrdost, odolnost proti 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hkému lomu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lánování experiment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chemick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Nízkoteplotní plasma, posuzování možných produktù chemických reakcí, ..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Osnova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nfo z informačního systému M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áce s interaktivní osnovou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ylabus přednášky viz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Časový plán předná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udijní materiál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čebn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Atkins' physical chemistry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/ Peter Atkins, Julio de Paula.. -- 8th ed.. -- Oxford : Oxford University Press, 2006.. -- xxx, 1064 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ebooks.bfwpub.com/pchemoup.ph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(user: knihovna, heslo: uzivatel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Komentář k fázovým rovnováhá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Literatura (knihy, časopisy, konference, programy, komentář k HP, inter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ahraniční literatu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31640" y="981000"/>
            <a:ext cx="82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PORTER, David A. Phase Transfformations in Metal and Alloys. New York: Van Nostrand Reinhol, 1981. 445 s. ISBN 0-442-30439-0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AUNDERS, Nigel a Peter A. MIODOWNIK. </a:t>
            </a:r>
            <a:r>
              <a:rPr b="0" i="1" lang="cs-CZ" sz="2000" spc="-1" strike="noStrike">
                <a:solidFill>
                  <a:srgbClr val="000066"/>
                </a:solidFill>
                <a:latin typeface="Times New Roman"/>
              </a:rPr>
              <a:t>Calphad :calculation of phase diagrams : a comprehensive guid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. Oxford: Pergamon, 1998. xvi, 479 s. ISBN 0-08-042129-6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Atlasy fázových diagramů (knihy a www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Mats Hillert: Phase Equilibria, Phase Diagrams and Phase Transformations (Their Thermodynamic Basis), 2nd Edition, ISBN: 97805218535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Picture 2" descr="http://assets.cambridge.org/97805215/65844/cover/9780521565844.jpg"/>
          <p:cNvPicPr/>
          <p:nvPr/>
        </p:nvPicPr>
        <p:blipFill>
          <a:blip r:embed="rId3"/>
          <a:stretch/>
        </p:blipFill>
        <p:spPr>
          <a:xfrm>
            <a:off x="4427640" y="3936960"/>
            <a:ext cx="1714320" cy="22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Výsledek obrázku pro Hillert Phase equilibria transformations Diagrams"/>
          <p:cNvPicPr/>
          <p:nvPr/>
        </p:nvPicPr>
        <p:blipFill>
          <a:blip r:embed="rId4"/>
          <a:stretch/>
        </p:blipFill>
        <p:spPr>
          <a:xfrm>
            <a:off x="2484360" y="393696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ecx.images-amazon.com/images/I/51MKesOklQL._SX326_BO1,204,203,200_.jpg"/>
          <p:cNvPicPr/>
          <p:nvPr/>
        </p:nvPicPr>
        <p:blipFill>
          <a:blip r:embed="rId5"/>
          <a:stretch/>
        </p:blipFill>
        <p:spPr>
          <a:xfrm>
            <a:off x="431640" y="3830760"/>
            <a:ext cx="1703520" cy="258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inary Alloy Phase Diagrams [Hardcover]"/>
          <p:cNvPicPr/>
          <p:nvPr/>
        </p:nvPicPr>
        <p:blipFill>
          <a:blip r:embed="rId6"/>
          <a:stretch/>
        </p:blipFill>
        <p:spPr>
          <a:xfrm>
            <a:off x="6289560" y="3754440"/>
            <a:ext cx="2708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1"/>
          <p:cNvSpPr/>
          <p:nvPr/>
        </p:nvSpPr>
        <p:spPr>
          <a:xfrm>
            <a:off x="404640" y="1484280"/>
            <a:ext cx="7912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erekvizita pro zkoušku: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- presentace cca 10min (použití 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lastní zkoušk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čtení fázových diagramů (z odborných článků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odpovědi na vylosované otázky (temata viz sylabu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Obdélník 3"/>
          <p:cNvSpPr/>
          <p:nvPr/>
        </p:nvSpPr>
        <p:spPr>
          <a:xfrm>
            <a:off x="1617840" y="59184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věrečné hodnocení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45456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Čtení fázových diagramů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Eutectic is my friend. Article I need for campfire pottery, and everything else ceramic. ternary-diagram-large"/>
          <p:cNvPicPr/>
          <p:nvPr/>
        </p:nvPicPr>
        <p:blipFill>
          <a:blip r:embed="rId1"/>
          <a:stretch/>
        </p:blipFill>
        <p:spPr>
          <a:xfrm>
            <a:off x="4211640" y="189000"/>
            <a:ext cx="3871800" cy="655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ron/Carbon/Steel phase diagram"/>
          <p:cNvPicPr/>
          <p:nvPr/>
        </p:nvPicPr>
        <p:blipFill>
          <a:blip r:embed="rId2"/>
          <a:stretch/>
        </p:blipFill>
        <p:spPr>
          <a:xfrm>
            <a:off x="250920" y="2637000"/>
            <a:ext cx="38894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D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https://www.mpq.univ-paris-diderot.fr/IMG/jpg/Figure_generale.jpg?1051/c5300bbfec17960fa6628d855136ce2fda1d4607"/>
          <p:cNvPicPr/>
          <p:nvPr/>
        </p:nvPicPr>
        <p:blipFill>
          <a:blip r:embed="rId1"/>
          <a:stretch/>
        </p:blipFill>
        <p:spPr>
          <a:xfrm>
            <a:off x="250920" y="1558800"/>
            <a:ext cx="4686120" cy="49658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5292720" y="5351400"/>
            <a:ext cx="34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https://www.mpq.univ-paris-diderot.fr/Size-and-Shape-of-magnetic-nanoparticles-influence-their-phase-diagram?lang=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3"/>
          <p:cNvSpPr/>
          <p:nvPr/>
        </p:nvSpPr>
        <p:spPr>
          <a:xfrm>
            <a:off x="5292720" y="155268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ze and Shape of magnetic nanoparticles influence their phase diagram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Co-P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1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ískání dovednosti používat  fázové diagramy </a:t>
            </a:r>
            <a:br>
              <a:rPr sz="3200"/>
            </a:b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(Např. : odhad vlastností materiálu z fázového diagramu)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2" descr="Výsledek obrázku pro phase diagram Fe Cr 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989000"/>
            <a:ext cx="4400640" cy="4030920"/>
          </a:xfrm>
          <a:prstGeom prst="rect">
            <a:avLst/>
          </a:prstGeom>
          <a:ln w="0">
            <a:noFill/>
          </a:ln>
        </p:spPr>
      </p:pic>
      <p:sp>
        <p:nvSpPr>
          <p:cNvPr id="173" name="Obdélník 1"/>
          <p:cNvSpPr/>
          <p:nvPr/>
        </p:nvSpPr>
        <p:spPr>
          <a:xfrm>
            <a:off x="1548720" y="62373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ázový diagram Fe-Cr-Ni  (design nerezové ocel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citel</cp:lastModifiedBy>
  <dcterms:modified xsi:type="dcterms:W3CDTF">2019-09-17T12:56:29Z</dcterms:modified>
  <cp:revision>48</cp:revision>
  <dc:subject/>
  <dc:title>C6730 Fázové rovnováhy</dc:title>
</cp:coreProperties>
</file>