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1C3A4D-7FDF-4122-A6B4-7DCEC4354F4F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5DF385-61A2-44A5-862A-EC1B89692391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FE810D-E7AE-456A-A906-78A05ED43AA3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9FC1-792A-489E-A9DE-4EA22C896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8232-CDB8-474C-87EF-47BA0B8EF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42C5-1882-40AE-8046-FC7D279DA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BB56-19DC-4640-89F6-5FBE9624E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FFBD-3D0E-49DE-AFF2-5281514FD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D710-F755-436B-BD26-50652CB0F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F95C-815B-4828-B999-12FCE41CC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2C30-FCB9-40E8-8B85-102FE730E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D3C5-A789-4210-938A-EFC98FE8E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37AA-25E9-46C3-8EC4-A7FD4062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9795-EACF-43C6-90C2-3E8A3B720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056D-942C-461D-B7B4-DF57DEC84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-3043440" y="-329760"/>
            <a:ext cx="12185640" cy="7824600"/>
            <a:chOff x="-3043440" y="-329760"/>
            <a:chExt cx="12185640" cy="7824600"/>
          </a:xfrm>
        </p:grpSpPr>
        <p:sp>
          <p:nvSpPr>
            <p:cNvPr id="1" name="Freeform 2"/>
            <p:cNvSpPr/>
            <p:nvPr/>
          </p:nvSpPr>
          <p:spPr>
            <a:xfrm>
              <a:off x="1485720" y="-4320"/>
              <a:ext cx="3221280" cy="69109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-1541520" y="-7560"/>
              <a:ext cx="3222000" cy="69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5402880" y="-2880"/>
              <a:ext cx="3225600" cy="69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2019960" y="-11160"/>
              <a:ext cx="3857760" cy="68965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-1324440" y="157680"/>
              <a:ext cx="6499440" cy="2449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 flipH="1" rot="2700000">
              <a:off x="-39240" y="1224720"/>
              <a:ext cx="4718520" cy="16074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-1387440" y="81360"/>
              <a:ext cx="6499440" cy="2449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 rot="18720000">
              <a:off x="-2909160" y="1463760"/>
              <a:ext cx="5588640" cy="2849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0"/>
            <p:cNvSpPr/>
            <p:nvPr/>
          </p:nvSpPr>
          <p:spPr>
            <a:xfrm rot="19260000">
              <a:off x="925200" y="1459080"/>
              <a:ext cx="6666120" cy="27673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1"/>
            <p:cNvSpPr/>
            <p:nvPr/>
          </p:nvSpPr>
          <p:spPr>
            <a:xfrm flipH="1" rot="2100000">
              <a:off x="1905840" y="1382400"/>
              <a:ext cx="6499080" cy="2449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2"/>
            <p:cNvSpPr/>
            <p:nvPr/>
          </p:nvSpPr>
          <p:spPr>
            <a:xfrm>
              <a:off x="6341400" y="-7560"/>
              <a:ext cx="2019960" cy="364428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3"/>
            <p:cNvSpPr/>
            <p:nvPr/>
          </p:nvSpPr>
          <p:spPr>
            <a:xfrm>
              <a:off x="-1541520" y="6239520"/>
              <a:ext cx="10683720" cy="68868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4"/>
            <p:cNvSpPr/>
            <p:nvPr/>
          </p:nvSpPr>
          <p:spPr>
            <a:xfrm>
              <a:off x="1485720" y="6312960"/>
              <a:ext cx="3221280" cy="6087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5"/>
            <p:cNvSpPr/>
            <p:nvPr/>
          </p:nvSpPr>
          <p:spPr>
            <a:xfrm>
              <a:off x="-1541520" y="6312960"/>
              <a:ext cx="3222000" cy="6073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6"/>
            <p:cNvSpPr/>
            <p:nvPr/>
          </p:nvSpPr>
          <p:spPr>
            <a:xfrm>
              <a:off x="5402880" y="6312960"/>
              <a:ext cx="3225600" cy="60876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7"/>
            <p:cNvSpPr/>
            <p:nvPr/>
          </p:nvSpPr>
          <p:spPr>
            <a:xfrm>
              <a:off x="2019960" y="6312960"/>
              <a:ext cx="3857760" cy="6073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8"/>
            <p:cNvSpPr/>
            <p:nvPr/>
          </p:nvSpPr>
          <p:spPr>
            <a:xfrm>
              <a:off x="-1541520" y="6231600"/>
              <a:ext cx="10683720" cy="68868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19"/>
            <p:cNvSpPr/>
            <p:nvPr/>
          </p:nvSpPr>
          <p:spPr>
            <a:xfrm>
              <a:off x="3249360" y="6252120"/>
              <a:ext cx="1921680" cy="66960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0"/>
            <p:cNvSpPr/>
            <p:nvPr/>
          </p:nvSpPr>
          <p:spPr>
            <a:xfrm flipH="1" rot="18900000">
              <a:off x="1351800" y="6137280"/>
              <a:ext cx="1690920" cy="889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1"/>
            <p:cNvSpPr/>
            <p:nvPr/>
          </p:nvSpPr>
          <p:spPr>
            <a:xfrm flipH="1" rot="18900000">
              <a:off x="16200" y="6137280"/>
              <a:ext cx="1690920" cy="889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2"/>
            <p:cNvSpPr/>
            <p:nvPr/>
          </p:nvSpPr>
          <p:spPr>
            <a:xfrm flipH="1" rot="18900000">
              <a:off x="-1348920" y="6085440"/>
              <a:ext cx="1649160" cy="9032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3"/>
            <p:cNvSpPr/>
            <p:nvPr/>
          </p:nvSpPr>
          <p:spPr>
            <a:xfrm flipH="1" flipV="1">
              <a:off x="-473040" y="6238800"/>
              <a:ext cx="6588000" cy="688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4"/>
            <p:cNvSpPr/>
            <p:nvPr/>
          </p:nvSpPr>
          <p:spPr>
            <a:xfrm flipH="1" flipV="1">
              <a:off x="-1096200" y="6238800"/>
              <a:ext cx="2849040" cy="688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5"/>
            <p:cNvSpPr/>
            <p:nvPr/>
          </p:nvSpPr>
          <p:spPr>
            <a:xfrm flipH="1" flipV="1">
              <a:off x="4088880" y="6315840"/>
              <a:ext cx="2470680" cy="6105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6"/>
            <p:cNvSpPr/>
            <p:nvPr/>
          </p:nvSpPr>
          <p:spPr>
            <a:xfrm flipH="1" flipV="1">
              <a:off x="5847840" y="6238800"/>
              <a:ext cx="2849040" cy="688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7"/>
            <p:cNvSpPr/>
            <p:nvPr/>
          </p:nvSpPr>
          <p:spPr>
            <a:xfrm flipH="1" flipV="1">
              <a:off x="4867920" y="6238800"/>
              <a:ext cx="4273560" cy="688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28"/>
            <p:cNvSpPr/>
            <p:nvPr/>
          </p:nvSpPr>
          <p:spPr>
            <a:xfrm>
              <a:off x="-1541520" y="6272640"/>
              <a:ext cx="10683720" cy="2232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440" y="631332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0720" y="631332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36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cs-CZ" sz="1400" spc="-1" strike="noStrike">
                <a:solidFill>
                  <a:srgbClr val="000066"/>
                </a:solidFill>
                <a:latin typeface="Arial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B93E43A-BDD4-4490-8D40-489A6FC0B3DB}" type="slidenum">
              <a:rPr b="0" lang="cs-CZ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Rovnováha v jednosložkové soustavě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684360" y="612720"/>
            <a:ext cx="7527600" cy="563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755640" y="441360"/>
            <a:ext cx="777708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324000" y="219240"/>
            <a:ext cx="8280360" cy="64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1133640" y="190440"/>
            <a:ext cx="68767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79812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sek</cp:lastModifiedBy>
  <dcterms:modified xsi:type="dcterms:W3CDTF">2015-11-03T11:26:48Z</dcterms:modified>
  <cp:revision>109</cp:revision>
  <dc:subject/>
  <dc:title>C6730 Fázové rovnováhy</dc:title>
</cp:coreProperties>
</file>