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33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0.jpeg" ContentType="image/jpeg"/>
  <Override PartName="/ppt/media/image3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4.png" ContentType="image/png"/>
  <Override PartName="/ppt/media/image17.wmf" ContentType="image/x-wmf"/>
  <Override PartName="/ppt/media/image6.wmf" ContentType="image/x-wmf"/>
  <Override PartName="/ppt/media/image11.wmf" ContentType="image/x-wmf"/>
  <Override PartName="/ppt/media/image36.png" ContentType="image/png"/>
  <Override PartName="/ppt/media/image35.wmf" ContentType="image/x-wmf"/>
  <Override PartName="/ppt/media/image5.wmf" ContentType="image/x-wmf"/>
  <Override PartName="/ppt/media/image27.jpeg" ContentType="image/jpeg"/>
  <Override PartName="/ppt/media/image2.gif" ContentType="image/gi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AABB-898A-403C-8575-F413C93D18D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F455-0C2E-41A5-B56D-F3135E7E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D8D9-1272-4EBD-8EC3-08733BF9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5D7E-BA42-4FA9-951C-291C3D5D5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ADE1-837D-4E57-88A3-0117E85AD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FFA7-E626-4A41-A84A-4E8B6EAA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FFBC-AB7B-4CC7-A5E7-71FF0D89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5E03-90E5-41AE-9021-5FA73C66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A6E5-3AA2-4327-BFCC-8B5D8176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B9BF-7996-4D28-BD68-12E11B98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5AC4-3B5A-45A0-807C-91458372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360F-4627-4106-9667-5D75B6F3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DBA0-E29D-41BD-972E-A15C3DBF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EDB3-F8BD-4096-9CCB-4E322A28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CC7A-2BC6-448D-B708-8F4BCA0F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5B1B-D2E0-4EB7-9200-82E9EE8A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051C-3ECB-408E-A499-304A13B78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21D3-CBD0-40F5-8314-E4BA0A0B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19EA-C832-4E10-8A87-597A5073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8F1C-CA46-4F5D-9596-6131C3FF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126D-D7C0-4535-983E-6648F526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C08D-9670-4A13-B87C-8D31134D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D0C0-394B-4003-86E3-698F086E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E923-C5BD-432D-A990-779A3A68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C006-9D9B-425B-974E-DAB318E2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2380-4D56-48BA-A3C7-26F1D8949D21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D6A7-7C18-421D-B97E-B01AE97A5EEB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google.cz/imgres?q=nucleation+centre&amp;hl=cs&amp;biw=996&amp;bih=522&amp;gbv=2&amp;tbm=isch&amp;tbnid=HX9uUSL_-sqqGM:&amp;imgrefurl=http://www.epj.org/news.html&amp;docid=uVTPgN-MOViRAM&amp;imgurl=http://www.epj.org/_img/news/news_2011-02_5.jpg&amp;w=150&amp;h=197&amp;ei=2KPTTobyFNSYsAbvvYSCBA&amp;zoom=1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Kinetika vzniku vícefázových struktu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ychlost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838080"/>
            <a:ext cx="784836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NewRoman,Bold"/>
              </a:rPr>
              <a:t>Rychlost: r = 1 / t0.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Platí Arrheniova závislost: </a:t>
            </a: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r = A exp (-</a:t>
            </a:r>
            <a:r>
              <a:rPr b="1" lang="cs-CZ" sz="1800" spc="-1" strike="noStrike">
                <a:solidFill>
                  <a:srgbClr val="008100"/>
                </a:solidFill>
                <a:latin typeface="TimesNewRoman,Bold"/>
              </a:rPr>
              <a:t>QA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kT) = A exp (-</a:t>
            </a:r>
            <a:r>
              <a:rPr b="1" lang="cs-CZ" sz="1800" spc="-1" strike="noStrike">
                <a:solidFill>
                  <a:srgbClr val="3333cd"/>
                </a:solidFill>
                <a:latin typeface="TimesNewRoman,Bold"/>
              </a:rPr>
              <a:t>Qm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 R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94560" cy="3979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6172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krystalizace měd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805680"/>
            <a:ext cx="3276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TT křivky Fe-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368520" cy="3193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33920" y="235080"/>
            <a:ext cx="5132160" cy="6622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5148360"/>
            <a:ext cx="1797120" cy="170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7400" y="60199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rlit Fe-0,8wt%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ikrostruktura a TTT křivk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5607000" cy="4181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324480" y="1905120"/>
            <a:ext cx="2514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he thickness of the ferrite and cementite layers in pearli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s ~ 8:1. The absolute layer thickness depends on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 of the transformation. The higher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, the thicker the laye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aini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5085000" cy="5414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1371600"/>
            <a:ext cx="3505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f transformation temperature is low enough (</a:t>
            </a:r>
            <a:r>
              <a:rPr b="0" lang="cs-CZ" sz="1800" spc="-1" strike="noStrike">
                <a:solidFill>
                  <a:srgbClr val="000066"/>
                </a:solidFill>
                <a:latin typeface="SymbolMT"/>
              </a:rPr>
              <a:t>≤</a:t>
            </a: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540°C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bainite rather than fine pearlite form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1542960" cy="1955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238880" y="2895480"/>
            <a:ext cx="1731960" cy="2116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943600" y="5133960"/>
            <a:ext cx="2666880" cy="1724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5943600"/>
            <a:ext cx="167652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feritizace (700st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hrnutí difůzně řízených přemě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066680"/>
            <a:ext cx="85341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family of S-shaped curves at different T are used to construct the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TTT diagrams are for the 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isothermal 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(constant T) transformations (material is cooled quickly to a given temperature before the transformation occurs, and then keep it at that temperature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low temperatures, the transformation occurs sooner (it is controlled by the rate of nucleation) and grain growth (that is controlled by diffusion) is reduc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Slow diffusion at low temperatures leads to fine-grained microstructure with thin-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fin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higher temperatures, high diffusion rates allow for larger grain growth and formation of thick 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coars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 At compositions other than eutectoid, a proeutectoid phase (ferrite or cementite) coexist with pearlite. Additional curves for proeutectoid transformation must be included on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ezdifúzní přemě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086080" cy="3517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254560" y="3581280"/>
            <a:ext cx="3889440" cy="290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00200" y="5867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renzitické přeměny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685800"/>
            <a:ext cx="8686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forms when austenite is rapidly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quenched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 to room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The austenite-martensite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does not involve diffusion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no thermal activation is needed,this is called an </a:t>
            </a: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athermal transformation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Each atom displaces a small (sub-atomic) distance to transform FCC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Fe (austenite) to martensite which has a Body Centered Tetragonal (BCT) unit cell (like BCC, but one unit cell axis is longer than the other two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is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metastabl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can persist indefinitely at room temperature, but will transform to equilibrium phases on annealing at an elevated temperature. Martensite can coexist with other phases and/or microstructures in Fe-C systém. It does not appear in phase Fe-C phase diagra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248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179880" y="228600"/>
            <a:ext cx="5284800" cy="6477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04920" y="4724280"/>
            <a:ext cx="281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NewRoman"/>
              </a:rPr>
              <a:t>Austenite-to-martensite is diffusionless and very fast. The amount of martensite formed depends on temperature on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3180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3180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9440" y="3848040"/>
            <a:ext cx="23130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images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590920" cy="1940040"/>
          </a:xfrm>
          <a:prstGeom prst="rect">
            <a:avLst/>
          </a:prstGeom>
          <a:ln w="0">
            <a:noFill/>
          </a:ln>
        </p:spPr>
      </p:pic>
      <p:pic>
        <p:nvPicPr>
          <p:cNvPr id="217" name="martensite-1500x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1284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24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NewRoman"/>
              </a:rPr>
              <a:t>Tepelné zpracov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4849920" cy="6167160"/>
          </a:xfrm>
          <a:prstGeom prst="rect">
            <a:avLst/>
          </a:prstGeom>
          <a:ln w="0">
            <a:noFill/>
          </a:ln>
        </p:spPr>
      </p:pic>
      <p:pic>
        <p:nvPicPr>
          <p:cNvPr id="220" name="44" descr=""/>
          <p:cNvPicPr/>
          <p:nvPr/>
        </p:nvPicPr>
        <p:blipFill>
          <a:blip r:embed="rId2"/>
          <a:stretch/>
        </p:blipFill>
        <p:spPr>
          <a:xfrm>
            <a:off x="304920" y="162720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221" name="6100CT-heat%20treatment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1240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pracování Fe-C slit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ermodynamická podmínka vzniku nové f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kle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fúzní a bezdifúzní přemě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6200" y="19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6200" y="19526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3680" y="31129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3124080"/>
            <a:ext cx="26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56" name="Soda_bubbles_macro" descr=""/>
          <p:cNvPicPr/>
          <p:nvPr/>
        </p:nvPicPr>
        <p:blipFill>
          <a:blip r:embed="rId7"/>
          <a:stretch/>
        </p:blipFill>
        <p:spPr>
          <a:xfrm>
            <a:off x="5486400" y="116856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Další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855120" cy="3168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114800" y="4110120"/>
            <a:ext cx="4784760" cy="2747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30481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varová paměť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231120" y="1447920"/>
            <a:ext cx="70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hMYC-bLMLZQ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fsBHF_j2FJ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0" name="phase4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819680" cy="383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94360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iTi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ermodynamická podmínka vzniku nové fá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Energetika kuloviré části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391160" cy="3913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867280" y="4716360"/>
            <a:ext cx="3021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ukleace nové fáz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2511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5334120"/>
            <a:ext cx="3962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tastabilní stavy: přechlazení a přehřát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960" y="180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960" y="1803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24560" y="3902040"/>
            <a:ext cx="2455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2440" y="2963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images" descr=""/>
          <p:cNvPicPr/>
          <p:nvPr/>
        </p:nvPicPr>
        <p:blipFill>
          <a:blip r:embed="rId2"/>
          <a:stretch/>
        </p:blipFill>
        <p:spPr>
          <a:xfrm>
            <a:off x="5181480" y="4216320"/>
            <a:ext cx="3219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ožnosti snížení nukleační bariér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ody usnadňující dosažení rovnovážného stav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189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8600" y="4794120"/>
            <a:ext cx="7696080" cy="2063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3657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aktory ovlivňující růst nové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sss7-29-08-2008" descr=""/>
          <p:cNvPicPr/>
          <p:nvPr/>
        </p:nvPicPr>
        <p:blipFill>
          <a:blip r:embed="rId3"/>
          <a:stretch/>
        </p:blipFill>
        <p:spPr>
          <a:xfrm>
            <a:off x="6019920" y="2590920"/>
            <a:ext cx="2590560" cy="22636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ázových transforma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76520"/>
            <a:ext cx="7924680" cy="34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bez změny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melting, solidification of pure metal, allotropic transformations, recrystallization, etc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se změnou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Eutectoid transformation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Bezdifúzní transformac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produces a metastable phase by cooperative small displacements of all atoms in structure (e.g. martensitic transformation discussed in later in this chapte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Nucleation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of the new phase - formation of stable small particles (nuclei) of the new phase. Nuclei are often formed at grain boundaries and other defec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Growth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new phase at the expense of the original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482616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54:39Z</dcterms:modified>
  <cp:revision>119</cp:revision>
  <dc:subject/>
  <dc:title>C6730 Fázové rovnováhy</dc:title>
</cp:coreProperties>
</file>