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23FE-6945-44B9-BFB8-C5347EA80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F8C6-10BC-4C80-864E-4C05E7B01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316-DFD1-44B6-9546-DD2AF1B2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BB4-C5F6-47F2-A498-D83B7A3B0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DB44-47EC-480F-B9CD-D04A1DBB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C14EC-8077-4BA9-837F-86E837B9F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61F40-4CC5-4118-A360-81C1C3F7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A166-434F-4411-93A1-24B2F67FE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FB58C-4784-4F67-BF90-72463DAC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31620-5296-41DE-BE50-31C02BA0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7657-5DBC-4685-AACE-D90351071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11CB-F98F-4A21-B310-2CB7DB55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D6BE9-7405-4A95-8081-E95BF201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BE4ED-55B4-4A14-9A5B-5404A1CA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3D44-F297-429E-8CB7-C5485DB5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ABE9-9EC0-493B-B239-F94BFF9C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F7F1F-0D70-467A-9D57-102EBBD18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8D5AD-FF44-43E2-9AAC-18AA05B76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D1F7A-460A-460B-BACB-8B5C0BB1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108CC-4168-4992-9656-175D155C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D82DE-EE1E-44B8-BAFC-86F39B9B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269EA-A3A2-4F1E-AABC-5BA3E7BF5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4DFD-62DA-45CA-B30C-DAAFDDCA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DE9776-4DA7-4D6E-9CC9-3819A635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669E4-9DDD-4D9D-B441-A181185B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3668F9-347C-4C89-9244-75154D437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760ACC-733A-44A3-A8FF-5EE33C2E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58C44-8E4F-4063-9C9B-D0F1474F4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6C590-AD7F-4065-B8CE-3097026A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2FFC3-EDD6-4A16-BD22-41E32C776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64B3-DD1D-4DC4-A97F-E1A24420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88AB-595F-4B20-A6E3-9AC543CA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BD64-F7CC-4599-9E09-3870AB0B0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C3F6-56B7-42B3-8156-4424370D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1DC-7FC0-4825-8BE1-D0252912B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E6A3-2A5C-4EF2-826F-1CDF25048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096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A4AD5E5-5374-433C-A9A9-41E53505ACD3}" type="slidenum">
              <a:rPr b="0" lang="cs-CZ" sz="12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275c6d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108da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a7d2df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33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6F06F0E-762B-434B-B3FC-F73AC1D8976F}" type="slidenum"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47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275c6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000" spc="-1" strike="noStrike">
                <a:solidFill>
                  <a:srgbClr val="000033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cs-CZ" sz="1000" spc="-1" strike="noStrike">
                <a:solidFill>
                  <a:srgbClr val="00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551439F-2CB3-46CF-917F-62948D039FD0}" type="slidenum">
              <a:rPr b="1" lang="cs-CZ" sz="1000" spc="-1" strike="noStrike">
                <a:solidFill>
                  <a:srgbClr val="0000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9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275c6d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108da6"/>
            </a:solidFill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office.microsoft.com/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260280"/>
            <a:ext cx="5256360" cy="13255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5372280" y="318960"/>
            <a:ext cx="5443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0" y="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3524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524720" y="549360"/>
            <a:ext cx="503280" cy="4888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26920" y="1844640"/>
            <a:ext cx="784872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KOLA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um, Tanvald, Školní 305, příspěvková organiz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CZ.1.07/1.5.00/34.0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PROJEKT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Šablony – Gymnázium Tanva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ČÍSLO ŠABLON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VI/2 Vytváření podmínek pro rozvoj znalosti, schopností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ovedností v oblasti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UTOR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rmila Moravcov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TEMATICKÁ OBLAST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Finanční gramotnost matematika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NÁZEV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ropáčkovi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OŘADOVÉ ČÍSLO DUMu: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KÓD DUMu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M_VI/2_FIN_GRAM_MAT_I_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DATUM TVORBY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29.1.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ANOTACE (ROČNÍK):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Prezentace je určena pro žáky 6.ročníku ZŠ nebo primy víceletých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gymnázií.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Seznamuje žáky se základy hospodaření rodiny a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ožnostmi úsp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METODICKÝ POKYN: Prezentace navazuje na dum č. 13 a podrobněji se zabývá možností, 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	</a:t>
            </a:r>
            <a:r>
              <a:rPr b="1" lang="cs-CZ" sz="1200" spc="-1" strike="noStrike">
                <a:solidFill>
                  <a:srgbClr val="336699"/>
                </a:solidFill>
                <a:latin typeface="Verdana"/>
              </a:rPr>
              <a:t>jak snížit některé výdaje rodin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0000"/>
                </a:solidFill>
                <a:latin typeface="Times New Roman"/>
              </a:rPr>
              <a:t>Př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-181440" y="1773360"/>
            <a:ext cx="9001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33"/>
                </a:solidFill>
                <a:latin typeface="Times New Roman"/>
              </a:rPr>
              <a:t>       </a:t>
            </a:r>
            <a:r>
              <a:rPr b="0" lang="cs-CZ" sz="2200" spc="-1" strike="noStrike">
                <a:solidFill>
                  <a:srgbClr val="000033"/>
                </a:solidFill>
                <a:latin typeface="Times New Roman"/>
              </a:rPr>
              <a:t>Pan Kropáček jezdí do města vzdáleného 15 km od místa bydliště kvůli pracovním povinnostem a nákupům 6 x týdně. Když si cesty lépe zorganizuje pojede pouze 4 x týdně. Spočítejte, kolik ušetří za čtyři týdny za benzín, když spotřeba jeho auta je 5,2 litru na 100 km a cena benzínu, který kupuje je 32,46 Kč. Výsledek zaokrouhlete na celé koruny.</a:t>
            </a:r>
            <a:endParaRPr b="0" lang="en-US" sz="2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5280" y="357336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c0000"/>
                </a:solidFill>
                <a:latin typeface="Times New Roman"/>
              </a:rPr>
              <a:t>výpočet:</a:t>
            </a:r>
            <a:br>
              <a:rPr sz="24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ušetří cest za 4 týdny ………………………2*4 = 8 cest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1 cesta……………………….2 * 15 = 30 km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8 cest………………………..8 * 30 = 240 km</a:t>
            </a:r>
            <a:br>
              <a:rPr sz="8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00 km…….5,2 * 32,46 = 168,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1 km………. 168,792 : 100 = 1,68792 Kč</a:t>
            </a:r>
            <a:br>
              <a:rPr sz="22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Cena benzínu na 240 km…… 240 * 1,68792 = 405,10 Kč</a:t>
            </a:r>
            <a:br>
              <a:rPr sz="2200"/>
            </a:br>
            <a:br>
              <a:rPr sz="800"/>
            </a:br>
            <a:r>
              <a:rPr b="0" lang="cs-CZ" sz="2200" spc="-1" strike="noStrike">
                <a:solidFill>
                  <a:srgbClr val="003366"/>
                </a:solidFill>
                <a:latin typeface="Times New Roman"/>
              </a:rPr>
              <a:t>Tatínek za měsíc ( 4 týdny ) ušetří 405 Kč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5013360"/>
            <a:ext cx="7848720" cy="0"/>
          </a:xfrm>
          <a:prstGeom prst="line">
            <a:avLst/>
          </a:prstGeom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Závěr: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Dnes jsme našli možnost úspor v nákladech na benzí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rotože se cena benzínu stále zvyšuje, bude možná pan Kropáček potřebovat víc peněz na provoz auta, i když omezil jízdy. 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Bude na tom přesto lépe, než kdyby situaci neřešil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S paní Kropáčkovou příště posoudíme její nákup potravin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spcBef>
                <a:spcPts val="601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33"/>
                </a:solidFill>
                <a:latin typeface="Times New Roman"/>
              </a:rPr>
              <a:t>Paní Kropáčková chce přispět do rozpočtu rodiny tím, že omezí služby kadeřníka a návštěvy kosmetiky bude platit z položky „ kapesné rodičů“. Tím ušetří měsíčně 650 Kč.</a:t>
            </a: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Dnes se s vámi Kropáčkovi loučí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03" name="imgPreview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1258920" y="1844640"/>
            <a:ext cx="5905440" cy="446400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195640" y="5229360"/>
            <a:ext cx="3457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Nashledan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47560" y="736560"/>
            <a:ext cx="79488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3366"/>
                </a:solidFill>
                <a:latin typeface="Times New Roman"/>
              </a:rPr>
              <a:t>použité zdroje: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090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8360">
              <a:spcBef>
                <a:spcPts val="476"/>
              </a:spcBef>
              <a:buClr>
                <a:srgbClr val="000033"/>
              </a:buClr>
              <a:buSzPct val="65000"/>
              <a:buFont typeface="Times New Roman"/>
              <a:buChar char="•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Times New Roman"/>
              </a:rPr>
              <a:t>Obrázky:</a:t>
            </a:r>
            <a:endParaRPr b="0" lang="en-US" sz="20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326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4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836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AUTOR NEUVEDEN. </a:t>
            </a:r>
            <a:r>
              <a:rPr b="1" i="1" lang="cs-CZ" sz="1700" spc="-1" strike="noStrike">
                <a:solidFill>
                  <a:srgbClr val="000033"/>
                </a:solidFill>
                <a:latin typeface="Times New Roman"/>
              </a:rPr>
              <a:t>Kliparty Microsoft Office</a:t>
            </a:r>
            <a:r>
              <a:rPr b="1" lang="cs-CZ" sz="1700" spc="-1" strike="noStrike">
                <a:solidFill>
                  <a:srgbClr val="000033"/>
                </a:solidFill>
                <a:latin typeface="Times New Roman"/>
              </a:rPr>
              <a:t> [online]. [cit. 28.11.2012]. Dostupný na WWW: </a:t>
            </a:r>
            <a:r>
              <a:rPr b="0" lang="cs-CZ" sz="1700" spc="-1" strike="noStrike" u="sng">
                <a:solidFill>
                  <a:srgbClr val="666699"/>
                </a:solidFill>
                <a:uFillTx/>
                <a:latin typeface="Times New Roman"/>
                <a:hlinkClick r:id="rId1"/>
              </a:rPr>
              <a:t>http://office.microsoft.com/</a:t>
            </a: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0">
              <a:spcBef>
                <a:spcPts val="400"/>
              </a:spcBef>
              <a:buNone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058400"/>
              </a:tabLst>
            </a:pPr>
            <a:endParaRPr b="0" lang="en-US" sz="17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3366"/>
                </a:solidFill>
                <a:latin typeface="Times New Roman"/>
              </a:rPr>
              <a:t>Rodina Kropáčkova chce šetřit: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44" name="" descr="chlapci,dcery,d&amp;ecaron;ti,dívky,matky,mu&amp;zcaron;i,osoby,otcové,po&amp;ccaron;así,ro&amp;ccaron;ní období,rodiny,sn&amp;ecaron;huláci,synové,&amp;zcaron;eny,zima"/>
          <p:cNvPicPr/>
          <p:nvPr/>
        </p:nvPicPr>
        <p:blipFill>
          <a:blip r:embed="rId1"/>
          <a:stretch/>
        </p:blipFill>
        <p:spPr>
          <a:xfrm>
            <a:off x="3203640" y="2060640"/>
            <a:ext cx="4824360" cy="367344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684360" y="2205000"/>
            <a:ext cx="2303280" cy="534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Mamin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Tatín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Eli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275c6d"/>
              </a:buClr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   </a:t>
            </a:r>
            <a:r>
              <a:rPr b="1" lang="cs-CZ" sz="3600" spc="-1" strike="noStrike">
                <a:solidFill>
                  <a:srgbClr val="000033"/>
                </a:solidFill>
                <a:latin typeface="Edwardian Script ITC"/>
              </a:rPr>
              <a:t>Davíde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Co nás dnes čeká ?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můžeme rodině Kropáčkovic hledat úspor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třídíme výdaje do skupin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osoudíme situaci 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myslíme, kde a kolik chceme ušetřit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navrhneme řešení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rozdělíme úkol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75c6d"/>
                </a:solidFill>
                <a:latin typeface="Times New Roman"/>
              </a:rPr>
              <a:t>provedeme výpočty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Rozhodnutí z minulé hodiny: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560" y="1828440"/>
            <a:ext cx="84358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403920" indent="-403920">
              <a:lnSpc>
                <a:spcPct val="90000"/>
              </a:lnSpc>
              <a:spcBef>
                <a:spcPts val="799"/>
              </a:spcBef>
              <a:buClr>
                <a:srgbClr val="275c6d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Kropáčkovi zjistili, že příjmy rodiny se jim 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v dohledné době nepodaří zvýšit.</a:t>
            </a: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-403920">
              <a:lnSpc>
                <a:spcPct val="9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Pokusí se tedy snížit výdaje a to asi                                                                                           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000033"/>
                </a:solidFill>
                <a:latin typeface="Times New Roman"/>
              </a:rPr>
              <a:t>o </a:t>
            </a:r>
            <a:r>
              <a:rPr b="1" lang="cs-CZ" sz="2800" spc="-1" strike="noStrike" u="sng">
                <a:solidFill>
                  <a:srgbClr val="cc0000"/>
                </a:solidFill>
                <a:uFillTx/>
                <a:latin typeface="Times New Roman"/>
              </a:rPr>
              <a:t>2 000 až 3 000 Kč</a:t>
            </a:r>
            <a:endParaRPr b="0" lang="en-US" sz="28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  <a:p>
            <a:pPr marL="4039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33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4000" y="400536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cc0000"/>
                </a:solidFill>
                <a:latin typeface="Times New Roman"/>
              </a:rPr>
              <a:t>Otevřete si sešity si a porovnejte své návrhy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5640" y="479736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492360" y="4724280"/>
            <a:ext cx="863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227640" y="472428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24000" y="5445000"/>
            <a:ext cx="8353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49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75c6d"/>
                </a:solidFill>
                <a:latin typeface="Times New Roman"/>
              </a:rPr>
              <a:t>Jaké položky máte v 1. 2. a 3. sloupci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549360"/>
            <a:ext cx="914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600" spc="-1" strike="noStrike">
                <a:solidFill>
                  <a:srgbClr val="003366"/>
                </a:solidFill>
                <a:latin typeface="Arial"/>
              </a:rPr>
              <a:t>Paní Kropáčková zapsala průměrné měsíční výdaje v Kč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468360" y="1268280"/>
          <a:ext cx="4038480" cy="5256360"/>
        </p:xfrm>
        <a:graphic>
          <a:graphicData uri="http://schemas.openxmlformats.org/drawingml/2006/table">
            <a:tbl>
              <a:tblPr/>
              <a:tblGrid>
                <a:gridCol w="3166920"/>
                <a:gridCol w="87156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yt: nájem a služ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 4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elektřina: zálo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ojištění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ve ško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ědy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 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jídlo v restaurac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8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telefon, internet, televi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rogerie,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půjč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3 3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7" name=""/>
          <p:cNvGraphicFramePr/>
          <p:nvPr/>
        </p:nvGraphicFramePr>
        <p:xfrm>
          <a:off x="4716360" y="1268280"/>
          <a:ext cx="4038840" cy="5254920"/>
        </p:xfrm>
        <a:graphic>
          <a:graphicData uri="http://schemas.openxmlformats.org/drawingml/2006/table">
            <a:tbl>
              <a:tblPr/>
              <a:tblGrid>
                <a:gridCol w="3095640"/>
                <a:gridCol w="943200"/>
              </a:tblGrid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bleče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1368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dop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benzín a au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nihy a kultu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škola a krouž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4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dět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deřník a kosmetik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9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spo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   </a:t>
                      </a: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kapesné rodič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5760">
                      <a:solidFill>
                        <a:srgbClr val="000033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ostatn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33"/>
                      </a:solidFill>
                    </a:lnL>
                    <a:lnR w="576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cs-CZ" sz="2000" spc="-1" strike="noStrike">
                          <a:solidFill>
                            <a:srgbClr val="000033"/>
                          </a:solidFill>
                          <a:latin typeface="Arial"/>
                        </a:rPr>
                        <a:t>1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33"/>
                      </a:solidFill>
                    </a:lnL>
                    <a:lnR w="13680">
                      <a:solidFill>
                        <a:srgbClr val="000033"/>
                      </a:solidFill>
                    </a:lnR>
                    <a:lnT w="5760">
                      <a:solidFill>
                        <a:srgbClr val="000033"/>
                      </a:solidFill>
                    </a:lnT>
                    <a:lnB w="13680">
                      <a:solidFill>
                        <a:srgbClr val="00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5219640" y="76500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ůjčky                      3 3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148360" y="765000"/>
            <a:ext cx="32288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rogerie, kosmetika   6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8360" y="765000"/>
            <a:ext cx="32288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tel., int., televize      1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19640" y="836640"/>
            <a:ext cx="322920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v restauraci        8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jídlo doma               4 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rodičů           2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ědy ve škole        1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19640" y="765000"/>
            <a:ext cx="3229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pojištění                     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48360" y="836640"/>
            <a:ext cx="322884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elektřina: záloha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92720" y="765000"/>
            <a:ext cx="30243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yt: nájem             7 420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0.05254 L -0.32292 0.25185 E">
                                      <p:cBhvr>
                                        <p:cTn id="18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611 0.02315 L -0.3184 0.31713 E">
                                      <p:cBhvr>
                                        <p:cTn id="192" dur="2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29 0.0125 L -0.32622 0.40116 E">
                                      <p:cBhvr>
                                        <p:cTn id="200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83 0.00208 L -0.31041 0.46412 E">
                                      <p:cBhvr>
                                        <p:cTn id="208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0.10717 L -0.55451 0.70555 E">
                                      <p:cBhvr>
                                        <p:cTn id="216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09 0.03356 L -0.54671 0.54815 E">
                                      <p:cBhvr>
                                        <p:cTn id="224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111E-006 L 0.08334 0.44305 E">
                                      <p:cBhvr>
                                        <p:cTn id="23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52 0.0368 L 0.06754 0.25717 E">
                                      <p:cBhvr>
                                        <p:cTn id="240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049 -0.04004 L -0.271 0.63195 E">
                                      <p:cBhvr>
                                        <p:cTn id="248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93 0.03356 L -0.3184 0.77893 E">
                                      <p:cBhvr>
                                        <p:cTn id="256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5219640" y="907920"/>
            <a:ext cx="3168720" cy="503280"/>
          </a:xfrm>
          <a:prstGeom prst="rect">
            <a:avLst/>
          </a:prstGeom>
          <a:solidFill>
            <a:srgbClr val="a7d2df">
              <a:alpha val="64000"/>
            </a:srgbClr>
          </a:solidFill>
          <a:ln w="38160">
            <a:solidFill>
              <a:srgbClr val="00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5640" y="1844640"/>
            <a:ext cx="1152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36572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227640" y="4292640"/>
            <a:ext cx="2160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ffffff"/>
                </a:solidFill>
                <a:latin typeface="Arial"/>
              </a:rPr>
              <a:t>MOˇZN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43640" y="1844640"/>
            <a:ext cx="1800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MOŽN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64000" y="1844640"/>
            <a:ext cx="863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 u="sng">
                <a:solidFill>
                  <a:srgbClr val="cc0000"/>
                </a:solidFill>
                <a:uFillTx/>
                <a:latin typeface="Times New Roman"/>
              </a:rPr>
              <a:t>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4920" y="620280"/>
            <a:ext cx="3024360" cy="66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990033"/>
                </a:solidFill>
                <a:latin typeface="Times New Roman"/>
              </a:rPr>
              <a:t>Možné řešení 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48360" y="981000"/>
            <a:ext cx="30956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statní                    1 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rodičů     1 4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19640" y="98100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sport                          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deřník                    9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19640" y="907920"/>
            <a:ext cx="3095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apesné dětí             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29272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škola a kroužky        4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19640" y="907920"/>
            <a:ext cx="316872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knihy a kultura         6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292720" y="907920"/>
            <a:ext cx="3095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benzín a auto         1 4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19640" y="907920"/>
            <a:ext cx="30956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doprava                    7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92720" y="907920"/>
            <a:ext cx="30970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33"/>
                </a:solidFill>
                <a:latin typeface="Arial"/>
              </a:rPr>
              <a:t>oblečení                 1 06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63 0.025 L -0.27951 0.22454 E">
                                      <p:cBhvr>
                                        <p:cTn id="300" dur="2000" fill="hold"/>
                                        <p:tgtEl>
                                          <p:spTgt spid="1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6771 0.28356 E">
                                      <p:cBhvr>
                                        <p:cTn id="308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3681 L 0.0434 0.23635 E">
                                      <p:cBhvr>
                                        <p:cTn id="316" dur="2000" fill="hold"/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0.02754 L -0.57483 0.48033 E">
                                      <p:cBhvr>
                                        <p:cTn id="324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8351 0.39907 E">
                                      <p:cBhvr>
                                        <p:cTn id="332" dur="2000" fill="hold"/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11111E-006 L -0.26371 0.53565 E">
                                      <p:cBhvr>
                                        <p:cTn id="340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41 0.03542 L -0.57864 0.67986 E">
                                      <p:cBhvr>
                                        <p:cTn id="348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0.03519 L 0.03542 0.35 E">
                                      <p:cBhvr>
                                        <p:cTn id="35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5504 0.55648 E">
                                      <p:cBhvr>
                                        <p:cTn id="364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5254 L -0.27951 0.75602 E">
                                      <p:cBhvr>
                                        <p:cTn id="372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jídlo dom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Maminka se pokusí ušetřit na jídle,které jí rodina doma, ale protože ceny potravin stále rostou, tak nečeká velké úspo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 příště si připraví seznam potravin, které kupu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Společně vybereme, které potraviny jsou pro zdravý jídelníček potřebné a nechceme je omezit a které jsou dokonce nezdravé a omezit bychom je mě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Rodina se shodla, že do restaurace půjdou jen někdy na výletě a tím sníží tento výdaj na polovin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66"/>
                </a:solidFill>
                <a:latin typeface="Times New Roman"/>
              </a:rPr>
              <a:t>Poznámky:  </a:t>
            </a:r>
            <a:r>
              <a:rPr b="1" lang="cs-CZ" sz="3200" spc="-1" strike="noStrike">
                <a:solidFill>
                  <a:srgbClr val="cc0000"/>
                </a:solidFill>
                <a:latin typeface="Times New Roman"/>
              </a:rPr>
              <a:t>benzín a provoz au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39640" y="1773360"/>
            <a:ext cx="835344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potřebuje auto ke své práci, proto nemůže příliš omezit jeho provoz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Protože se ceny benzínu stále zvyšují, promyslí si lépe trasy svých ces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Například na větší nákup do města nebude jezdit       v sobotu dopoledne, ale nakoupí už v pátek več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275c6d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33"/>
                </a:solidFill>
                <a:latin typeface="Times New Roman"/>
              </a:rPr>
              <a:t>Tatínek si spočítal, že takto ušetří asi 400 Kč měsíčn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05:09:32Z</dcterms:created>
  <dc:creator>herrmannova</dc:creator>
  <dc:description/>
  <dc:language>en-US</dc:language>
  <cp:lastModifiedBy>RNDr. Zdeněk Moravec</cp:lastModifiedBy>
  <dcterms:modified xsi:type="dcterms:W3CDTF">2013-02-01T13:21:36Z</dcterms:modified>
  <cp:revision>70</cp:revision>
  <dc:subject/>
  <dc:title>Snímek 1</dc:title>
</cp:coreProperties>
</file>