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4433725"/>
        <c:axId val="35592299"/>
      </c:scatterChart>
      <c:valAx>
        <c:axId val="74433725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592299"/>
        <c:crosses val="autoZero"/>
        <c:crossBetween val="midCat"/>
        <c:majorUnit val="1"/>
      </c:valAx>
      <c:valAx>
        <c:axId val="35592299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4433725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2953102"/>
        <c:axId val="79286866"/>
      </c:scatterChart>
      <c:valAx>
        <c:axId val="12953102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286866"/>
        <c:crosses val="autoZero"/>
        <c:crossBetween val="midCat"/>
        <c:majorUnit val="1"/>
      </c:valAx>
      <c:valAx>
        <c:axId val="79286866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2953102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60327082"/>
        <c:axId val="50000022"/>
      </c:scatterChart>
      <c:valAx>
        <c:axId val="60327082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50000022"/>
        <c:crosses val="autoZero"/>
        <c:crossBetween val="midCat"/>
        <c:majorUnit val="2"/>
        <c:minorUnit val="1"/>
      </c:valAx>
      <c:valAx>
        <c:axId val="50000022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60327082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7910803"/>
        <c:axId val="11263634"/>
      </c:scatterChart>
      <c:valAx>
        <c:axId val="87910803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1263634"/>
        <c:crosses val="autoZero"/>
        <c:crossBetween val="midCat"/>
        <c:majorUnit val="2"/>
        <c:minorUnit val="0.05"/>
      </c:valAx>
      <c:valAx>
        <c:axId val="11263634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7910803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60214800"/>
        <c:axId val="16316131"/>
      </c:scatterChart>
      <c:valAx>
        <c:axId val="6021480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316131"/>
        <c:crosses val="autoZero"/>
        <c:crossBetween val="midCat"/>
        <c:majorUnit val="2"/>
        <c:minorUnit val="0.05"/>
      </c:valAx>
      <c:valAx>
        <c:axId val="16316131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0214800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54730767"/>
        <c:axId val="57334983"/>
      </c:scatterChart>
      <c:valAx>
        <c:axId val="5473076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7334983"/>
        <c:crosses val="autoZero"/>
        <c:crossBetween val="midCat"/>
        <c:majorUnit val="2"/>
        <c:minorUnit val="0.05"/>
      </c:valAx>
      <c:valAx>
        <c:axId val="57334983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73076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3395426"/>
        <c:axId val="20750104"/>
      </c:scatterChart>
      <c:valAx>
        <c:axId val="7339542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0750104"/>
        <c:crosses val="autoZero"/>
        <c:crossBetween val="midCat"/>
        <c:majorUnit val="2"/>
      </c:valAx>
      <c:valAx>
        <c:axId val="20750104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3395426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77923841"/>
        <c:axId val="63828620"/>
      </c:scatterChart>
      <c:valAx>
        <c:axId val="7792384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3828620"/>
        <c:crosses val="autoZero"/>
        <c:crossBetween val="midCat"/>
        <c:majorUnit val="2"/>
      </c:valAx>
      <c:valAx>
        <c:axId val="63828620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792384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92763476"/>
        <c:axId val="52201799"/>
      </c:scatterChart>
      <c:valAx>
        <c:axId val="92763476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2201799"/>
        <c:crosses val="autoZero"/>
        <c:crossBetween val="midCat"/>
        <c:majorUnit val="2"/>
        <c:minorUnit val="0.05"/>
      </c:valAx>
      <c:valAx>
        <c:axId val="52201799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2763476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C752559-AEA2-4474-973F-C0A89C151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45D7210-0E50-4907-B2F8-E3C7EE278E6C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45FC7C-4DD5-4E8E-9EA8-024B3B8C552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BD0553-F5F6-41DE-82D1-ED81E0A3FF2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