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3D56-4321-4CE3-89C8-D6442DB23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10D8-2E80-4688-B080-FAB4E75EB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A0DC-643F-4CB1-A621-8099DEF44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7374-D00A-431B-BE86-49C93D424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2788-0B23-4942-BCE2-BE462A67B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AD1F9-402F-4324-A9C3-49920678E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B224-85C6-48EC-B6FF-B57506D91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C6E2-176C-432E-AA32-F2D12B250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EDFF-3B98-41A7-B0B7-099510DF3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3016-36FC-4BAA-AD4D-F140EE95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15A6-D2F9-457F-88BA-8971ADA49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64F6-42D4-47DE-9FB3-64A1DBA0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542AA-3C8E-4371-956B-100DE792E2D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94028-915E-4A97-BB08-FA4EE6FE60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Bookman Old Style"/>
              </a:rPr>
              <a:t>Čtverec kružítk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Tento trojúhelník je rovnoramenný, a proto výška půlí základn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Z Pythagorovy věty potom pro délku této výš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LN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platí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332000" y="1413000"/>
            <a:ext cx="5837040" cy="4892400"/>
          </a:xfrm>
          <a:prstGeom prst="rect">
            <a:avLst/>
          </a:prstGeom>
          <a:ln w="0">
            <a:noFill/>
          </a:ln>
        </p:spPr>
      </p:pic>
      <p:sp>
        <p:nvSpPr>
          <p:cNvPr id="7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…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a to jsme potřebovali. Možný postup j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sou dány bo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vrcholy pravidelného šestiúhelníku vepsaného do kružnice o poloměr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 = │AB 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íme nad průměrem této kružnice vrchol rovnoramenného trojúhelníku s rameny dlouhými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│AB│∙√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délku jeho výšky k základně a vzdálenost mezi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jako poloměry dvou kružnic opsaných z bodu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,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resp.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 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, a sestrojíme tak 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Bod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C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estrojíme např. na průsečíku kružnic se střed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s poloměr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r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Bookman Old Styl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Řešení najdete na další straně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1332000" y="260280"/>
            <a:ext cx="6583320" cy="6116760"/>
          </a:xfrm>
          <a:prstGeom prst="rect">
            <a:avLst/>
          </a:prstGeom>
          <a:ln w="0">
            <a:noFill/>
          </a:ln>
        </p:spPr>
      </p:pic>
      <p:sp>
        <p:nvSpPr>
          <p:cNvPr id="78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51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Jsou dány body A a B. Sestrojte vrcholy C a D čtverce ABCD pouze s použitím kružítk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Zástupný symbol pro zápatí 3"/>
          <p:cNvSpPr/>
          <p:nvPr/>
        </p:nvSpPr>
        <p:spPr>
          <a:xfrm>
            <a:off x="642960" y="637704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000000"/>
                </a:solidFill>
                <a:latin typeface="Bookman Old Style"/>
              </a:rPr>
              <a:t>Mascheronské konstru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Ital Lorenzo Mascheroni dokázal, že všechny konstrukce bodů, k jejichž sestrojení je třeba kružítka a pravítka lze sestrojit pouze kružítke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 to pracnější, zato delší postu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Bookman Old Style"/>
              </a:rPr>
              <a:t>Jednu „mascheronskou“ konstrukci už znáte. Kterou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9528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estrojte vrcholy pravidelného šestiúhelníku vepsaného do dané kružnic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268360" y="1484280"/>
            <a:ext cx="4969080" cy="4549680"/>
          </a:xfrm>
          <a:prstGeom prst="rect">
            <a:avLst/>
          </a:prstGeom>
          <a:ln w="0">
            <a:noFill/>
          </a:ln>
        </p:spPr>
      </p:pic>
      <p:sp>
        <p:nvSpPr>
          <p:cNvPr id="5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Pokusíme se odvodit konstrukci vrcholů čtverce pomocí jeho vlastností a využije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i znalost sestrojení šestiúhelník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a všechny výpočty si vystačíme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s Pythagorovou větou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Bookman Old Style"/>
              </a:rPr>
              <a:t>Nejdříve provedeme několik výpočt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řiřaďte délky a úhly k úsečkám </a:t>
            </a:r>
            <a:br>
              <a:rPr sz="3600"/>
            </a:b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v obrazcích, je-li a =│AB │= │EF 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652320" y="1600200"/>
            <a:ext cx="7839360" cy="4525920"/>
          </a:xfrm>
          <a:prstGeom prst="rect">
            <a:avLst/>
          </a:prstGeom>
          <a:ln w="0">
            <a:noFill/>
          </a:ln>
        </p:spPr>
      </p:pic>
      <p:sp>
        <p:nvSpPr>
          <p:cNvPr id="56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Řešen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563400" y="1600200"/>
            <a:ext cx="80154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Bookman Old Style"/>
              </a:rPr>
              <a:t>Pozor na chybu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14716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a obrázku to vypadá, že velikost úsečky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EI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(červená) je rovna 7mi základním dílkům rastru pozadí (strana 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měří 4 dílky), ale ve skutečnosti je její délka rovn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√</a:t>
            </a:r>
            <a:r>
              <a:rPr b="1" i="1" lang="en-US" sz="2000" spc="-1" strike="noStrike">
                <a:solidFill>
                  <a:srgbClr val="000000"/>
                </a:solidFill>
                <a:latin typeface="Bookman Old Style"/>
              </a:rPr>
              <a:t>3 =a ∙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1,73205080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3995640" y="2637000"/>
            <a:ext cx="3735360" cy="3342960"/>
          </a:xfrm>
          <a:prstGeom prst="rect">
            <a:avLst/>
          </a:prstGeom>
          <a:ln w="0">
            <a:noFill/>
          </a:ln>
        </p:spPr>
      </p:pic>
      <p:sp>
        <p:nvSpPr>
          <p:cNvPr id="65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346716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Nyní se můžeme pustit do původní úloh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Sestrojit vrcholy čtverce kružítkem znamená mít k dispozici dvě délky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Délka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je dána umístěním bodů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a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B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 čtverce, zbývá tedy sestrojit úsečku o velikosti </a:t>
            </a:r>
            <a:r>
              <a:rPr b="1" i="1" lang="en-US" sz="2400" spc="-1" strike="noStrike">
                <a:solidFill>
                  <a:srgbClr val="000000"/>
                </a:solidFill>
                <a:latin typeface="Bookman Old Style"/>
              </a:rPr>
              <a:t>a√2</a:t>
            </a:r>
            <a:r>
              <a:rPr b="0" i="1" lang="en-US" sz="24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Použijeme následující trojúhelník, jehož velikosti stran můžeme přenést z pravidelného šestiúhelník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3995640" y="404640"/>
            <a:ext cx="4802400" cy="5616720"/>
          </a:xfrm>
          <a:prstGeom prst="rect">
            <a:avLst/>
          </a:prstGeom>
          <a:ln w="0">
            <a:noFill/>
          </a:ln>
        </p:spPr>
      </p:pic>
      <p:sp>
        <p:nvSpPr>
          <p:cNvPr id="69" name="Zástupný symbol pro zápatí 3"/>
          <p:cNvSpPr/>
          <p:nvPr/>
        </p:nvSpPr>
        <p:spPr>
          <a:xfrm>
            <a:off x="642960" y="6356520"/>
            <a:ext cx="7572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898989"/>
                </a:solidFill>
                <a:latin typeface="Calibri"/>
              </a:rPr>
              <a:t>Dostupné z Metodického portálu www.rvp.cz, ISSN: 1802-4785, financovaného z ESF a státního rozpočtu ČR. Provozováno Výzkumným ústavem pedagogickým v Pra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6"/>
          <p:cNvSpPr/>
          <p:nvPr/>
        </p:nvSpPr>
        <p:spPr>
          <a:xfrm>
            <a:off x="7415280" y="60206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Autor © David Hanzlíče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6T17:27:27Z</dcterms:created>
  <dc:creator>Mgr. David Hanzlíček</dc:creator>
  <dc:description>Dostupné z Metodického portálu www.rvp.cz, ISSN: 1802-4785, financovaného z ESF a státního rozpočtu ČR. Provozováno Výzkumným ústavem pedagogickým v Praze.</dc:description>
  <dc:language>en-US</dc:language>
  <cp:lastModifiedBy>Martin Klzo</cp:lastModifiedBy>
  <dcterms:modified xsi:type="dcterms:W3CDTF">2010-08-09T11:09:04Z</dcterms:modified>
  <cp:revision>14</cp:revision>
  <dc:subject/>
  <dc:title>Čtverec kružítkem</dc:title>
</cp:coreProperties>
</file>