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4748-59A8-4AD9-BEE4-A0386BBE0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2CE7-5D85-4D56-88D5-B7FF2E633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DD4C-3D3F-485C-BD14-985BE6F1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F2A-11A9-4A5B-8230-999CA8EC3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965D7-E08E-4A88-9B4B-F338A3D64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3564-133F-4BB5-914A-EC821D57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FB28-4FE7-4309-A2FC-8DAD453C2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855B9-997E-46F3-B6C1-83871D8A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5249-E40A-4149-AE97-0233749C5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83A5-3B4E-47F8-878B-5A49B175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38A97-0844-4617-BE37-8A4E476E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198-0601-4F0F-905C-E04B6E14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4C211-9441-4F32-8197-101D0781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9CCFC-C8F8-4636-B2C4-821192C2E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DE20A-70D5-449F-B360-9075102D1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C7DF-D0F4-4076-98F5-0E9B69745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65B9-64FA-45EE-B2BC-828E6D33B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5E08-0DFC-4AB7-8EC6-677E1E03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6843-6A81-4025-8995-D19D8F54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C68B-7A51-4323-A2EC-A24F48DC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0A51-775A-4AE8-9F1D-1DD3D603A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50BB-6DCA-45CD-ABF0-FB8D8A5A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153E-A6A7-4F7A-8BEF-4FC55E29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508B-A725-4886-8108-84D544DA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1027"/>
            <p:cNvGrpSpPr/>
            <p:nvPr/>
          </p:nvGrpSpPr>
          <p:grpSpPr>
            <a:xfrm>
              <a:off x="41040" y="-4680"/>
              <a:ext cx="1012680" cy="6858000"/>
              <a:chOff x="41040" y="-4680"/>
              <a:chExt cx="1012680" cy="6858000"/>
            </a:xfrm>
          </p:grpSpPr>
          <p:sp>
            <p:nvSpPr>
              <p:cNvPr id="2" name="Freeform 1028"/>
              <p:cNvSpPr/>
              <p:nvPr/>
            </p:nvSpPr>
            <p:spPr>
              <a:xfrm flipH="1">
                <a:off x="66600" y="-4680"/>
                <a:ext cx="976320" cy="683280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6832800"/>
                  <a:gd name="textAreaBottom" fmla="*/ 6833160 h 6832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1029"/>
              <p:cNvSpPr/>
              <p:nvPr/>
            </p:nvSpPr>
            <p:spPr>
              <a:xfrm flipH="1">
                <a:off x="61200" y="169740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1030"/>
              <p:cNvSpPr/>
              <p:nvPr/>
            </p:nvSpPr>
            <p:spPr>
              <a:xfrm flipH="1">
                <a:off x="67320" y="1281240"/>
                <a:ext cx="976680" cy="5029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1031"/>
              <p:cNvSpPr/>
              <p:nvPr/>
            </p:nvSpPr>
            <p:spPr>
              <a:xfrm flipH="1">
                <a:off x="67320" y="145800"/>
                <a:ext cx="976680" cy="302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1032"/>
              <p:cNvSpPr/>
              <p:nvPr/>
            </p:nvSpPr>
            <p:spPr>
              <a:xfrm flipH="1">
                <a:off x="61200" y="990000"/>
                <a:ext cx="976680" cy="3481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8120"/>
                  <a:gd name="textAreaBottom" fmla="*/ 348480 h 3481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1033"/>
              <p:cNvSpPr/>
              <p:nvPr/>
            </p:nvSpPr>
            <p:spPr>
              <a:xfrm flipH="1">
                <a:off x="63000" y="679680"/>
                <a:ext cx="976680" cy="4327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32720"/>
                  <a:gd name="textAreaBottom" fmla="*/ 433080 h 43272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34"/>
              <p:cNvSpPr/>
              <p:nvPr/>
            </p:nvSpPr>
            <p:spPr>
              <a:xfrm flipH="1">
                <a:off x="64440" y="37188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035"/>
              <p:cNvSpPr/>
              <p:nvPr/>
            </p:nvSpPr>
            <p:spPr>
              <a:xfrm flipH="1">
                <a:off x="47520" y="3930120"/>
                <a:ext cx="976320" cy="4993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036"/>
              <p:cNvSpPr/>
              <p:nvPr/>
            </p:nvSpPr>
            <p:spPr>
              <a:xfrm flipH="1">
                <a:off x="52920" y="3536640"/>
                <a:ext cx="976680" cy="50076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037"/>
              <p:cNvSpPr/>
              <p:nvPr/>
            </p:nvSpPr>
            <p:spPr>
              <a:xfrm flipH="1">
                <a:off x="53280" y="2397960"/>
                <a:ext cx="976680" cy="30420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04200"/>
                  <a:gd name="textAreaBottom" fmla="*/ 304560 h 30420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038"/>
              <p:cNvSpPr/>
              <p:nvPr/>
            </p:nvSpPr>
            <p:spPr>
              <a:xfrm flipH="1">
                <a:off x="52920" y="3228480"/>
                <a:ext cx="976680" cy="34704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347040"/>
                  <a:gd name="textAreaBottom" fmla="*/ 347400 h 34704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039"/>
              <p:cNvSpPr/>
              <p:nvPr/>
            </p:nvSpPr>
            <p:spPr>
              <a:xfrm flipH="1">
                <a:off x="52920" y="293148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040"/>
              <p:cNvSpPr/>
              <p:nvPr/>
            </p:nvSpPr>
            <p:spPr>
              <a:xfrm flipH="1">
                <a:off x="53280" y="261576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041"/>
              <p:cNvSpPr/>
              <p:nvPr/>
            </p:nvSpPr>
            <p:spPr>
              <a:xfrm flipH="1">
                <a:off x="48240" y="4962600"/>
                <a:ext cx="976680" cy="49932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99320"/>
                  <a:gd name="textAreaBottom" fmla="*/ 499680 h 4993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042"/>
              <p:cNvSpPr/>
              <p:nvPr/>
            </p:nvSpPr>
            <p:spPr>
              <a:xfrm flipH="1">
                <a:off x="55440" y="4547520"/>
                <a:ext cx="976320" cy="50292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043"/>
              <p:cNvSpPr/>
              <p:nvPr/>
            </p:nvSpPr>
            <p:spPr>
              <a:xfrm flipH="1">
                <a:off x="47520" y="5654520"/>
                <a:ext cx="976320" cy="302760"/>
              </a:xfrm>
              <a:custGeom>
                <a:avLst/>
                <a:gdLst>
                  <a:gd name="textAreaLeft" fmla="*/ 360 w 976320"/>
                  <a:gd name="textAreaRight" fmla="*/ 977040 w 97632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1044"/>
              <p:cNvSpPr/>
              <p:nvPr/>
            </p:nvSpPr>
            <p:spPr>
              <a:xfrm flipH="1" rot="16200000">
                <a:off x="361440" y="6191280"/>
                <a:ext cx="345960" cy="9781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78120"/>
                  <a:gd name="textAreaBottom" fmla="*/ 978480 h 9781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1045"/>
              <p:cNvSpPr/>
              <p:nvPr/>
            </p:nvSpPr>
            <p:spPr>
              <a:xfrm flipH="1">
                <a:off x="40680" y="6193440"/>
                <a:ext cx="976680" cy="427680"/>
              </a:xfrm>
              <a:custGeom>
                <a:avLst/>
                <a:gdLst>
                  <a:gd name="textAreaLeft" fmla="*/ -360 w 976680"/>
                  <a:gd name="textAreaRight" fmla="*/ 976680 w 97668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1046"/>
              <p:cNvSpPr/>
              <p:nvPr/>
            </p:nvSpPr>
            <p:spPr>
              <a:xfrm flipH="1">
                <a:off x="40680" y="5883120"/>
                <a:ext cx="988920" cy="375480"/>
              </a:xfrm>
              <a:custGeom>
                <a:avLst/>
                <a:gdLst>
                  <a:gd name="textAreaLeft" fmla="*/ -360 w 988920"/>
                  <a:gd name="textAreaRight" fmla="*/ 988920 w 988920"/>
                  <a:gd name="textAreaTop" fmla="*/ 0 h 375480"/>
                  <a:gd name="textAreaBottom" fmla="*/ 375840 h 375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1047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1048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E494-DF84-4368-996D-860D7931269C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7360"/>
              <a:chOff x="-3240" y="2479680"/>
              <a:chExt cx="9146880" cy="101736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0a2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480" y="278676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2280" y="274536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6040" y="2643480"/>
                <a:ext cx="990360" cy="6681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bee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808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4280" y="2691360"/>
                <a:ext cx="990360" cy="5724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400"/>
                  <a:gd name="textAreaBottom" fmla="*/ 572760 h 5724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80840" y="2650320"/>
                <a:ext cx="990720" cy="667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d1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8400" y="277848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ffc42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424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644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4e3b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3b3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0a22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4FF6-95D2-4965-B6FC-0AE78613765E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ndat.org/photo-6593.html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206280"/>
            <a:ext cx="7772400" cy="230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7200" spc="-1" strike="noStrike">
                <a:solidFill>
                  <a:srgbClr val="4e3b30"/>
                </a:solidFill>
                <a:latin typeface="Times New Roman"/>
              </a:rPr>
              <a:t>Matematický milionář </a:t>
            </a:r>
            <a:endParaRPr b="0" lang="en-US" sz="72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357360" y="5857920"/>
            <a:ext cx="2143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Foto: a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5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8"/>
          <p:cNvSpPr/>
          <p:nvPr/>
        </p:nvSpPr>
        <p:spPr>
          <a:xfrm>
            <a:off x="123840" y="27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25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4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43"/>
          <p:cNvSpPr/>
          <p:nvPr/>
        </p:nvSpPr>
        <p:spPr>
          <a:xfrm>
            <a:off x="-757080" y="2714760"/>
            <a:ext cx="6875280" cy="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4604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61">
            <a:hlinkClick r:id="rId1"/>
          </p:cNvPr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Obdélník 12"/>
          <p:cNvSpPr/>
          <p:nvPr/>
        </p:nvSpPr>
        <p:spPr>
          <a:xfrm>
            <a:off x="0" y="63961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Dostupné z Metodického portálu www.rvp.cz, ISSN: 1802-4785, financovaného z ESF a státního rozpočtu ČR.</a:t>
            </a:r>
            <a:br>
              <a:rPr sz="1200"/>
            </a:br>
            <a:r>
              <a:rPr b="0" i="1" lang="cs-CZ" sz="1200" spc="-1" strike="noStrike">
                <a:solidFill>
                  <a:srgbClr val="000000"/>
                </a:solidFill>
                <a:latin typeface="Times New Roman"/>
              </a:rPr>
              <a:t> Provozováno Výzkumným ústavem pedagogickým v Pra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7" descr="C:\Katka\Studium Vysoká škola\Foto disertačka\100OLYMP\Pocity z matematiky-fotky\11a - Kopie.JPG"/>
          <p:cNvPicPr/>
          <p:nvPr/>
        </p:nvPicPr>
        <p:blipFill>
          <a:blip r:embed="rId2"/>
          <a:stretch/>
        </p:blipFill>
        <p:spPr>
          <a:xfrm>
            <a:off x="2786040" y="3571920"/>
            <a:ext cx="328608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lich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ch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rostou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udá a klesají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2189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efiniční obor funkce kotangens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R - {0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nožina všech x ǂ (2k + 1) ·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množina všech x ǂ k ·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894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terá funkce je v prvním a čtvrté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vadrantu kladná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cos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g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8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Graf funkce y = sin (x +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)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pr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osunut na ose x o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dole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naho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sunut na ose y o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dol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6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ché jso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cosinus, 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2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jádřete velikost úhlu 5 ∙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/6 v míř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tupň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4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5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64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2880" y="198108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aximum neexistuje u funk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kosi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tangen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inus, 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sinus, kotang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7" descr=""/>
          <p:cNvPicPr/>
          <p:nvPr/>
        </p:nvPicPr>
        <p:blipFill>
          <a:blip r:embed="rId2"/>
          <a:stretch/>
        </p:blipFill>
        <p:spPr>
          <a:xfrm>
            <a:off x="1857240" y="2571840"/>
            <a:ext cx="500040" cy="54432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3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12" descr=""/>
          <p:cNvPicPr/>
          <p:nvPr/>
        </p:nvPicPr>
        <p:blipFill>
          <a:blip r:embed="rId4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 25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Určete hodnotu funkce y = cos21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odmocnina3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+ 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-1/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1857240" y="3214800"/>
            <a:ext cx="500040" cy="5443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1857240" y="3857760"/>
            <a:ext cx="357480" cy="4712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2" descr=""/>
          <p:cNvPicPr/>
          <p:nvPr/>
        </p:nvPicPr>
        <p:blipFill>
          <a:blip r:embed="rId3"/>
          <a:stretch/>
        </p:blipFill>
        <p:spPr>
          <a:xfrm>
            <a:off x="1857240" y="4429080"/>
            <a:ext cx="357480" cy="47160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4"/>
          <a:stretch/>
        </p:blipFill>
        <p:spPr>
          <a:xfrm>
            <a:off x="1857240" y="2571840"/>
            <a:ext cx="525600" cy="5713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6"/>
          <p:cNvSpPr/>
          <p:nvPr/>
        </p:nvSpPr>
        <p:spPr>
          <a:xfrm>
            <a:off x="0" y="809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6786720" y="328284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 5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pravdiv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bor hodnot sinx a cos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obor hodnot sinx a cos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cotgx je 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efiniční obor tgx a cotgx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6929280" y="4500720"/>
            <a:ext cx="1143000" cy="30780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2"/>
          <a:stretch/>
        </p:blipFill>
        <p:spPr>
          <a:xfrm>
            <a:off x="6786720" y="3286080"/>
            <a:ext cx="1143000" cy="3081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0" y="6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 000 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Vyberte chybné tvr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sinx je lich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sx je sudá, omeze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funkce tgx je sudá, není omezená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unkce cotgx je lichá, není omezena ani shora ani zd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1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14300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Tangens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je pomě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rot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ek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odvěsny prot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élky odvěsny přilehlé k úhl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a délky přepo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délek odvěsny protilehlé k úhlu 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α</a:t>
            </a: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a odvěsny přileh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0" y="77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2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sin90° 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3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odnota funkce y = tg0º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ní definová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√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1857240" y="4429080"/>
            <a:ext cx="363600" cy="4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4e3b30"/>
                </a:solidFill>
                <a:latin typeface="Times New Roman"/>
              </a:rPr>
              <a:t>Otázka za 5000 Kč</a:t>
            </a:r>
            <a:endParaRPr b="0" lang="en-US" sz="4400" spc="-1" strike="noStrike">
              <a:solidFill>
                <a:srgbClr val="4e3b30"/>
              </a:solidFill>
              <a:latin typeface="Times New Roman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unkce sinus 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periodick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Arial"/>
              </a:rPr>
              <a:t>periodická s periodou 2</a:t>
            </a:r>
            <a:r>
              <a:rPr b="0" lang="el-GR" sz="3200" spc="-1" strike="noStrike">
                <a:solidFill>
                  <a:srgbClr val="ff99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SzPct val="80000"/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riodická s periodou 3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2T08:41:51Z</dcterms:created>
  <dc:creator>Kateřina Crháková</dc:creator>
  <dc:description>Dostupné z Metodického portálu www.rvp.cz, ISSN: 1802-4785, financovaného z ESF a státního rozpočtu ČR. Provozováno Výzkumným ústavem pedagogickým v Praze.</dc:description>
  <dc:language>en-US</dc:language>
  <cp:lastModifiedBy>Štěpánka</cp:lastModifiedBy>
  <dcterms:modified xsi:type="dcterms:W3CDTF">2010-01-31T19:46:09Z</dcterms:modified>
  <cp:revision>44</cp:revision>
  <dc:subject/>
  <dc:title>Matematický milionář</dc:title>
</cp:coreProperties>
</file>