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4BFF-5CA6-40B1-9498-8B0DC3237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32A8-ABAE-461F-AFED-D5CE1114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B3A8-367D-4A72-ABB4-6A2E9025E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FB61-571D-4317-A0BA-444D1341A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2AAF-87C8-4566-92F0-AB11A906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36E6-786A-4EA4-A742-309DD52F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3D2F-C8C5-4D39-BB12-6DB944B7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B794-A544-4412-B0F3-7D6C4A5D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5AE2-8493-4EBF-B819-F1CF43AB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3820-AFA5-4538-A2FF-050C1CEC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4E77-633E-42A2-A381-F1490A76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269C-78E5-4A8F-87A0-1B51440A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4CD8-6E76-4ECA-A2F0-A41997E0041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452600" y="5467320"/>
            <a:ext cx="6281640" cy="10573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0" y="27936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6600"/>
                </a:solidFill>
                <a:latin typeface="Arial"/>
                <a:ea typeface="SimSun"/>
              </a:rPr>
              <a:t>MODULARIZACE VÝUKY EVOLUČNÍ A EKOLOGICKÉ BI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SimSun"/>
              </a:rPr>
              <a:t>CZ.1.07/2.2.00/15.0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5"/>
          <p:cNvSpPr/>
          <p:nvPr/>
        </p:nvSpPr>
        <p:spPr>
          <a:xfrm>
            <a:off x="1511280" y="763560"/>
            <a:ext cx="611820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1511280" y="798480"/>
            <a:ext cx="61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PF_72_100_grey_tr"/>
          <p:cNvPicPr/>
          <p:nvPr/>
        </p:nvPicPr>
        <p:blipFill>
          <a:blip r:embed="rId2"/>
          <a:stretch/>
        </p:blipFill>
        <p:spPr>
          <a:xfrm>
            <a:off x="436680" y="260280"/>
            <a:ext cx="1011240" cy="100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ubz_cz_black_transparent"/>
          <p:cNvPicPr/>
          <p:nvPr/>
        </p:nvPicPr>
        <p:blipFill>
          <a:blip r:embed="rId3"/>
          <a:stretch/>
        </p:blipFill>
        <p:spPr>
          <a:xfrm>
            <a:off x="7696080" y="257040"/>
            <a:ext cx="1008360" cy="10098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"/>
          <p:cNvSpPr/>
          <p:nvPr/>
        </p:nvSpPr>
        <p:spPr>
          <a:xfrm>
            <a:off x="250920" y="1197000"/>
            <a:ext cx="864216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FYLOGENEZE A DIVERZ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HUB A PODOBNÝCH ORGANISMŮ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část přednášky Fylogeneze a diverzita rostl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ém založený na pojetí taxonů v 10. vydání Dictionary of the Fungi (Kirk et al.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pozdějšími úprav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R - Straminipila: Peronospo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hizaria: Plasmodiophorida • Amoebozoa: Mycet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Opisthokonta - Fungi: Chytridiomyco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/ </a:t>
            </a:r>
            <a:r>
              <a:rPr b="0" i="1" lang="cs-CZ" sz="1800" spc="-1" strike="noStrike">
                <a:solidFill>
                  <a:srgbClr val="800000"/>
                </a:solidFill>
                <a:latin typeface="Arial"/>
              </a:rPr>
              <a:t>skupina Zygomycota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 - Mucoromycota / Glomer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Dikarya - Ascomycota: Taphrinomycotina, Saccharomycotina, Peziz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mocné skupiny Deuteromycota a Lichen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Basidiomycota: Pucciniomycotina, Ustilaginomycotina, 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9"/>
          <p:cNvSpPr/>
          <p:nvPr/>
        </p:nvSpPr>
        <p:spPr>
          <a:xfrm>
            <a:off x="380880" y="380880"/>
            <a:ext cx="8382240" cy="60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izogamie (za urč. podmínek se zoospory chovají jako gamety, dochází ke kopulaci), anizogamie i oogamie, vzácněji gametangiogamie nebo somatoga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plývání rhizomyceli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 je obvykle haplobiotický (ale jsou i případy, kdy zygota neprodělá meiozu a vyroste z ní diploidní stélka nesoucí sporangia)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, ek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vodní a půdní organismy, výživa heterotrofní, absorpční (od chytridií odlišené odd.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ocallimasti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sah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bligátní anaerob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 i parazité na různých skupinách řas, hub, rostlin i živočichů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zejména bezobratlých, ale objeveni i u obratlovců – ro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atrachochytr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é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aložen na ultrastruktuře zoospor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dnobuněčné stélky, bez rhizoidů a buněčné stěny (vnitrobuněční parazité) nebo s bun. stěnou a jednoduchým systémem rhizoid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y endobiotické (celé uvnitř buněk hostitele) nebo epibiotické (rhizomycelium v buňce, sporangia vně), příp. interbiotické (rhizomycelium zasahuje do více 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y mono- i polycentrické, sporangia operkulátní i inoperkulát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arakteristický znak zoospor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entrálně umístěná "jaderná zóna", kinetosom nespojen s jádrem, jedna velká tuková kapk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 povrchu je organela spojená mikrotubuly s kinetosome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umposo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zřejmě fotoreceptor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vání 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jčastěji izogamie (i anizo- či somatog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m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obvykle zoospory mohou být gamet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8360" y="5373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46042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2"/>
          <p:cNvSpPr/>
          <p:nvPr/>
        </p:nvSpPr>
        <p:spPr>
          <a:xfrm>
            <a:off x="2666880" y="1676520"/>
            <a:ext cx="213372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táhnou bičík a oblaní se =&gt; průnik do buněk hostitele =&gt; obalí se tlustou stěnou =&gt; vzniká prosorus (letní výtrus); v okolních buňkách současně neorganiz. děl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3" descr="C:\user\Houba\Škola-obrázky\nizsi_rostliny\chytridiomycota\synchytrium_zivotni_cyklus.jpg"/>
          <p:cNvPicPr/>
          <p:nvPr/>
        </p:nvPicPr>
        <p:blipFill>
          <a:blip r:embed="rId1"/>
          <a:stretch/>
        </p:blipFill>
        <p:spPr>
          <a:xfrm>
            <a:off x="4737240" y="1854360"/>
            <a:ext cx="3997080" cy="4647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C:\user\Houba\Škola-obrázky\nizsi_rostliny\chytridiomycota\synchytrium_endobioticum.jpg"/>
          <p:cNvPicPr/>
          <p:nvPr/>
        </p:nvPicPr>
        <p:blipFill>
          <a:blip r:embed="rId2"/>
          <a:stretch/>
        </p:blipFill>
        <p:spPr>
          <a:xfrm>
            <a:off x="380880" y="304920"/>
            <a:ext cx="2264040" cy="3733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5"/>
          <p:cNvSpPr/>
          <p:nvPr/>
        </p:nvSpPr>
        <p:spPr>
          <a:xfrm>
            <a:off x="2666880" y="380880"/>
            <a:ext cx="609624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nchytrium endobiotic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rakovinec bramborový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ospodářsky významný parazit, přísně karanténní choroba (klíčivost spor až 20 let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: z odpočívajících sporangií vyklíčí na jaře zoospory =&gt; když se dotknou očka nebo lenticely na hlíz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380880" y="4038480"/>
            <a:ext cx="487692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stěna prosoru praskne =&gt; d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ky vyhřezne protoplast, který se rozdělí =&gt; sor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í =&gt; p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asknutí stěny buň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titele se uvolní zoospory =&gt; 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ptimálního počasí (teplota, vlhkost) další infekce; 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ucha menší zoospory fungují jako izogamety =&gt; kopulace =&gt; zygota infikuje hostitele =&gt; v jeho buňce vzniká odpočívající (trvalé) sporangium =&gt; přečkává zi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877080" y="407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473876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6" descr="C:\user\Houba\Škola-obrázky\nizsi_rostliny\chytridiomycota\SYNCEN_01.jpg"/>
          <p:cNvPicPr/>
          <p:nvPr/>
        </p:nvPicPr>
        <p:blipFill>
          <a:blip r:embed="rId1"/>
          <a:stretch/>
        </p:blipFill>
        <p:spPr>
          <a:xfrm>
            <a:off x="457200" y="380880"/>
            <a:ext cx="3849840" cy="2444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C:\user\Houba\Škola-obrázky\nizsi_rostliny\chytridiomycota\SYNCEN_03.jpg"/>
          <p:cNvPicPr/>
          <p:nvPr/>
        </p:nvPicPr>
        <p:blipFill>
          <a:blip r:embed="rId2"/>
          <a:srcRect l="4675" t="0" r="4675" b="0"/>
          <a:stretch/>
        </p:blipFill>
        <p:spPr>
          <a:xfrm>
            <a:off x="457200" y="2895480"/>
            <a:ext cx="1981080" cy="1443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C:\user\Houba\Škola-obrázky\nizsi_rostliny\chytridiomycota\rhizophydium.jpg"/>
          <p:cNvPicPr/>
          <p:nvPr/>
        </p:nvPicPr>
        <p:blipFill>
          <a:blip r:embed="rId3"/>
          <a:stretch/>
        </p:blipFill>
        <p:spPr>
          <a:xfrm>
            <a:off x="457200" y="4419720"/>
            <a:ext cx="3241800" cy="1989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9"/>
          <p:cNvSpPr/>
          <p:nvPr/>
        </p:nvSpPr>
        <p:spPr>
          <a:xfrm>
            <a:off x="2514600" y="2870280"/>
            <a:ext cx="23493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ynchytrium endobiotic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– nahoře symptomy napadení na bramboro-vých hlízách, vlevo odpočívající sporangi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0" descr="C:\user\Houba\Škola-obrázky\nizsi_rostliny\chytridiomycota\polyphagus_euglenae.jpg"/>
          <p:cNvPicPr/>
          <p:nvPr/>
        </p:nvPicPr>
        <p:blipFill>
          <a:blip r:embed="rId4"/>
          <a:stretch/>
        </p:blipFill>
        <p:spPr>
          <a:xfrm>
            <a:off x="4952880" y="96840"/>
            <a:ext cx="3848400" cy="52372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1"/>
          <p:cNvSpPr/>
          <p:nvPr/>
        </p:nvSpPr>
        <p:spPr>
          <a:xfrm>
            <a:off x="3809880" y="4813200"/>
            <a:ext cx="495324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lš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stup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&lt;=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hizophy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padá pylová zrna ve vodě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lyphag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á interbiotické stélky, rhizomy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ium napadá až 50 krásnooček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. euglen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epibiotický parazit řas a 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380880" y="4390920"/>
            <a:ext cx="4572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Rhizophydium pollinis-pini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(„kuličky“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yl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rnech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80880" y="380880"/>
            <a:ext cx="838224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kupina oddělení: </a:t>
            </a:r>
            <a:r>
              <a:rPr b="0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ZYGOMYCOTA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– HOUBY SPÁJI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nohojaderné cenocytické hyfy, přehrádky většinou oddělují jen rozmnožovací struktury (neplatí absolutně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vývojově odvozených skupin již dochází k tvorbě přehrádek, ale zůstávají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ícejaderné úseky (obdoba sifonokladální stélk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klad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ložkou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ěn j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itin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provázen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itosanem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p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iným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uk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 rozmnožování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e sporangiích se tvoř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v hyfách se tvoří tlustostěnné chlamydosp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a sporangiospor: na myceliu se vytvoří svazky sporangioforů =&gt; vrcholové části zduří =&gt; vytvoří se sporangium (obvykle kulovité) =&gt; sem se přesune část cytoplazmy s jádry =&gt; z centrální části vznikne tzv. kolumela (střední sloupek, přetrvávající i po rozpadu sporangia), cytoplazma v periferní části se rozdělí =&gt; části se obalí stěnou =&gt; sp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ást sporangioforu pod sporangiem je u některý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ruh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šířena v tzv. apofýz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původních typů mnohosporová sporangia, vývojov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ndence vede 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osporovým (podobně jako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dd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onosporomycot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tu dv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 stě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a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 stěna spor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zdíl oproti konidi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02_gongronella_sporangia"/>
          <p:cNvPicPr/>
          <p:nvPr/>
        </p:nvPicPr>
        <p:blipFill>
          <a:blip r:embed="rId1"/>
          <a:srcRect l="11811" t="14510" r="17716" b="7255"/>
          <a:stretch/>
        </p:blipFill>
        <p:spPr>
          <a:xfrm>
            <a:off x="6539040" y="4205160"/>
            <a:ext cx="2147760" cy="19414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4419720" y="5751360"/>
            <a:ext cx="213336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Gongronella butleri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zygomycetes.org/index.php?id=90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705720" y="4357800"/>
            <a:ext cx="106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olumela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6716880" y="5424480"/>
            <a:ext cx="106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pofýza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227640" y="40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21164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97526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9878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80880" y="380880"/>
            <a:ext cx="8382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ová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zo- (vzácněji anizo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angiogam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é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značení "zygogamie"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lývání gametangi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mothal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ruh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pulace gametangi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 ze stejného myceli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eterothal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ruh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usí být z různý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í (+ a –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ůbě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ohl. proces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výběžky z myceli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emotakticky přitahovány =&gt; kontakt, tvoří se na nich progametangia =&gt; jejich oddělení přehrádkou =&gt; mnohojaderná gametangia =&gt; splynutí, plazmogamie a karyogamie =&gt; zygota =&gt; vytvoří se zygosporangium, obsahující 1 tlustostěnnou zygosporu - odpočívající stadium =&gt; po období klidu klíčí hyfo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angia a následně zygospory jsou neseny rozšířenými konci hyf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uspenz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některých zástupců na suspenzorech vyrůstají hyfy, které obalují zygosporu (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kterých až úplně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edzvěst tvorby plodnice u vývojově pokročilejších pododdělení (připomínají primitivní kleistothecium u vřeckatých hub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 meiozi dochází při zrání nebo klíčení zyg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živ. cyklus je haplobiotic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C:\user\Houba\Škola-obrázky\nizsi_rostliny\zygomycota\bot604.JPG"/>
          <p:cNvPicPr/>
          <p:nvPr/>
        </p:nvPicPr>
        <p:blipFill>
          <a:blip r:embed="rId1"/>
          <a:stretch/>
        </p:blipFill>
        <p:spPr>
          <a:xfrm>
            <a:off x="3048120" y="304920"/>
            <a:ext cx="5632200" cy="30286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2819520" y="3124080"/>
            <a:ext cx="601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R. Moore, W. D. Clark, K. R. Stern &amp; D. Vodopich: Botany.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987640" y="98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987640" y="263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277017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207949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80880" y="380880"/>
            <a:ext cx="8382240" cy="11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, ek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saprofyté půdní, koprofilní aj., některé skupiny zahrnují parazity rostlin, hub i živočich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ada druhů využívána v biotechnologii pro produkci různých látek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07_mucorales_zygospores"/>
          <p:cNvPicPr/>
          <p:nvPr/>
        </p:nvPicPr>
        <p:blipFill>
          <a:blip r:embed="rId1"/>
          <a:stretch/>
        </p:blipFill>
        <p:spPr>
          <a:xfrm>
            <a:off x="6400800" y="1349280"/>
            <a:ext cx="2352600" cy="2895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06_mucor_zygospora"/>
          <p:cNvPicPr/>
          <p:nvPr/>
        </p:nvPicPr>
        <p:blipFill>
          <a:blip r:embed="rId2"/>
          <a:srcRect l="0" t="15586" r="0" b="19483"/>
          <a:stretch/>
        </p:blipFill>
        <p:spPr>
          <a:xfrm>
            <a:off x="6400800" y="4267080"/>
            <a:ext cx="2354400" cy="21513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380880" y="1368360"/>
            <a:ext cx="59436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MUCO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uc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většiny druhů málo přehrádkované myceliu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někt. druhů se v tekutých médiích vytvoří přehrádky nebo mycelium rozpadne na buň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zv. dimorfismus (různý charakter stélky v různých podmínkách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a mnohosporová (až 1000 spor),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vozenějších typů méně spor ve sporangiu (až jed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správně označováno za "konidii"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romě pohlavně vzniklých zygospor tvoří některé druhy též partenogeneticky tzv. azygosp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ětšinou saprofyté na půdě, trusu, potraviná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ucor, Rhizop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ropidlovec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ygorhynchus, Pilobo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měchomršť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d sporangiem má vak, v němž se hromadí voda =&gt; zvětšující se tlak nakonec odmrští celé sporangium), některé druhy i parazitické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užití: fermentace cukrů a bílkovin, výroba různých organických kysel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6357960" y="5932440"/>
            <a:ext cx="24382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Mucor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ygospora se suspenzo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 rot="16200000">
            <a:off x="6394320" y="3435120"/>
            <a:ext cx="449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www.med.ncku.edu.tw/HsuML/mycology/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圖片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Zygospores_of_Mucorales_drawing.jp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6346800" y="4245120"/>
            <a:ext cx="15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www.dipbot.unict.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sistematica_es/Mucor.htm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64360" y="836640"/>
            <a:ext cx="1627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ygospory rodů řádu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Mucora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22560" y="1341360"/>
            <a:ext cx="24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UCOR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012000" y="407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207009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user\Houba\Škola-obrázky\nizsi_rostliny\zygomycota\08_SpinnelusFusiger2.jpg"/>
          <p:cNvPicPr/>
          <p:nvPr/>
        </p:nvPicPr>
        <p:blipFill>
          <a:blip r:embed="rId1"/>
          <a:stretch/>
        </p:blipFill>
        <p:spPr>
          <a:xfrm>
            <a:off x="479520" y="457200"/>
            <a:ext cx="2214360" cy="243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user\Houba\Škola-obrázky\nizsi_rostliny\zygomycota\11_pilobolus.jpg"/>
          <p:cNvPicPr/>
          <p:nvPr/>
        </p:nvPicPr>
        <p:blipFill>
          <a:blip r:embed="rId2"/>
          <a:stretch/>
        </p:blipFill>
        <p:spPr>
          <a:xfrm>
            <a:off x="2743200" y="457200"/>
            <a:ext cx="3429000" cy="2430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1" name="Text Box 4"/>
          <p:cNvSpPr/>
          <p:nvPr/>
        </p:nvSpPr>
        <p:spPr>
          <a:xfrm>
            <a:off x="6248520" y="380880"/>
            <a:ext cx="259056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Houbáš,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pinellus fusiger –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arazit na helmovce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Mirek Junek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www.idsystem.cz/mushrooms/fotoframe.ht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: Měchomršť,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Pilobolus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p. – koprofilní druh, natáčí a vystřeluje sporangia ke světlu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R. Moore, W. D. Clark, K. R. Stern &amp; D. Vodopich: Botany. - 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831708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46912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\Houba\Škola-obrázky\nizsi_rostliny\zygomycota\91_glomus.jpg"/>
          <p:cNvPicPr/>
          <p:nvPr/>
        </p:nvPicPr>
        <p:blipFill>
          <a:blip r:embed="rId1"/>
          <a:stretch/>
        </p:blipFill>
        <p:spPr>
          <a:xfrm>
            <a:off x="4648320" y="347760"/>
            <a:ext cx="4044960" cy="39956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2133720" y="2035080"/>
            <a:ext cx="251460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getativní stélka je cenocytická, většinou se netvoří sporangi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le chlamydosp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C:\user\Houba\Škola-obrázky\nizsi_rostliny\zygomycota\92_glomus_spore.jpg"/>
          <p:cNvPicPr/>
          <p:nvPr/>
        </p:nvPicPr>
        <p:blipFill>
          <a:blip r:embed="rId2"/>
          <a:srcRect l="0" t="0" r="0" b="6304"/>
          <a:stretch/>
        </p:blipFill>
        <p:spPr>
          <a:xfrm>
            <a:off x="925560" y="2209680"/>
            <a:ext cx="1096920" cy="1427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C:\user\Houba\Škola-obrázky\nizsi_rostliny\zygomycota\93_glomeromycota_arbuscule.jpg"/>
          <p:cNvPicPr/>
          <p:nvPr/>
        </p:nvPicPr>
        <p:blipFill>
          <a:blip r:embed="rId3"/>
          <a:stretch/>
        </p:blipFill>
        <p:spPr>
          <a:xfrm>
            <a:off x="457200" y="3809880"/>
            <a:ext cx="1563840" cy="17528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380880" y="404640"/>
            <a:ext cx="4267440" cy="17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GLOM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LOMER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ecentně až na úrovni samostatné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dělení jsou hodnoceny houb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dřívějšíh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om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2133720" y="3143160"/>
            <a:ext cx="297180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to houby vytvářejí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lkým počtem druhů cévnatých rostlin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rbuskulární mykorhi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2133720" y="4210200"/>
            <a:ext cx="670536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dříve vezikulo-arbuskulár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 VAM; má ji asi 80 % cévnatých rostlin): mycelium proniká d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stlinných buněk a vytváří tam větvené keříčkovité útvary - arbuskuly (někdy též zásobní měchýřky - vezikuly) =&gt; výměna látek pomáhá růstu a výživě hostitele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omu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j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 rot="16200000">
            <a:off x="454680" y="2019600"/>
            <a:ext cx="16016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rbuskulus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chlamydospor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80880" y="3618000"/>
            <a:ext cx="17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tolweb.org/Glomeromyco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21164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373043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80880" y="380880"/>
            <a:ext cx="838224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Říše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PISTHOKO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říše (vývojová větev):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FUNGI (MYCOTA)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– HOU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ičíkaté buňky pouze u vývojově původních skupi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ze zde zmíněných je t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d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omycot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pokročilých hu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s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ytvořena žádn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ičíkatá sta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•  jednodušší ty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s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dnobuněčné (bičíkaté typy, vnitrobuněční parazité), případně jednotlivé buňky schopné tvořit pučivé pseudomycelium (kvasink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vláknit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vykle tvořena houbovými vlák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fam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ve vegetativní fázi tvořícím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odhoubí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odušší vláknité typy mají stélky nepřehrádkované (přehrádky oddělují pouze reprodukční struktury), vývojově odvozenější mají hyfy rozdělené centripetálně rostoucími přehrádkam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ept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ptum má uprostřed pór (různého typu u různých skupin), kterým mohou procházel látky i organel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m u parazitických hub může růst na povrchu pletiv hostitele, ale i vnikat dovnitř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intercelulárně nebo intracelulárně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takovémto myceliu se vytvářejí apresoria (jen přichycovací funkce) nebo haustoria (vnikající do buněk, slouží k absorpci látek z napadené buň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588000" y="836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45964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704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03538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80880" y="380880"/>
            <a:ext cx="838224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určitých fázích ži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tníh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yklu (např. plodnice) některých skupin se z hyf tvoří nepravá pletiva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ektenchym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-li ještě patrná hyfová struktura, jedná se 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zenchy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naproti tomu jsou-li již buňky pozměněny a jednotlivé hyfy nejsou zřetelné, jde 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parenchy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ektenchymatické struktury se kromě plodnic tvoří i ve sterilních útvarech, jako jso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rom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terilní útvar, ve kterém se tvoří plodnice)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kleroc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louží k přetrvání nepříznivých podmínek)</a:t>
            </a:r>
            <a:br>
              <a:rPr sz="1800"/>
            </a:br>
            <a:br>
              <a:rPr sz="12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něčná stě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vícevrstevná, složená z lamel tvořených různě orientovanými fibrilam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důležitější složkou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č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it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kombinaci s jinými složkami;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kterých skupin chitin chyb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buňkách vlastních hub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b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akékol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sti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fotosyntetické pigmenty; jsou však přítomna jiná barviva (karoteny, xanthofyly aj.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jádře jedno nebo více jadérek, obvykle malý počet chromosom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tochondrie mají ploché přepážk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 přítomny vakuoly, chybí pulzující vakuol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sobní látk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nejčastěj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ykoge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ojediněle i škrob (u primitivních vřeckatý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8360" y="220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5395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80880" y="380880"/>
            <a:ext cx="8382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životním cyklu hub nacházíme buď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hlavní i nepohlavní nebo jen nepohlav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adium, kdy houba vytváří nepohlavn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t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se nazývá stadium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imperfekt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adium, kdy houba vytváří pohlavn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ei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se nazývá stadium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fektní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-li u dané houby v dané fázi přítomno perfektní stadium, mluvíme 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leomorfě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ní-li u dané houby v dané fázi přítomno perfektní stadium (= je přítomno pouze imperfektní stadium), mluvíme 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namorfě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&lt;= zde je důvod, proč nelze zcela klást rovnítko mezi anamorfu = imperfektní stadium a teleomorfu = perfektní stadi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zhodující je (ne-)přítomnost perfektního stadia, takže když se v dané fázi tvoří současně mitospory a meiospory (tedy imperfektní i perfektní stadium), jedná se také o teleomorf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a v celém životním cyklu (tj. anamorfa i teleomorfa dohromady) se označuje jak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lomorf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-li v životním cyklu jen pohlavní rozm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žování, je t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eiotická holomorf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-li v životním cyklu jen nepohlavní rozm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žování, je t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itotická holomorfa; v případě obou typů rozm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de o pleomorfickou holomorfu (mluvíme pak také 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ách s pleomorfickým ži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tní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ykl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836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527583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80880" y="380880"/>
            <a:ext cx="533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zmnožování probíhá v haploidní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ploidní fáz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jednodušší způsob je prostá fragmentace hyf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 spory vznikaj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ndogenně ve sporangiích – označovány jak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orangiospory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epohyblivé, typické pro skupin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o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pohyblivé, typické pr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hytr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xogenně na hyfách (specializovaných odnožích zvaných konidiofory) – nazývají s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nidi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běžné u hub z odděl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sc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 menší míř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as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nidiofory s konidiemi se tvoří buď izolovaně nebo v útvarech zvaný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nidioma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remie (= synnema; svazek konidioforů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C:\user\Houba\Škola-obrázky\nizsi_rostliny\zygomycota\01_sporangium.jpg"/>
          <p:cNvPicPr/>
          <p:nvPr/>
        </p:nvPicPr>
        <p:blipFill>
          <a:blip r:embed="rId1"/>
          <a:stretch/>
        </p:blipFill>
        <p:spPr>
          <a:xfrm>
            <a:off x="5727600" y="457200"/>
            <a:ext cx="2919600" cy="3352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380880" y="46036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rodochium (palisáda konidioforů v ložisku na povrchu substrátu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cervulus (shluk konidioforů pod povrchem plativa hostitele, u parazitů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yknida (lahvicovitý útvar s vnitřkem vystlaným konidiof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 více u pomocného odděl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Deut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5627520" y="3809880"/>
            <a:ext cx="31244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porangium; v jeho pravé části praská stěna a vystupují spory.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R. Moore, W. D. Clark, K. R. Stern &amp; D. Vodopich: Botany, 199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364000" y="321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75557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5105520" y="380880"/>
            <a:ext cx="36576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kladní typy vzniku konidií: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halický: hyfa se rozdělí přepážkami a pak rozpadne na jednotl. buňky =&gt; thalokonidie = arthrokonidie (thalokonidiemi jsou v jistém smyslu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lamydospory - tlustostěnné přetrvávající buňky vznikající na myceliu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lastický: konidie vypučí z konidiogenní buňky holoblasticky (účast všech vrstev bun. stěny) nebo enteroblasticky (vnější stěna se protrhne, konidii utvá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nitřní vrstva/-y/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rospory (vypučí 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ky a následně se oddělí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č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ou), fialospory (vytvářejí se ve speciali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van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4648320" cy="43959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380880" y="5029200"/>
            <a:ext cx="83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kách - fialidách a uvolňují se ústím z těchto buněk), anelospory (také se vytvářejí ve speciali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vaný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uňkách; každ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lší konidie protrhne přepážku po oddělení předchoží konidie =&gt; vznikaj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"límečky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700360" y="458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5865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80880" y="380880"/>
            <a:ext cx="8382240" cy="65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zmnožová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vrcholové skupiny vlastních hub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Dikary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iz dále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ní spojena plazmogamie s karyogami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aryogamie následuje s určitým zpožděním a do životního cyklu je vložen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otická fáz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značovaná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+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charakteristická tzv. konjugovanými mitózami (současné mitózy obou jader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lý cyklus tedy je: haploidní fáze =&gt; plazmogamie =&gt; dikaryofáze =&gt; karyogamie =&gt; diploidní fáze (obvykle omezena jen na zygotu) =&gt; meioza =&gt; zpět haplofáz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ůzn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py pohlavního proces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u vlastních hub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ogamie (typická pr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angiogamie (typická hlavně pr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ygomycota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Asc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o-gametangiogamie (spermatizace, oplodně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amičího gametang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amčí spermacií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té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com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mato-gametangiogamie (vzácná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matogamie (splývání hyf, hlavně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s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osomatogami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spermatizac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z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lodně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matické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yf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rmaci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utogamie (ojediněle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c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ří-li s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s výjimkou bičíkatých hub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om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sou pohyblivé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šech možných typů: haplobiotický, haplo-diplobiotický, vzácný je diplobiotický (kvasinky) a naopak velmi častý haplo-dikaryotický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hub z odděl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com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sidiom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návaznosti na pohlavní rozmnožování vznikají spory na specializovaných útvare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dnic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8360" y="148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388360" y="234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371162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67352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80880" y="380880"/>
            <a:ext cx="838224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, ek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 i parazité, vytvářejí symbiotické vztahy (lichenismus, mykorhiza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stou po celém světě, ve všech možných biotope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ůda, vzduch, voda (méně časté), v případě parazitů hostitelské organism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podářské využit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dlé druhy, výroba antibiotik, ale i jedovaté a patogenní houby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ematické členě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 jednotlivá oddělení: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lastocla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/to zde nebude dále zmíněno/ (jednobuněčné nebo tvoří cenocytické mycelium, bičíkaté zoosp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rimárně cenocytické mycelium, chybí dikaryofáze i plodnice, tvoří se 1 meiospo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; je to polyfyletická skupina (s příbuzenskými vazbami na různé skupiny odd.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hytr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b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lastocla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, zde bude zmíněno odděl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Muco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sledující oddělení už jsou považována za monofyletický „vrchol vývoje hub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omer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endomykorhiz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y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děle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řív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azené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chozímu, ale podle současných poznatků je sesterskou skupinou následující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Dikary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vrcholová skupina, v životním cyklu přítomna dikaryotická fáz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sc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přehrádkované mycelium /příp. jednobuněčné – kvasinky/, tvoří se plodnice /ne u všech, viz dále/, meiospory vznikají endogenně ve vřeckách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as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též přehrádkované mycelium /příp. jednobuněčné – kvasink. typy/, tvorba plodnic /ne u všech/, ale meiospory vznikají exogenně na bazidií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7"/>
          <p:cNvSpPr/>
          <p:nvPr/>
        </p:nvSpPr>
        <p:spPr>
          <a:xfrm>
            <a:off x="380880" y="386064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 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zoospory vznikají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zoosporangiích (mono- nebo polycentrické typ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angia zpočátku mnohojaderná =&gt; rozdělení na 1-jaderné části =&gt; jednotlivé zoosp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tevírání sporangia: víčkem u operkulátních typů, jinak (obvykle štěrbinou)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operkulátní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typů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dnobičíkaté, bičík opistokontní (vychází ze zadního kon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buň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není péřit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typy_stelek_chytridiomycetes"/>
          <p:cNvPicPr/>
          <p:nvPr/>
        </p:nvPicPr>
        <p:blipFill>
          <a:blip r:embed="rId1"/>
          <a:stretch/>
        </p:blipFill>
        <p:spPr>
          <a:xfrm>
            <a:off x="6048360" y="347760"/>
            <a:ext cx="2714760" cy="40719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9"/>
          <p:cNvSpPr/>
          <p:nvPr/>
        </p:nvSpPr>
        <p:spPr>
          <a:xfrm>
            <a:off x="380880" y="382680"/>
            <a:ext cx="563904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CHYTRIDIOMYCOTA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- CHYTRI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CHYTRIDI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u jednodušších typů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lokarpick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aková je vždy jednobuněčná),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vozenější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ukarpická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tváří se rhizoidy (mohou/nemusí být odděleny o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y přehrádkou), nevětvené nebo větvené =&gt; rhizomyceliu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odvozenější typy tvoř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nocytické myc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něčnou stěnou (chitin a polyglukany), rozdělené tzv. pseudosepty (perforované přehrádky z jiných látek než buněčná stě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01200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213827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5:01:41Z</dcterms:created>
  <dc:creator>Daniel Dvořák</dc:creator>
  <dc:description/>
  <dc:language>en-US</dc:language>
  <cp:lastModifiedBy>houba</cp:lastModifiedBy>
  <dcterms:modified xsi:type="dcterms:W3CDTF">2020-10-19T20:49:15Z</dcterms:modified>
  <cp:revision>175</cp:revision>
  <dc:subject/>
  <dc:title>Snímek 1</dc:title>
</cp:coreProperties>
</file>