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26.png" ContentType="image/png"/>
  <Override PartName="/ppt/media/image31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D4B-E027-4CC7-A80A-61A890C4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01D-DE91-4B75-AA24-37A3484F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91EA-8218-432B-973A-2516CB4D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4D9-051C-4913-BC22-550B2EC2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7334-2C56-466A-913B-D4D47FB8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6210-EE1E-421E-9661-8A01ED99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3344-07E0-41AA-AF2B-53CFE508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5FFF-1E21-4878-9D3B-96193BBC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B24-779B-41AC-864B-3B1D4CC0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35C1-9344-47C4-A469-52AE331D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B51-D14C-4315-99D2-4003972A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7F0E-27C2-4D30-968A-C2449076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8350-6D5B-437F-89EB-6553E1EBA31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hyperlink" Target="http://research.kahaku.go.jp/botany/chii-e/02/index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hyperlink" Target="http://www.earthlife.net/lichens/lichen.html" TargetMode="External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arthlife.net/lichens/lichen.html" TargetMode="External"/><Relationship Id="rId3" Type="http://schemas.openxmlformats.org/officeDocument/2006/relationships/image" Target="../media/image33.jpeg"/><Relationship Id="rId4" Type="http://schemas.openxmlformats.org/officeDocument/2006/relationships/hyperlink" Target="http://www.vesmir.kav.cas.cz/Madagaskar" TargetMode="External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hyperlink" Target="http://biology.unm.edu/ccouncil/Biology_203/Summaries/Fungi.htm" TargetMode="External"/><Relationship Id="rId5" Type="http://schemas.openxmlformats.org/officeDocument/2006/relationships/hyperlink" Target="http://www.biology.ed.ac.uk/research/groups/jdeacon/microbes/lichen.htm" TargetMode="External"/><Relationship Id="rId6" Type="http://schemas.openxmlformats.org/officeDocument/2006/relationships/hyperlink" Target="http://www.anbg.gov.au/cryptogams/underworld/panel-4/index.html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lichen.com/bigpix/Ccoccophorum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naturephoto-cz.eu/hypogymnia-physodes-picture-1610.html" TargetMode="External"/><Relationship Id="rId3" Type="http://schemas.openxmlformats.org/officeDocument/2006/relationships/image" Target="../media/image42.jpeg"/><Relationship Id="rId4" Type="http://schemas.openxmlformats.org/officeDocument/2006/relationships/hyperlink" Target="http://www.mezistromy.cz/cz/fotogalerie/byliny" TargetMode="External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pis.moag.gov.il/ppis/plant_disease_gallery/D_S_W_S/Rosellinia_necatrix_08-9.htm" TargetMode="External"/><Relationship Id="rId3" Type="http://schemas.openxmlformats.org/officeDocument/2006/relationships/hyperlink" Target="http://www.ppis.moag.gov.il/ppis/plant_disease_gallery/D_S_W_S/Rosellinia_necatrix_08-9.htm" TargetMode="External"/><Relationship Id="rId4" Type="http://schemas.openxmlformats.org/officeDocument/2006/relationships/hyperlink" Target="http://www.ppis.moag.gov.il/ppis/plant_disease_gallery/D_S_W_S/Rosellinia_necatrix_08-9.htm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eppo.org/QUARANTINE/fungi/Mycosphaerella_pini/SCIRPI_images.htm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www.uoguelph.ca/~gbarron/MISC2003/nectriac.htm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www.pri.wur.nl/UK/research/research+themes/Interaction+between+plants+pests+and+diseases/photowheat/" TargetMode="External"/><Relationship Id="rId11" Type="http://schemas.openxmlformats.org/officeDocument/2006/relationships/hyperlink" Target="http://www.pri.wur.nl/UK/research/research+themes/Interaction+between+plants+pests+and+diseases/photowheat/" TargetMode="External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inra.fr/hyp3/images/6030092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plante-doktor.dk/phoma.htm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www.mnhn.fr/microchampignons/joelle.html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www.globalcyran.com/usmicro/newimages/Fusarium.jpg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otany.hawaii.edu/faculty/wong/Bot201/Deuteromycota/rhizoc2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botany.hawaii.edu/faculty/wong/Bot201/Deuteromycota/Sclerotium_rolfsii1.jpg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www.commanster.eu/commanster/Mushrooms/Lichens/Lichens/Lepraria.incana.html" TargetMode="External"/><Relationship Id="rId7" Type="http://schemas.openxmlformats.org/officeDocument/2006/relationships/image" Target="../media/image19.jpeg"/><Relationship Id="rId8" Type="http://schemas.openxmlformats.org/officeDocument/2006/relationships/hyperlink" Target="http://www.bio.tamu.edu/USERS/xlin/research1.html" TargetMode="External"/><Relationship Id="rId9" Type="http://schemas.openxmlformats.org/officeDocument/2006/relationships/hyperlink" Target="http://www.bio.tamu.edu/USERS/xlin/research1.html" TargetMode="External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naturfoto.cz/kalichovka-luzni-fotografie-3676.html" TargetMode="External"/><Relationship Id="rId3" Type="http://schemas.openxmlformats.org/officeDocument/2006/relationships/hyperlink" Target="http://www.lichen.com/bigpix/Oumbellifera.html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hyperlink" Target="http://www.lichens.lastdragon.org/Parmelia_sulcata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backyardnature.net/lichens.htm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F_72_100_grey_tr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ubz_cz_black_transparent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rostl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 Fungi: Chytridiomyc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 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 / Glomeromyc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800000"/>
                </a:solidFill>
                <a:latin typeface="Arial"/>
              </a:rPr>
              <a:t> pomocné skupiny Deuteromycota a Lich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4419720" y="380880"/>
            <a:ext cx="43434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heteromer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iferencova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tlivé vrstvy: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vrchní kůr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ř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v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zodiametrick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 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ykobiont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mechanická ochra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mezení výparu)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e vrstv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onidi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buňky fotobionta, mezi nimi řídce hyfy (pronik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buněk haustorii nebo ne)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rstv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ňov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sahuje rozvolněná vlákna mykobionta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ípadně je u některých vytvořena spodní kůra stejné stavby jako svrchní (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í bývají vytvořeny "otvory", jimiž proniká dřeňová vrstva na podkla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fel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louží pro čerpání vody a živin; je-li namísto "otvorů" spodní kůra přerušena, mluvíme o pseudocyfelách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ze spodní kůry mohou vybíhat do substrát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hizi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obdoba kořín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7" descr="stavba_stelky_a_plodnic_lisejnik"/>
          <p:cNvPicPr/>
          <p:nvPr/>
        </p:nvPicPr>
        <p:blipFill>
          <a:blip r:embed="rId1"/>
          <a:stretch/>
        </p:blipFill>
        <p:spPr>
          <a:xfrm>
            <a:off x="457200" y="152280"/>
            <a:ext cx="3924360" cy="6705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thallus_foliose-lichen_cross-section"/>
          <p:cNvPicPr/>
          <p:nvPr/>
        </p:nvPicPr>
        <p:blipFill>
          <a:blip r:embed="rId2"/>
          <a:stretch/>
        </p:blipFill>
        <p:spPr>
          <a:xfrm>
            <a:off x="2438280" y="152280"/>
            <a:ext cx="3429000" cy="2227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9"/>
          <p:cNvSpPr/>
          <p:nvPr/>
        </p:nvSpPr>
        <p:spPr>
          <a:xfrm>
            <a:off x="2395440" y="2209680"/>
            <a:ext cx="274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research.kahaku.go.jp/botany/chii-e/02/index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6_liche_10_heteromericka-stelka.MP3" descr=""/>
          <p:cNvPicPr/>
          <p:nvPr/>
        </p:nvPicPr>
        <p:blipFill>
          <a:blip r:embed="rId4"/>
          <a:stretch/>
        </p:blipFill>
        <p:spPr>
          <a:xfrm>
            <a:off x="5364000" y="220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13383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9"/>
          <p:cNvSpPr/>
          <p:nvPr/>
        </p:nvSpPr>
        <p:spPr>
          <a:xfrm>
            <a:off x="2438280" y="380880"/>
            <a:ext cx="63248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typů stélek podl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rf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le morfologie dělíme vlastně jen heteromerické stélky; homeomerické jsou rosolovité (díky slizu cyanobionta), vláknité nebo tzv. leprariové (práškovité, rozpadav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namorfní stadium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rovit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celou sv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chou přirostlá (nebo vrostlá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substrát, obvykle chyb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dní kůr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upenit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takté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ožen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o ploch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le k podkla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růstá jen některými míst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ást zlaločnatělé stélky můž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kladu odstávat; na spod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aně stélky bývají vytvoře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hizi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"kořenující" svazky hy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růstající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bstrá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crustose-ts"/>
          <p:cNvPicPr/>
          <p:nvPr/>
        </p:nvPicPr>
        <p:blipFill>
          <a:blip r:embed="rId1"/>
          <a:stretch/>
        </p:blipFill>
        <p:spPr>
          <a:xfrm>
            <a:off x="496800" y="1574640"/>
            <a:ext cx="1865520" cy="1032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foliose-ts"/>
          <p:cNvPicPr/>
          <p:nvPr/>
        </p:nvPicPr>
        <p:blipFill>
          <a:blip r:embed="rId2"/>
          <a:stretch/>
        </p:blipFill>
        <p:spPr>
          <a:xfrm>
            <a:off x="457200" y="2717640"/>
            <a:ext cx="1909800" cy="135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leprose-ts"/>
          <p:cNvPicPr/>
          <p:nvPr/>
        </p:nvPicPr>
        <p:blipFill>
          <a:blip r:embed="rId3"/>
          <a:stretch/>
        </p:blipFill>
        <p:spPr>
          <a:xfrm>
            <a:off x="554040" y="457200"/>
            <a:ext cx="1808280" cy="1009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4"/>
          <p:cNvSpPr/>
          <p:nvPr/>
        </p:nvSpPr>
        <p:spPr>
          <a:xfrm>
            <a:off x="326880" y="4175280"/>
            <a:ext cx="2133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Leprariová, korovitá a lupenitá stélka na příčném řez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earthlife.net/lichens/lichen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21_korovita"/>
          <p:cNvPicPr/>
          <p:nvPr/>
        </p:nvPicPr>
        <p:blipFill>
          <a:blip r:embed="rId5"/>
          <a:stretch/>
        </p:blipFill>
        <p:spPr>
          <a:xfrm>
            <a:off x="6019920" y="1676520"/>
            <a:ext cx="2666880" cy="2298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22_lupenita"/>
          <p:cNvPicPr/>
          <p:nvPr/>
        </p:nvPicPr>
        <p:blipFill>
          <a:blip r:embed="rId6"/>
          <a:stretch/>
        </p:blipFill>
        <p:spPr>
          <a:xfrm>
            <a:off x="6019920" y="4065480"/>
            <a:ext cx="2666880" cy="2298960"/>
          </a:xfrm>
          <a:prstGeom prst="rect">
            <a:avLst/>
          </a:prstGeom>
          <a:ln w="0">
            <a:noFill/>
          </a:ln>
        </p:spPr>
      </p:pic>
      <p:pic>
        <p:nvPicPr>
          <p:cNvPr id="119" name="6_liche_11_stelka-korovita-lupenita.MP3" descr=""/>
          <p:cNvPicPr/>
          <p:nvPr/>
        </p:nvPicPr>
        <p:blipFill>
          <a:blip r:embed="rId7"/>
          <a:stretch/>
        </p:blipFill>
        <p:spPr>
          <a:xfrm>
            <a:off x="8388360" y="119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8759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438280" y="380880"/>
            <a:ext cx="632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eříčkovit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v kontaktu se substrátem jen svojí "bází", je vystoupavá nebo naopak visící ("vousatá"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pifytických druhů), je charakteristická radiální stavbou (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zu tvoří vrstvy korová, gonidiová a dřeňová soustředné kruhy, nejsou "nad sebou" jako u ploše rozložených stél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chodným typem je stélk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morf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ást stélky je lupenitá (thallus horizontalis) a část keříčkovitě vystoupavá (thallus verticalis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eříčkov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álcovité nebo pohárkov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útvary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ec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– 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vém vrcholu nesou plodnice (např. u dutohláv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fruticose-ts"/>
          <p:cNvPicPr/>
          <p:nvPr/>
        </p:nvPicPr>
        <p:blipFill>
          <a:blip r:embed="rId1"/>
          <a:stretch/>
        </p:blipFill>
        <p:spPr>
          <a:xfrm>
            <a:off x="581040" y="479520"/>
            <a:ext cx="1781280" cy="1611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326880" y="2117880"/>
            <a:ext cx="21337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říčný řez svislou částí keříčkovité stélk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earthlife.net/lichens/lichen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25_kerickovita"/>
          <p:cNvPicPr/>
          <p:nvPr/>
        </p:nvPicPr>
        <p:blipFill>
          <a:blip r:embed="rId3"/>
          <a:srcRect l="1215" t="0" r="0" b="0"/>
          <a:stretch/>
        </p:blipFill>
        <p:spPr>
          <a:xfrm>
            <a:off x="5300640" y="3352680"/>
            <a:ext cx="3394080" cy="2291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4902120" y="56102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avel Hoše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vesmir.kav.cas.cz/Madagask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23_dimorficka"/>
          <p:cNvPicPr/>
          <p:nvPr/>
        </p:nvPicPr>
        <p:blipFill>
          <a:blip r:embed="rId5"/>
          <a:stretch/>
        </p:blipFill>
        <p:spPr>
          <a:xfrm>
            <a:off x="2514600" y="3352680"/>
            <a:ext cx="2655720" cy="2289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24_podetium-apoth"/>
          <p:cNvPicPr/>
          <p:nvPr/>
        </p:nvPicPr>
        <p:blipFill>
          <a:blip r:embed="rId6"/>
          <a:stretch/>
        </p:blipFill>
        <p:spPr>
          <a:xfrm>
            <a:off x="457200" y="2892600"/>
            <a:ext cx="1914480" cy="3279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2"/>
          <p:cNvSpPr/>
          <p:nvPr/>
        </p:nvSpPr>
        <p:spPr>
          <a:xfrm>
            <a:off x="2438280" y="5791320"/>
            <a:ext cx="6400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eříčkovitá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télka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uprostřed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imorfická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odeci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utohlávk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2438280" y="5638680"/>
            <a:ext cx="342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. Moore, W. D. Clark, K. R. Stern &amp; D. Vodopich: Botany, 1995 (2x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6_liche_12_stelka-kerickovita-dimorficka.MP3" descr=""/>
          <p:cNvPicPr/>
          <p:nvPr/>
        </p:nvPicPr>
        <p:blipFill>
          <a:blip r:embed="rId7"/>
          <a:stretch/>
        </p:blipFill>
        <p:spPr>
          <a:xfrm>
            <a:off x="8459640" y="2924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1189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3"/>
          <p:cNvSpPr/>
          <p:nvPr/>
        </p:nvSpPr>
        <p:spPr>
          <a:xfrm>
            <a:off x="380880" y="380880"/>
            <a:ext cx="838224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pouze záležitostí mykobiont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případě rozmnož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ání askosporami (resp. bazidios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je pak odkázán na opětovné "setkání" se svým fotobiontem; některé druhy proto tvoří tzv. hymeniální gonidi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ňky řas, které pronikají do thecia (hymenia) plodnic a šíří se spolu se spo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12_heteromer-apoth"/>
          <p:cNvPicPr/>
          <p:nvPr/>
        </p:nvPicPr>
        <p:blipFill>
          <a:blip r:embed="rId1"/>
          <a:stretch/>
        </p:blipFill>
        <p:spPr>
          <a:xfrm>
            <a:off x="3200400" y="1905120"/>
            <a:ext cx="5416560" cy="30477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1"/>
          <p:cNvSpPr/>
          <p:nvPr/>
        </p:nvSpPr>
        <p:spPr>
          <a:xfrm>
            <a:off x="380880" y="5003640"/>
            <a:ext cx="83822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lečné šíření obou složek zajišťuje rozmnožová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jednodušším typem je fragmentace stélky a růst nových stélek z úlom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380880" y="1889280"/>
            <a:ext cx="281952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růřez apotheciem vystupujícím z povrchu heteromerické stélky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 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6_liche_13_apothecium.MP3" descr=""/>
          <p:cNvPicPr/>
          <p:nvPr/>
        </p:nvPicPr>
        <p:blipFill>
          <a:blip r:embed="rId2"/>
          <a:stretch/>
        </p:blipFill>
        <p:spPr>
          <a:xfrm>
            <a:off x="2843280" y="306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71094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7" descr="soredia_lichen_diagram"/>
          <p:cNvPicPr/>
          <p:nvPr/>
        </p:nvPicPr>
        <p:blipFill>
          <a:blip r:embed="rId1"/>
          <a:stretch/>
        </p:blipFill>
        <p:spPr>
          <a:xfrm>
            <a:off x="5257800" y="457200"/>
            <a:ext cx="3505320" cy="2247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4"/>
          <p:cNvSpPr/>
          <p:nvPr/>
        </p:nvSpPr>
        <p:spPr>
          <a:xfrm>
            <a:off x="380880" y="380880"/>
            <a:ext cx="5943600" cy="35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 něco složitější typ představu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ed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ástečky stélky tvořící se na povrchu, obsahující buňky fotobionta propletené hyfami houby =&gt; jejich odlom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 stélky vede k šíře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edie se tvoří buď nahodile na povrc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, nebo na určitých okrajových částe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vaných sorá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vozeným typem rozmnožovacích útvar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sid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álcovité výrůstky z povrc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, v nichž je zachována heteromerická stav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šech tří vrstev =&gt; taktéž šíření jejich odlomení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ývají odlišovány též fylidie (lupenitá obdoba isidií)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izidie (odtržení povrchu stélky s fotobion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5" descr="32_isidia_xanthoparmelia_australasica"/>
          <p:cNvPicPr/>
          <p:nvPr/>
        </p:nvPicPr>
        <p:blipFill>
          <a:blip r:embed="rId2"/>
          <a:srcRect l="0" t="2835" r="0" b="2835"/>
          <a:stretch/>
        </p:blipFill>
        <p:spPr>
          <a:xfrm>
            <a:off x="482760" y="4064040"/>
            <a:ext cx="2438280" cy="2298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soredia_physcia-grisea"/>
          <p:cNvPicPr/>
          <p:nvPr/>
        </p:nvPicPr>
        <p:blipFill>
          <a:blip r:embed="rId3"/>
          <a:stretch/>
        </p:blipFill>
        <p:spPr>
          <a:xfrm>
            <a:off x="6216480" y="2743200"/>
            <a:ext cx="2443320" cy="2666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8"/>
          <p:cNvSpPr/>
          <p:nvPr/>
        </p:nvSpPr>
        <p:spPr>
          <a:xfrm>
            <a:off x="4114800" y="5486400"/>
            <a:ext cx="4648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: schéma uvolňování soredií z povrchu stélk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biology.unm.edu/ccouncil/Biology_203/Summaries/Fungi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4343400" y="5943600"/>
            <a:ext cx="4419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: soredi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scia gris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biology.ed.ac.uk/research/groups/jdeacon/microbes/lichen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2971800" y="5000760"/>
            <a:ext cx="3276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Isidi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Xanthoparmelia australas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http://www.anbg.gov.au/cryptogams/underworld/panel-4/index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6_liche_14_soredie-isidie.MP3" descr=""/>
          <p:cNvPicPr/>
          <p:nvPr/>
        </p:nvPicPr>
        <p:blipFill>
          <a:blip r:embed="rId7"/>
          <a:stretch/>
        </p:blipFill>
        <p:spPr>
          <a:xfrm>
            <a:off x="442764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70072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4"/>
          <p:cNvSpPr/>
          <p:nvPr/>
        </p:nvSpPr>
        <p:spPr>
          <a:xfrm>
            <a:off x="380880" y="380880"/>
            <a:ext cx="838224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ologicko-fyziolog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harakteristika: autotrofní organismy; spojení houby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sy/sinice umožňuje těmto organismům růst na místech, kde by se samotné jednotlivé složky "nechytly" - fotosyntéza umožňuje život na anorganickém substrátu, mykobiont zprostředkovává čerpání vody, živin a ochranu proti výparu (růst na extrémně suchých stanovištích - až 62 týdnů bez vody), příp. kompetiční výhod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jem C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jišťuje fotobiont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je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nitrátů obě složky (cyanobionti, příp. symbiotický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zotobact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éž atmosférický dusík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šejníky vrůstají hyfami po celé ploše do substrátu (kámen, půda, u epifytick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išejní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vrch rostlin, nejčastěji kůra), případně kontakt se substrátem zajišťují rhizin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st je oproti jiným organismům pomalý (roky, i desítky let, nejstarší korovité stélky odhadem 4500 le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romadění radioaktivních látek ve stélká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ožnost sledování zamoření oblastí jejich výskyt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dukce "lišejníkových látek" - mohou sloužit jako zásobní látky, působit antibioticky (proti bakteriím i jiným houbám) i odpuzovat býložravce, ale klidně být i prostým "odpadem" metabolism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é druhy produkují jedovaté látky (deriváty kyseliny vulpinové) působící na nervovou soustavu (používány ve Skandinávii k hubení vl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9"/>
          <p:cNvSpPr/>
          <p:nvPr/>
        </p:nvSpPr>
        <p:spPr>
          <a:xfrm>
            <a:off x="380880" y="380880"/>
            <a:ext cx="83822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od rovníku k pólům, na nejrůznějších stanovištích (extrém v Antarktid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cela uvnitř kamenů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vůli svému pomalému růstu nejsou kompetičně silné, rostou hlavně na stanovištích, kde jiné organismy růst nemoh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de jsou často prvotním sukcesním stadiem, jejich odumřelé stélky tvoří první organickou složku půdy tvořící se na čistě minerálním podklad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uži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zácně jako potrava ("mana"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anora esculen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spíše jako krmivo, potrava pro zvěř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é druhy využívány v lidovém lékařství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obaria pulmon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při výrobu barviv, v parfumerii aj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uží jako dobré indikátory čistoty ovzduší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ne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henizované houby řazeny do systému hub podle svého mykobiont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rámci vřeckatých hub některé řády obsahují jen lichenizované houby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anorales, Verrucar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pár dalších), jiné obsahují některé lichenizované zástupce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trop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henizované stopkovýtrusné houby nalezneme jen mezi houbami rouškatými (z p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děl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omyc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v čeledích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lephoraceae, Corticiaceae, Clavar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olomatace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6_liche_16_prvni-sukcesni-sstadium.MP3" descr=""/>
          <p:cNvPicPr/>
          <p:nvPr/>
        </p:nvPicPr>
        <p:blipFill>
          <a:blip r:embed="rId1"/>
          <a:stretch/>
        </p:blipFill>
        <p:spPr>
          <a:xfrm>
            <a:off x="8388360" y="98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76292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80880" y="380880"/>
            <a:ext cx="838224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LECANOROMYCETES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okračování přehledu pododd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ezizomyc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sahuje několik řádů lichenizovaných hub, zd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míněn nejvýznamnějš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an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širším pojet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ro účely redukované přednášky jsou sem vřazeny též zástupci dalších řádů lichenizovaných vřeckatých hub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an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četný řád (přes 5800 druhů) lichenizovaných hub (zahrnuje asi polovinu druhů lišejníků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é typy stélek i fotobionti, plodnice apothecia s askohymeniálním vývojem, parafýzy někdy vytvářejí epithec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řecka tlustostěnná, tzv. lekanorový typ (něco mezi uni- a bitunikátními vřec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tevírání vřecka je dvoustupňové, ale nedojde k vyhřeznutí vnitřní vrstvy mimo vnějš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 je ve vřecku 2-8 (i víc), jsou jedno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vícebuněč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lle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uspeník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lizovitá home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rická stélka, promísena vlákna hou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buňky fotobionta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osto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lecanoromycetes_Collema-coccophorum"/>
          <p:cNvPicPr/>
          <p:nvPr/>
        </p:nvPicPr>
        <p:blipFill>
          <a:blip r:embed="rId1"/>
          <a:stretch/>
        </p:blipFill>
        <p:spPr>
          <a:xfrm>
            <a:off x="4952880" y="3860640"/>
            <a:ext cx="3733920" cy="2489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219320" y="5927760"/>
            <a:ext cx="3733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uspeník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ollema coccophor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lichen.com/bigpix/Ccoccophorum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6_liche_17_collema.MP3" descr=""/>
          <p:cNvPicPr/>
          <p:nvPr/>
        </p:nvPicPr>
        <p:blipFill>
          <a:blip r:embed="rId3"/>
          <a:stretch/>
        </p:blipFill>
        <p:spPr>
          <a:xfrm>
            <a:off x="4572000" y="558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0" name="6_liche_17_lecanorovy-typ-vrecka.MP3" descr=""/>
          <p:cNvPicPr/>
          <p:nvPr/>
        </p:nvPicPr>
        <p:blipFill>
          <a:blip r:embed="rId4"/>
          <a:stretch/>
        </p:blipFill>
        <p:spPr>
          <a:xfrm>
            <a:off x="853272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3478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70728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80880" y="380880"/>
            <a:ext cx="83822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ěžné rody s lupenitou stél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melia, Hypogym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esky oboje terčov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c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erčovní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antho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erční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ltige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ávnat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ob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ůlkatec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mbilic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upkovka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irostlá k substrátu jen v jednom míst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u lupenitě-keříčkovitou maj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tr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ukléř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evernia, Ever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ětviční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C:\user\Houba\Škola-obrázky\nizsi_rostliny\pezizomycotina\lecanoromycetes_hypogymnia-physodes.jpg"/>
          <p:cNvPicPr/>
          <p:nvPr/>
        </p:nvPicPr>
        <p:blipFill>
          <a:blip r:embed="rId1"/>
          <a:srcRect l="13128" t="12695" r="10501" b="6652"/>
          <a:stretch/>
        </p:blipFill>
        <p:spPr>
          <a:xfrm>
            <a:off x="5943600" y="1674720"/>
            <a:ext cx="2743200" cy="2516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1927080" y="1600200"/>
            <a:ext cx="4038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Terčovka bublina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ypogymnia physod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Bohdal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turephoto-cz.eu/hypogymnia-physodes-picture-1610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:\user\Houba\Škola-obrázky\nizsi_rostliny\pezizomycotina\lecanoromycetes_havnatka-psi.jpg"/>
          <p:cNvPicPr/>
          <p:nvPr/>
        </p:nvPicPr>
        <p:blipFill>
          <a:blip r:embed="rId3"/>
          <a:stretch/>
        </p:blipFill>
        <p:spPr>
          <a:xfrm>
            <a:off x="5943600" y="4255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2232000" y="2411280"/>
            <a:ext cx="37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d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ávnatka ps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eltigera canin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mezistromy.cz/cz/fotogalerie/byliny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C:\user\Houba\Škola-obrázky\nizsi_rostliny\pezizomycotina\lecanoromycetes_pseudevernia-furfuracea.jpg"/>
          <p:cNvPicPr/>
          <p:nvPr/>
        </p:nvPicPr>
        <p:blipFill>
          <a:blip r:embed="rId5"/>
          <a:stretch/>
        </p:blipFill>
        <p:spPr>
          <a:xfrm>
            <a:off x="485640" y="2732040"/>
            <a:ext cx="2386080" cy="3581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8"/>
          <p:cNvSpPr/>
          <p:nvPr/>
        </p:nvSpPr>
        <p:spPr>
          <a:xfrm>
            <a:off x="380880" y="1874880"/>
            <a:ext cx="2819520" cy="8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ětvičník otrubič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seudevernia furfurace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tephen Sharnoff, http://www.sharnoffphotos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lichensF/pseudevernia_furfuracea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C:\user\Houba\Škola-obrázky\nizsi_rostliny\pezizomycotina\lecanoromycetes_xanthoria-parietina.jpg"/>
          <p:cNvPicPr/>
          <p:nvPr/>
        </p:nvPicPr>
        <p:blipFill>
          <a:blip r:embed="rId6"/>
          <a:srcRect l="6402" t="7464" r="6402" b="0"/>
          <a:stretch/>
        </p:blipFill>
        <p:spPr>
          <a:xfrm>
            <a:off x="2917800" y="3614760"/>
            <a:ext cx="2971800" cy="2705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"/>
          <p:cNvSpPr/>
          <p:nvPr/>
        </p:nvSpPr>
        <p:spPr>
          <a:xfrm>
            <a:off x="2830680" y="3112920"/>
            <a:ext cx="31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Terčník zedn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Xanthoria parietin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fotoaparat.cz/index.php?r=25&amp;rp=464151&amp;gal=pho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6_liche_18_lupenite-lisejniky.MP3" descr=""/>
          <p:cNvPicPr/>
          <p:nvPr/>
        </p:nvPicPr>
        <p:blipFill>
          <a:blip r:embed="rId7"/>
          <a:stretch/>
        </p:blipFill>
        <p:spPr>
          <a:xfrm>
            <a:off x="3780000" y="220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250529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352680" y="380880"/>
            <a:ext cx="541044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ado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utohlávka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s lupenitým základem stélky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hůr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čícími podecii, nesoucími apothec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istě keříčkovité jsou druhy rodů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n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ovazov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cto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ousatec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oje epifyté, stélky visí z větv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substrátu zcela přirostlé korovité lišejní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hizocarp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mapovní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id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šáleč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276720" y="2666880"/>
            <a:ext cx="556236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nahoře: Dutohlávk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ladonia diver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Carl Farmer, http://www.nature-diary.co.uk/2007-05-26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dole: Provazovka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Usnea flori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. R. Crellin, http://www.floralimages.co.uk/pusneaflori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781680" y="3718080"/>
            <a:ext cx="1981440" cy="8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apovník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Rhizocarpon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flickr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photos/laajala/485461821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C:\user\Houba\Škola-obrázky\nizsi_rostliny\pezizomycotina\lecanoromycetes_cladonia-diversa.jpg"/>
          <p:cNvPicPr/>
          <p:nvPr/>
        </p:nvPicPr>
        <p:blipFill>
          <a:blip r:embed="rId1"/>
          <a:stretch/>
        </p:blipFill>
        <p:spPr>
          <a:xfrm>
            <a:off x="457200" y="457200"/>
            <a:ext cx="2776680" cy="327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:\user\Houba\Škola-obrázky\nizsi_rostliny\pezizomycotina\lecanoromycetes_usnea_florida.jpg"/>
          <p:cNvPicPr/>
          <p:nvPr/>
        </p:nvPicPr>
        <p:blipFill>
          <a:blip r:embed="rId2"/>
          <a:srcRect l="7559" t="0" r="11339" b="0"/>
          <a:stretch/>
        </p:blipFill>
        <p:spPr>
          <a:xfrm>
            <a:off x="457200" y="3809880"/>
            <a:ext cx="2778120" cy="2568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C:\user\Houba\Škola-obrázky\nizsi_rostliny\pezizomycotina\lecanoromycetes_rhizocarpon-sp.jpg"/>
          <p:cNvPicPr/>
          <p:nvPr/>
        </p:nvPicPr>
        <p:blipFill>
          <a:blip r:embed="rId3"/>
          <a:stretch/>
        </p:blipFill>
        <p:spPr>
          <a:xfrm>
            <a:off x="3309840" y="380700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67" name="6_liche_19_kerickovite-korovite-lisejniky.MP3" descr=""/>
          <p:cNvPicPr/>
          <p:nvPr/>
        </p:nvPicPr>
        <p:blipFill>
          <a:blip r:embed="rId4"/>
          <a:stretch/>
        </p:blipFill>
        <p:spPr>
          <a:xfrm>
            <a:off x="8317080" y="270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6678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80880" y="380880"/>
            <a:ext cx="838224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mocné oddělení: </a:t>
            </a: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DEUTEROMYCOTA (FUNGI IMPERFEC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 přirozenou taxonomickou jednotkou, je vytvořena pro účely klasifikac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ub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anamorfní fáz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é pojetí šíře této skupin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ď zahrnuje pouze druhy, u nichž se nevytváří teleomorfa (žijí tedy v mitotické holomorfě - rozmnožují se pouze mitosporami, příp. "přesedlaly" na parasexuální proces) nebo teleomorfa není známa (v přirozených podmínkách nevzniká anebo vzniká, ale zatím nebyla objevena spojitost s danou anamorfou) =&gt;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jevení spojitosti s teleomorfou jsou pak takovéto druhy zařazeny do přirozeného systému a z takto pojatého systém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ungi imperfect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padn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nebo (podle mého logičtější pojetí) zahrnuje anamorfy všech druhů, tedy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ěch, u kterých teleomorfa známa je (souběžně jsou samozřejmě klasifikovány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rozeném systému); u většiny těchto druhů je anamorfa převládajícím stadiem, ke tvorbě teleomorfy dochází vzácněji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nění na pomocné třídy, řády, čeledi a rody na základě morfologické podobnosti konidiového stadia (není zde snaha o přirozené uspořádán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le vlastností mycelia (přehrádkované, jednojaderné buňky, jednoduché póry v přehrádkách) lze soudit, ž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euter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eprezentují převážně anamorfy vřeckatých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6_deute_02_deuteromycota.MP3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311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80880" y="380880"/>
            <a:ext cx="60962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ůso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a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m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, tak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ofore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konidiofory vyrůstají jednotlivě nebo v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idiomate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obdoba plodnic)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yknidá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cervulech, sporodochiích nebo synnema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ynnema_rosellinia-necatrix"/>
          <p:cNvPicPr/>
          <p:nvPr/>
        </p:nvPicPr>
        <p:blipFill>
          <a:blip r:embed="rId1"/>
          <a:stretch/>
        </p:blipFill>
        <p:spPr>
          <a:xfrm>
            <a:off x="6512040" y="457200"/>
            <a:ext cx="2174760" cy="3129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800600" y="15462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ppis.moag.gov.il/pp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/plant_disease_gallery/D_S_W_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Rosellinia_necatrix_08-9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acervulus_mycosphaerella-pini-anamorph-dothiostroma"/>
          <p:cNvPicPr/>
          <p:nvPr/>
        </p:nvPicPr>
        <p:blipFill>
          <a:blip r:embed="rId5"/>
          <a:stretch/>
        </p:blipFill>
        <p:spPr>
          <a:xfrm>
            <a:off x="479520" y="3840120"/>
            <a:ext cx="3849480" cy="2560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423720" y="381312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http://www.eppo.org/QUARANTINE/fungi/Mycosphaerella_pini/SCIRPI_images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sporodochium_nectria-cinnabarina-anamorph-tubercularia"/>
          <p:cNvPicPr/>
          <p:nvPr/>
        </p:nvPicPr>
        <p:blipFill>
          <a:blip r:embed="rId7"/>
          <a:stretch/>
        </p:blipFill>
        <p:spPr>
          <a:xfrm>
            <a:off x="5029200" y="3657600"/>
            <a:ext cx="3657600" cy="2762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5029200" y="365760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http://www.uoguelph.ca/~gbarron/MISC2003/nectriac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pycnidium_mycosphaerella-graminicola"/>
          <p:cNvPicPr/>
          <p:nvPr/>
        </p:nvPicPr>
        <p:blipFill>
          <a:blip r:embed="rId9"/>
          <a:stretch/>
        </p:blipFill>
        <p:spPr>
          <a:xfrm>
            <a:off x="479520" y="1851120"/>
            <a:ext cx="2895480" cy="19144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"/>
          <p:cNvSpPr/>
          <p:nvPr/>
        </p:nvSpPr>
        <p:spPr>
          <a:xfrm>
            <a:off x="2590920" y="154620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http://www.pri.wur.nl/UK/research/resea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+themes/Interaction+between+plants+pests+and+diseases/photowheat/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3429000" y="1981080"/>
            <a:ext cx="312408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pyknid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ycosphaerella graminicol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; vlevo dole: acervulus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Mycosphaerella pin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(anamorf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othiostrom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; vpravo dole: sporodochium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Nectria cinnabarin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(anamorf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uberculari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; vpravo: synnema (= korémie)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osellinia necatri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6_deute_03_konidiomata.MP3" descr=""/>
          <p:cNvPicPr/>
          <p:nvPr/>
        </p:nvPicPr>
        <p:blipFill>
          <a:blip r:embed="rId12"/>
          <a:stretch/>
        </p:blipFill>
        <p:spPr>
          <a:xfrm>
            <a:off x="4572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453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80880" y="380880"/>
            <a:ext cx="83822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e genetickým kombinacím dochází prostřednictví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sexuálního proce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styk dvou haploidních mycelií =&gt; vytvoření můstků =&gt; jimi přejdou jádra =&gt; heterokaryotické mycelium =&gt; v něm může dojít ke splývání jader (různých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hodných genotypů) =&gt; diploidní jádra =&gt; během jejich dělení nastane mitotický crossing-over =&gt; tvoří se diploidní mycelium a konidie =&gt; haploidizace bez meiozy - v anafázi chromosomy nerovnoměrně rozděleny k pólům =&gt; některé haploidní konidie odlišné od rodičovských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ímto procesem je zabezpečena genetická proměnlivost a tím i přizpůsobivost změnám podmí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na všech možných biotopech, suchozemských i vodních, zástupci saprofytičtí i parazitičtí (většinou fakultativně, ale i obligátně, někteří dokonce hyperparazité), i vý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é patogenní houb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zdaleka nemusí krýt v pojetí rodů a druhů se systémem p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zeným,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mž jsou klasifikovány teleomorfy (1 teleomorfní rod může mít druhy ve více anamorfních a naopak &lt;= dáno tím, že jeden teleomorfní rod i druh může tvořit více typů konidií a naopak různé teleomorfní rody tvoří konidie, příp. konidiomata stejného typ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istoric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 založen na morfologii konidií (dnes již ustupuje do pozadí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současnosti preferováno členění podle tvorby mycelia a konidio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6_deute_04_jmena-anamorfa-teleomorfa.MP3" descr=""/>
          <p:cNvPicPr/>
          <p:nvPr/>
        </p:nvPicPr>
        <p:blipFill>
          <a:blip r:embed="rId1"/>
          <a:stretch/>
        </p:blipFill>
        <p:spPr>
          <a:xfrm>
            <a:off x="5364000" y="378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496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3" descr="ascochyta-fabae_pyknida"/>
          <p:cNvPicPr/>
          <p:nvPr/>
        </p:nvPicPr>
        <p:blipFill>
          <a:blip r:embed="rId1"/>
          <a:srcRect l="0" t="2410" r="9449" b="0"/>
          <a:stretch/>
        </p:blipFill>
        <p:spPr>
          <a:xfrm>
            <a:off x="4311720" y="3265560"/>
            <a:ext cx="3962160" cy="2789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4"/>
          <p:cNvSpPr/>
          <p:nvPr/>
        </p:nvSpPr>
        <p:spPr>
          <a:xfrm>
            <a:off x="4213080" y="6313320"/>
            <a:ext cx="32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B. Tivoli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inra.fr/hyp3/images/6030092.jp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4213080" y="6084720"/>
            <a:ext cx="44737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scochyta fabae (Pleosporales)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průřez pyknido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6" descr="Phoma-trachelii_pyknidy"/>
          <p:cNvPicPr/>
          <p:nvPr/>
        </p:nvPicPr>
        <p:blipFill>
          <a:blip r:embed="rId3"/>
          <a:stretch/>
        </p:blipFill>
        <p:spPr>
          <a:xfrm>
            <a:off x="479520" y="3265560"/>
            <a:ext cx="3771720" cy="2797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7"/>
          <p:cNvSpPr/>
          <p:nvPr/>
        </p:nvSpPr>
        <p:spPr>
          <a:xfrm>
            <a:off x="380880" y="6313320"/>
            <a:ext cx="358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: Magnus Gammelgaard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plante-doktor.dk/phoma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8"/>
          <p:cNvSpPr/>
          <p:nvPr/>
        </p:nvSpPr>
        <p:spPr>
          <a:xfrm>
            <a:off x="380880" y="6084720"/>
            <a:ext cx="51818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oma trachelii (Pleosporales)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pyknid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9" descr="Botrytis"/>
          <p:cNvPicPr/>
          <p:nvPr/>
        </p:nvPicPr>
        <p:blipFill>
          <a:blip r:embed="rId5"/>
          <a:stretch/>
        </p:blipFill>
        <p:spPr>
          <a:xfrm>
            <a:off x="482760" y="449280"/>
            <a:ext cx="229536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0"/>
          <p:cNvSpPr/>
          <p:nvPr/>
        </p:nvSpPr>
        <p:spPr>
          <a:xfrm>
            <a:off x="406440" y="2963880"/>
            <a:ext cx="32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Joëlle Dupont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http://www.mnhn.fr/microchampignons/joelle.html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1" descr="Fusarium"/>
          <p:cNvPicPr/>
          <p:nvPr/>
        </p:nvPicPr>
        <p:blipFill>
          <a:blip r:embed="rId7"/>
          <a:srcRect l="8855" t="0" r="26575" b="0"/>
          <a:stretch/>
        </p:blipFill>
        <p:spPr>
          <a:xfrm>
            <a:off x="2855880" y="449280"/>
            <a:ext cx="2165400" cy="2514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2"/>
          <p:cNvSpPr/>
          <p:nvPr/>
        </p:nvSpPr>
        <p:spPr>
          <a:xfrm>
            <a:off x="3301920" y="2963880"/>
            <a:ext cx="32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http://www.globalcyran.com/usmicro/newimages/Fusarium.jpg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3" descr=""/>
          <p:cNvPicPr/>
          <p:nvPr/>
        </p:nvPicPr>
        <p:blipFill>
          <a:blip r:embed="rId9"/>
          <a:stretch/>
        </p:blipFill>
        <p:spPr>
          <a:xfrm>
            <a:off x="5057640" y="372960"/>
            <a:ext cx="83520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"/>
          <p:cNvPicPr/>
          <p:nvPr/>
        </p:nvPicPr>
        <p:blipFill>
          <a:blip r:embed="rId10"/>
          <a:stretch/>
        </p:blipFill>
        <p:spPr>
          <a:xfrm>
            <a:off x="5788080" y="449280"/>
            <a:ext cx="1504800" cy="1230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5" descr=""/>
          <p:cNvPicPr/>
          <p:nvPr/>
        </p:nvPicPr>
        <p:blipFill>
          <a:blip r:embed="rId11"/>
          <a:stretch/>
        </p:blipFill>
        <p:spPr>
          <a:xfrm>
            <a:off x="5689440" y="1722600"/>
            <a:ext cx="1727280" cy="1255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6"/>
          <p:cNvSpPr/>
          <p:nvPr/>
        </p:nvSpPr>
        <p:spPr>
          <a:xfrm>
            <a:off x="1679400" y="2278080"/>
            <a:ext cx="1143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Botryt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konidiofor s konidie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2811600" y="2278080"/>
            <a:ext cx="13716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Fusari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vícebuněčné makrokonid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8"/>
          <p:cNvSpPr/>
          <p:nvPr/>
        </p:nvSpPr>
        <p:spPr>
          <a:xfrm>
            <a:off x="7416720" y="372960"/>
            <a:ext cx="1371600" cy="28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ďovitá“ konidi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ternaria tenuissim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a klíčení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ternaria alternata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othideom., Pleosporal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z pěti buněk současně (čas. odstup 1 hodin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6_deute_05_hyphomycetes-makrokonidie.MP3" descr=""/>
          <p:cNvPicPr/>
          <p:nvPr/>
        </p:nvPicPr>
        <p:blipFill>
          <a:blip r:embed="rId12"/>
          <a:stretch/>
        </p:blipFill>
        <p:spPr>
          <a:xfrm>
            <a:off x="5148360" y="2637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6_deute_05_coelomycetes-pyknidy.MP3" descr=""/>
          <p:cNvPicPr/>
          <p:nvPr/>
        </p:nvPicPr>
        <p:blipFill>
          <a:blip r:embed="rId13"/>
          <a:stretch/>
        </p:blipFill>
        <p:spPr>
          <a:xfrm>
            <a:off x="8388360" y="3284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19838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56125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762120" y="5889600"/>
            <a:ext cx="4724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hizoctoni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http://www.botany.hawaii.edu/faculty/wong/Bot201/Deuteromycota/rhizoc2.jp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rhizoctonia_mycelia-sterilia"/>
          <p:cNvPicPr/>
          <p:nvPr/>
        </p:nvPicPr>
        <p:blipFill>
          <a:blip r:embed="rId2"/>
          <a:stretch/>
        </p:blipFill>
        <p:spPr>
          <a:xfrm>
            <a:off x="865080" y="3235320"/>
            <a:ext cx="4164120" cy="265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Sclerotium-rolfsii_mycelia-sterilia"/>
          <p:cNvPicPr/>
          <p:nvPr/>
        </p:nvPicPr>
        <p:blipFill>
          <a:blip r:embed="rId3"/>
          <a:stretch/>
        </p:blipFill>
        <p:spPr>
          <a:xfrm>
            <a:off x="5105520" y="3235320"/>
            <a:ext cx="3552840" cy="26510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4038480" y="5889600"/>
            <a:ext cx="4724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clerotium rolfs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otany.hawaii.edu/faculty/wong/Bot201/Deuteromycota/Sclerotium_rolfsii1.jp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epraria-incana"/>
          <p:cNvPicPr/>
          <p:nvPr/>
        </p:nvPicPr>
        <p:blipFill>
          <a:blip r:embed="rId5"/>
          <a:stretch/>
        </p:blipFill>
        <p:spPr>
          <a:xfrm>
            <a:off x="5105520" y="533520"/>
            <a:ext cx="3551040" cy="23619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380880" y="2857680"/>
            <a:ext cx="8382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nahoře: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epraria incana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. K. Lindsey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http://www.commanster.eu/commanster/Mushrooms/Lichens/Lichens/Lepraria.incana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cryptococcus-neoformans"/>
          <p:cNvPicPr/>
          <p:nvPr/>
        </p:nvPicPr>
        <p:blipFill>
          <a:blip r:embed="rId7"/>
          <a:stretch/>
        </p:blipFill>
        <p:spPr>
          <a:xfrm>
            <a:off x="533520" y="542880"/>
            <a:ext cx="3011400" cy="2249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1"/>
          <p:cNvSpPr/>
          <p:nvPr/>
        </p:nvSpPr>
        <p:spPr>
          <a:xfrm>
            <a:off x="3581280" y="457200"/>
            <a:ext cx="1524240" cy="19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ryptococcus neoforma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kvasinkovité stadium stopkovýtrusné houby z ro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Filobasidiel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http://www.bio.tamu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/USERS/xlin/research1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6_deute_06_blastomycetes-dimorfismus.MP3" descr=""/>
          <p:cNvPicPr/>
          <p:nvPr/>
        </p:nvPicPr>
        <p:blipFill>
          <a:blip r:embed="rId10"/>
          <a:stretch/>
        </p:blipFill>
        <p:spPr>
          <a:xfrm>
            <a:off x="3635280" y="256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6_deute_06_lepraria.MP3" descr=""/>
          <p:cNvPicPr/>
          <p:nvPr/>
        </p:nvPicPr>
        <p:blipFill>
          <a:blip r:embed="rId11"/>
          <a:stretch/>
        </p:blipFill>
        <p:spPr>
          <a:xfrm>
            <a:off x="4716360" y="256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6_deute_06_rhizoctonia-sclerotium.MP3" descr=""/>
          <p:cNvPicPr/>
          <p:nvPr/>
        </p:nvPicPr>
        <p:blipFill>
          <a:blip r:embed="rId12"/>
          <a:stretch/>
        </p:blipFill>
        <p:spPr>
          <a:xfrm>
            <a:off x="53964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9972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67463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7258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3"/>
          <p:cNvSpPr/>
          <p:nvPr/>
        </p:nvSpPr>
        <p:spPr>
          <a:xfrm>
            <a:off x="380880" y="380880"/>
            <a:ext cx="8382240" cy="60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mocné oddělení: </a:t>
            </a: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LICHENES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- LIŠEJN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 obtížné přesně definovat, co je lišejní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efinice různých autorů se o to pokouší zhruba ve smyslu, že jde o morfologicko-fyziologickou jednotku, ve které je obligátně vázán určitý druh houby (mykobiont) s určitým druhem řasy nebo sinice (fotobiont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kobion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ubová složka 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íce než 90 %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uh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řeckatá houba, zbytek tvoří houby stopkovýtrusn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blematické je zařaz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ou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osiphon pyriforme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Glomer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mycot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tvořící symbiózu se sinicemi, kter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však ve stélce lokalizovány ve vezikulech (nejde tedy o běžný typ lišejníkové stél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4" descr="Omphalina-umbellifera"/>
          <p:cNvPicPr/>
          <p:nvPr/>
        </p:nvPicPr>
        <p:blipFill>
          <a:blip r:embed="rId1"/>
          <a:stretch/>
        </p:blipFill>
        <p:spPr>
          <a:xfrm>
            <a:off x="7151760" y="2535120"/>
            <a:ext cx="1504800" cy="2097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5"/>
          <p:cNvSpPr/>
          <p:nvPr/>
        </p:nvSpPr>
        <p:spPr>
          <a:xfrm>
            <a:off x="4191120" y="4632480"/>
            <a:ext cx="4572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lichenizovaná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Omphalina umbellifer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vlevo nelichenizovaná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O. discorosea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kalichovka lužní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aroslav Malý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turfoto.cz/kalichovka-luzni-fotografie-3676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tephen et Sylvia Sharnoff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lichen.com/bigpix/Oumbellifera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6" descr="omphalina-discorosea_kalichovka-luzni"/>
          <p:cNvPicPr/>
          <p:nvPr/>
        </p:nvPicPr>
        <p:blipFill>
          <a:blip r:embed="rId4"/>
          <a:stretch/>
        </p:blipFill>
        <p:spPr>
          <a:xfrm>
            <a:off x="4343400" y="2533680"/>
            <a:ext cx="2797200" cy="20988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7"/>
          <p:cNvSpPr/>
          <p:nvPr/>
        </p:nvSpPr>
        <p:spPr>
          <a:xfrm>
            <a:off x="380880" y="2536920"/>
            <a:ext cx="396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zi vřeckatými houbami 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me řadu rodů, čeled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é řády pouze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henizovanými zástup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opkovýtrusných jde nanejvýš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dy, ale v řadě případů obsahuje jeden rod lichenizované i nelichen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vané druhy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mphal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ruhy hub tvořící lišejníky jsou obvykle specificky lichenizované, neschopné samostatné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6_liche_07_lichenismus-mykobiont.MP3" descr=""/>
          <p:cNvPicPr/>
          <p:nvPr/>
        </p:nvPicPr>
        <p:blipFill>
          <a:blip r:embed="rId5"/>
          <a:stretch/>
        </p:blipFill>
        <p:spPr>
          <a:xfrm>
            <a:off x="3995640" y="436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95414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80880" y="380880"/>
            <a:ext cx="8382240" cy="27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tobio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tosyntetizjíc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ka řasová (v tom případě lze mluvit o fykobiontu) nebo sinicová (cyanobion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častějšími fotobionty jsou zelené řasy, po nich sinice a v ojedinělých případech různobrvky a chaluh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tobionty lišejníků jsou běžně řasy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eboux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j.) nebo sinice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osto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j.), které se vyskytují jak volně, tak vázané v symbióze s houb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en druh řasy nebo sinice může být fotobiontem mnoha (i systematicky zcela nepříbuzných) lichenizovaných hub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mý kontakt mezi buňkami jednotlivých složek (ale nemusí k němu dojít) –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 mykobionta pronikají haustoria do buněk fotobio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Parmelia-sulcata"/>
          <p:cNvPicPr/>
          <p:nvPr/>
        </p:nvPicPr>
        <p:blipFill>
          <a:blip r:embed="rId1"/>
          <a:srcRect l="20248" t="0" r="40496" b="53387"/>
          <a:stretch/>
        </p:blipFill>
        <p:spPr>
          <a:xfrm>
            <a:off x="479520" y="3200400"/>
            <a:ext cx="3108240" cy="280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Parmelia-sulcata_trebouxia"/>
          <p:cNvPicPr/>
          <p:nvPr/>
        </p:nvPicPr>
        <p:blipFill>
          <a:blip r:embed="rId2"/>
          <a:stretch/>
        </p:blipFill>
        <p:spPr>
          <a:xfrm>
            <a:off x="3657600" y="3200400"/>
            <a:ext cx="3860640" cy="2798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80880" y="6004080"/>
            <a:ext cx="83822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Terčovka brázd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armelia sulcat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a buňky ro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ebouxi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ve stélce terčovky (měřítko 20 µm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AJ Silverside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lichens.lastdragon.org/Parmelia_sulcata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6_liche_08_fotobiont.MP3" descr=""/>
          <p:cNvPicPr/>
          <p:nvPr/>
        </p:nvPicPr>
        <p:blipFill>
          <a:blip r:embed="rId4"/>
          <a:stretch/>
        </p:blipFill>
        <p:spPr>
          <a:xfrm>
            <a:off x="766764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2757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>
            <a:off x="380880" y="380880"/>
            <a:ext cx="838224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tah mykobionta a fykobionta je zjednodušeně označován jak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tualist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boustranně prospěšná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mbióz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jení více mykobiontů s jedním fotobiontem může vést ke vzniku parasymbiózy (současné symbiózy obou mykobiontů s tím fotobiontem), ale také může "nový" mykobiont zlikvidovat "starého" (stávajícího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opak setkání jednoho mykobionta s více fotobionty =&gt; vznik cefalodií - výběžků na povrchu stélky, ve kterých je další fotobiont lokalizová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pad polysymbióz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 lišejníkem žije v symbióz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zotobacte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 vztahu myko- a fotobionta nemusí jít vždy o pravou symbióz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d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pady, že houba žije saprofyticky na odumřelých buňkách fotobionta, nebo dochází i k parazitismu z jedné i druhé strany (=&gt; vede k teoriím, ž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šejníku jde obecně o "kontrolovanou" formu parazitism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ylogeneticky starší, tím ustáleněj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vba sté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dle anatomie rozlišujeme dva typy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homeomer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ňky fotobionta a vlák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kobionta volně rozptýleny mezi sebou; tyto lišejní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ívají stélku rosolovité konzistence (p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to typ l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řadit i vláknité lišejní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lákno fotobionta obklope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ami mykobion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ar homeomerických stélek určuje spíše fotobio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tímco tvar heteromerických stéle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rču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kobi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algal-cells+fungus-hyphae"/>
          <p:cNvPicPr/>
          <p:nvPr/>
        </p:nvPicPr>
        <p:blipFill>
          <a:blip r:embed="rId1"/>
          <a:stretch/>
        </p:blipFill>
        <p:spPr>
          <a:xfrm>
            <a:off x="6400800" y="4038480"/>
            <a:ext cx="2209680" cy="2065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6477120" y="617220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backyardnature.net/lichens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6_liche_09_parasymbioza.MP3" descr=""/>
          <p:cNvPicPr/>
          <p:nvPr/>
        </p:nvPicPr>
        <p:blipFill>
          <a:blip r:embed="rId3"/>
          <a:stretch/>
        </p:blipFill>
        <p:spPr>
          <a:xfrm>
            <a:off x="8388360" y="162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1187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PH</cp:lastModifiedBy>
  <dcterms:modified xsi:type="dcterms:W3CDTF">2020-11-09T17:42:12Z</dcterms:modified>
  <cp:revision>200</cp:revision>
  <dc:subject/>
  <dc:title>Snímek 1</dc:title>
</cp:coreProperties>
</file>