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939-3F8A-4FEE-9D44-88A85218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559-23EE-4DC1-BC58-21D58C2B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87E-C548-486C-9D5F-105A5C6F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C13-E5B7-434F-9B61-ACA1D1CF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2B3-D34F-462B-B12D-A3B81F5C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A2E-F911-4C74-8EE9-35C330B6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C16-FE87-4C2B-941B-1B1C55E9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6B6-A38E-4C6D-87F0-9CA04911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610-83A0-470B-9DEA-5E72C7D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625-43D8-4F2B-95C1-A6E82A2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401-598E-400D-B946-47F7696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044-EE3D-4FE8-8AAA-FBFDA927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A4D8-FD6D-46AA-85B7-E9CB4949E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gallery.php?entry=oogonium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360" y="380880"/>
            <a:ext cx="385272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458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880"/>
            <a:ext cx="83822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ABYRINTHULOMYCOTA (LABYRINTHISTA, LABYRINTHU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ABYRINTHULOMYCETES (LABYRINTHUL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řské organismy; dvě dobře oddělené skupiny, které spojuje buněčná stěna tvořená tenkými šupinkami a 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atických výběž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zblanné, neobsahují organely), vycházejících z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trosom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povrchu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reprodukční fázi tvorba sporangií =&gt; v nich vznikají zoospory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 laterální heterokontní bičíky, přední péřitý, zadní hladký) nebo aplanospory (prav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ě možnost amébovitého pohybu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egetativní buňky kulovité nebo elipsoidní, na jejich bázi vyrůstá z bazálního botrosomu síť ektoplazm. výběžků, které neobklopují buňky - jimi jsou buňky nejčastěji připevněny k substrátu (ale jejich stahová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/natahováním se mohou i pohybov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00880" y="4000680"/>
            <a:ext cx="3124080" cy="244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4038480"/>
            <a:ext cx="51818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dělením buňky vzniká sorus, který se obalí stěnou (převažuje v ní galaktóza anebo galaktan) =&gt; jaderná dělení =&gt; prosté dělení buněk anebo rozpad mnohojaderného protoplastu =&gt; zoospory se 2 bičíky, nemají stigma (u některých rodů jen aplanospory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vody, v detritu nebo na povrchu řas, rostlin aj., saprofyt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několik rod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586728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Foto Celeste Leander, http://tolweb.org/Labyrinthulomycetes/217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2012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80880"/>
            <a:ext cx="5791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izovitá bezbarvá ektoplaz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cká síť (tvořená hlavně mukopolysacharidy) obklopuje oválné buňky, které jsou jakoby uzavře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tických "trubicích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yb uvnitř těchto "trubic" umožňují kontraktilní aktinomyozinové bílkovi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t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motrof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ávicí enzymy pronikají přes 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ť ven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živiny dovnitř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buňky se seskupí na určitých místech sítě, obalí se tenkou stěnou a vytvoří sorus (shluk) =&gt; zde jaderná dělení =&gt;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zoospor se 2 bičík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gmatem (vzác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lan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y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strátem ztrácejí bičí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 vittel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ištěno, že jaderné dělení je redukč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zde tedy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, ale není známo, kde dochází ke karyogamii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a brakické vody, v organickém detritu, na povrchu řas i rostlin; některé parazitick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1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485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otany.uga.edu/zoosporicfungi/index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95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438280" cy="208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48520" y="2590920"/>
            <a:ext cx="2438280" cy="166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9600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201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80880"/>
            <a:ext cx="548640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YPHOCHYTR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YPHOCHYTR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lá skupina jednoduchých organismů (vzhledově podob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ům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dvouvrstevná - vnější celulózní, vnitřní chitinóz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primitiv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i 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dvozenější eu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 rhizomyceliem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idi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poly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oosporangia propoj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ami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s jedním apikálním péřitým bičí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a přehrádkami, v hyfách přehrádky vzác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pozorováno u jediného druhu (izogamie, splývají aplanogam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18172" t="10689" r="18172" b="0"/>
          <a:stretch/>
        </p:blipFill>
        <p:spPr>
          <a:xfrm>
            <a:off x="6019920" y="2286000"/>
            <a:ext cx="2639880" cy="251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5715000"/>
            <a:ext cx="8382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parazité na řasách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nebo živočiší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d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ůd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1 třída, 1 řád, zástu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vi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é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775040"/>
            <a:ext cx="30481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phochytrium caten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nahoře sporangia v pyl. zrnu, dole růst stélek z pyl. zr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http://www.bsu.edu/classes/ruch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8188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 (superskupina)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AMINIP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ONOSPOROMYCOTA (OOMYCO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- OOMYC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OMYCETES (O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též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OPHYC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stélky endobiotické (intra- nebo intercelulární), monocentrické (ze stélky vznikne 1 sporangium) a eukarpické (jen část stélky se změn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ací útvar), vzácněji holokarpické (celá stélka se změ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ětšiny zástupců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nejvýš s tzv. nepravými přehrádkami), bývá eukarpické a polycentr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cké druhy vytvářejí na myceliu haustoria, pronikající do buněk hostite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itrobuněční parazité mají amorfní stélku bez buněčné stěny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mycelia obsahuje hlavně celulózu (fibrilární struktura) a amorfní směs polyglukanů, v menší míře jiné látk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povídá sifonální stélce u řas), mnohojadern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dy je vytvořena centrální vakuola, mitochondrie mají trubicovit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BV (dense body vesicles) systé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o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ý na glukany, podílí se na jejich polymeraci při tvorbě buněčné stěny nebo zo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 je mykolaminaran (rozpustný polygluk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836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836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79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89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4305240"/>
            <a:ext cx="838224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kterých po encystaci vznikají sekundárn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dru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ší případy - polyplanetismus (více generací sekund. zoospor: zoospora =&gt; encystace =&gt; zase zoospora) nebo aplanetismus (zoospory se encystují ještě uvnitř sporangia, ven už vycházejí pouze aplan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žnost změny zoosporangia na monosporické sporangium (tzv. "konidii"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mi to nemá nic společného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zoospor se vytvářejí také tlustostěnné nepohyblivé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929" b="0"/>
          <a:stretch/>
        </p:blipFill>
        <p:spPr>
          <a:xfrm>
            <a:off x="4114800" y="406440"/>
            <a:ext cx="4595760" cy="358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088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planosp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m typem jsou sekundár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urokontní zo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ič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cházejí z boku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sou heterokontní, přední péřitý, zadní jen s jemnými vlásky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-li jen toto jedno pohyblivé stadium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m cyklu, jd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ruhy označeny jako mono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skup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rve primární akrokontní 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bičíky apikální, téměř stejné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25880" y="3822840"/>
            <a:ext cx="47242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oospo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palmiv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esjardins et al. (1969): Electron microscopic observations ..., Can. J. Bot. 47: 1077-10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313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e o oogamii, protože nedochází k tvorb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olných gamet (souvisí zřejmě s přechod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vody na souš; tento proces je i u vodních dru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sekundárně vodní?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terid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rmonálně přitahována k oogoni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o kontaktu kopulačními kanálky přejdou samč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o oogonia =&gt; oplozená oosféra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ou oosp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i mitóza jsou uzavř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nebo parazité, primitivnější typy ve vodním (nebo vlhkém) prostředí, nejodvoze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nadzemních částech suchozemský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voluční tendence spojené s přechodem z vody na souš: menší počet pohyblivých stadií, přechod od saprofytismu k obligátnímu parazitismu, s tím spojená specializace vedoucí až k tzv. organotropii (specializace na určité orgány hostitel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pohledu člově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gativní, řada fytopatogenních dru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rámci oddělení 1 třída; oddělení řazeno v systé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minip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předpoklad vývojové spojitosti s heterokontními řas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8892" t="31094" r="16354" b="16632"/>
          <a:stretch/>
        </p:blipFill>
        <p:spPr>
          <a:xfrm>
            <a:off x="5791320" y="457200"/>
            <a:ext cx="2876400" cy="207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25880" y="2514600"/>
            <a:ext cx="4724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remia lactuc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gametan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. Petržel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gallery.php?entry=oogoniu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38836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4679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019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743200"/>
            <a:ext cx="8382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- stélka eukarpická, ve větveném myceliu jsou místa zaškrcení ucpaná celulinovými zrny; v buněčné stěně je chitin; počet chromosomů n=4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druhů monomorfních, je znám i diplanetismus, případně se primární zoospory encystují již ve sporangi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hradně saprofyté ve vodě nebo vlhké půdě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télka eukarpická, charakteristický diplanetismus (odvozeně poly- a aplanetismus); počet chromosomů n=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saprofyté ve sladkých vodách, příp. v půdě nebo na kořenech, druhot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řas, hub, živočich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 parasitic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 ryb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hl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aků i zelen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61320" y="457200"/>
            <a:ext cx="168264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80880"/>
            <a:ext cx="64008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vodní plísně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rimárních i sekundárních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často více oosfé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fug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glukosaminů v buněčné stěně a tzv.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jem síry pouze v organické for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905120"/>
            <a:ext cx="2908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prolegn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–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íce oosfér v oogoni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438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34936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2169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koncích hyf se tvoří sporangia (často proliferující) =&gt; rozpad jejich obsahu na primární zoospory =&gt; encystace v primární cysty =&gt; z nich sekundární zoospory =&gt; encystace v sekundární cysty =&gt; z nich klíčí hyf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starších hyfách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í gametangia (oddělená přehrádkou) =&gt; v oogoniu se vytvoří více jader =&gt; více oosfé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o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ifugální tvorba oosfér); anteridia obklopí oogonium =&gt; vytvářejí oplozovací hyfy, které vniknou do oogonia =&gt; jimi přejdou samčí jádra =&gt; oplození oosfér =&gt; vytvořením pevné stěny vznikají oospory =&gt; po někol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ěsíčním klidu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é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rba chlamy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(terminálně i interkalár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9398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38224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ouze sekundárních zoospor (nebo aplanetismu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(až na výjimky) jedna oosfé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pet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ítomnost glukosaminů v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ě a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 cytoplazmě zoosp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čet chromosomů n=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opny přijímat anorganickou síru (S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ont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opsid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řas nebo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á stélka, holokarpická, monocentrická; rů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biotický (uvnitř protoplastů hostitele) nebo intramatrikální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zibuněčných prostore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 mládí nahá (ale nesplývá s protoplastem hostitele), později vytváří stě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áří se celá stélka mění na reprodukční 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angia (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ho typu, vzácně polyplanetismus) nebo gametan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th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a cenocytická (u starších hyf se tvoří i přehrádky), intracelulární nebo intramatrikální, většinou netvo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ediferencovaných hyfách s neukončeným růstem se tvoří sporangia apriori terminálně, ale další růst hyfy je odsune do boční poz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obvykle pouze sekundární (vzácně polyplanetismus), sporangium může klíčit i přímo hyfou (chová se jako sporangium s 1 aplanospor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tupci řádu jsou vodní a půdní saprofyté nebo parazité řas, hub nebo rost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ythium oligand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ilný kompetitor, schopný likvidovat mycelia jin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45964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366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3776760"/>
            <a:ext cx="2889360" cy="26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80880"/>
            <a:ext cx="83822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nepravá padlí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obligátní parazi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évnatých rostl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tophthora infest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líseň bramborová) napadá nadzemní části (listy) i hlí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závažnější patogen brambor, jeho zavlečení v 19. století vedlo k hladom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imuje na povrchu hlíz =&gt; na jaře napadá očka =&gt; vyroste s rostlinou =&gt; skrz průduchy vyrůstají sporangiofory =&gt; zoosporangia roznášena větrem =&gt; uvolní se zoospory =&gt; v kapce vody vyklíčí v hyfu (při ni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vlhkosti se netvoří zoospory a celé sporangium vyklíčí v hyfu) =&gt; průduchem pronikne do dalšího listu =&gt; haustoria vnikají do buněk, tvorba nových sporangiofor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imě se tvoří oogonia (nejpr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n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jader, ale zůstane jen jedno) a anteridia (zůstanou mnohojaderná, ale je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ádro projde do oogonia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spora klíčí vláknem, nesoucím zoosporan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2760" y="4343400"/>
            <a:ext cx="2666880" cy="20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25960" y="4343400"/>
            <a:ext cx="2666880" cy="2004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3840120"/>
            <a:ext cx="556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infest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ymptomy napaden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Phytophthora%20infest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1820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49840" y="3808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ická pro řá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 cenocytická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intercelulární mycelium vytvá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se vytváří na větvených sporangioforech; vzácněji se tvoří zoospory, obvykle jednosporové sporangium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ametangi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da druhů má hospodářský 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15240"/>
          <a:stretch/>
        </p:blipFill>
        <p:spPr>
          <a:xfrm>
            <a:off x="5353200" y="3019320"/>
            <a:ext cx="34858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3403440"/>
            <a:ext cx="51818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mopara vitic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kvrny na listech, nedosta-tečné dozrání plodů vinné révy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ribico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otéž na rybízu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eronospora humu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razit chmel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emia lactu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menáčky salátu),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různých rostlinác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lbugi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bílé rzi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bugo candi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íseň bělostná) tvoří ložiska s nevětenými sporangiofory nesoucími řetíz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jejich tlakem ložisko pras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ění sporan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3471" t="0" r="0" b="0"/>
          <a:stretch/>
        </p:blipFill>
        <p:spPr>
          <a:xfrm>
            <a:off x="457200" y="482760"/>
            <a:ext cx="159084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2463840"/>
            <a:ext cx="4648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ugo candid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stonku kokošky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lasmopara vitico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listu vinné rév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Albugo%20candida, Michaela Sedlářová, http://botany.upol.cz/atlasy/system/gallery.php?entry=Plasmopara%20viticola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057400" y="482760"/>
            <a:ext cx="2590920" cy="19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859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2242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9379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15Z</dcterms:modified>
  <cp:revision>147</cp:revision>
  <dc:subject/>
  <dc:title>Snímek 1</dc:title>
</cp:coreProperties>
</file>