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A9E-91AB-459E-B12F-9C666F5A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7C6-7E0E-4663-A8DB-CC410A87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087-2A44-431A-BCA5-61790670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490-1924-4195-B072-663C53C0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6BE-F351-481C-ABD4-57BAD80D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987-BF9B-47E4-8C06-AF1AC44E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C2A-A806-47D4-9E02-5356B1A4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5D2-649C-48AA-BA92-2DC1129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3CF-1B93-4E24-9A62-92E59F73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1BD-AE20-4F49-8135-28060434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315-AC43-411B-9600-5D02E2A4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6D4-2423-468A-90BE-7D143F27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87DA-37F4-4BEE-9BA3-782C57E27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nahuby.sk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nazvy/plasmodiophora-brassicae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smos.bot.kyoto-u.ac.jp/csm/photos-j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276720"/>
            <a:ext cx="8382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y oproti protosteliím a vlastním hlenkám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myxomonády, shlukováním myxaméb vznikají pseudoplazmodia, spory se tvoří na sorokarpech (znaky shodné s akrasiemi, od nichž je odlišuje stavba myxaméb, diferenciace sorokarpů a celulózní stěna 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myxaméby přímo vytvoř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u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krocysty (rozdíl oproti makrocystám – ty vznikají po kopulaci, jsou diploidn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 zejména v půdě nebo na organických zbytcích, nejví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mírném pás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cty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876920" cy="274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43352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80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ctyostel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hlukování myxamé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zrávající s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6542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obr. vpravo: 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83822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YXOGASTREA (MYX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VLASTNÍ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haplodiplobiotický, tvoří se haploidní myxomonády i myxaméby a následně diploidní 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ý průběh mitó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xaméby (resp. myxomonády) mají otevře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it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olami, v plazmodiích probíhá uzavř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tóz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centri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všech stadií holozoická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440" y="24382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5480" y="2336760"/>
            <a:ext cx="58676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příznivých podmínek (teplota, vlh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se ze spory uvolní myxaméby - volně se mění na myxomonád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ět vytvořením/ztrátou bičíků anebo v nepříznivých podmínkách vytvoří cysty a pak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z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rejdí; myxaméby i myxomonády fungují jako gamety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+ a – jedinců =&gt; diploidní myxaméby (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i monád zatažení bičíků)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mitóz be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rotoplastu =&gt; mnohojaderné plazmo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4400" y="491976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10080" y="49197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6134040"/>
            <a:ext cx="731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uvolnění monády ze spory      kopulace myxomonád           primární plazmo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616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plazmo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é fázi negativně fototaktické =&gt; při přechodu do reprodukční fáze pozitivní fototaxe, plazmodium ztrácí vodu a na povrchu se tvoří tenká blan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z něj vyrůstají sporokarpy =&gt; uvnitř nich vakuolizace =&gt; tvorba kapilicia; vlastní plazmodium se mění ve spory: sporokarp se rozpadá =&gt; diploidní jádra se obaluj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 =&gt; dochází k meiozi =&gt; 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egenerují, výsledná spora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jaderná (jsou znám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v případě následných mitóz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nich klíč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759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822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značují prouděním plazmy, synchronizovaným dělením jader, schopností růstu i po rozdělení a naopak splývání plazmodií téhož druh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mikroskopické, jen pomalé proud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y; vzniká z něj jeden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fan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ětší se; strukturu tvoří síťovitá žilnatina, kterou obklop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a, rychle proudící; vzniká z něj více sporokarp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ner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ž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č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roste do makroskopických rozměrů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itější, členěná na gelatinózní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kutou část, protoplazma je zrnitá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éž z něj vzniká více sporokar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faneroplazmodium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435600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67080" y="3000240"/>
            <a:ext cx="445608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75560" y="1079640"/>
            <a:ext cx="1950840" cy="213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nepříznivých podmínkách se plazmodia mění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rdé nebuněčné útv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51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50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80880"/>
            <a:ext cx="601992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lazmodií vznikají reprodukč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opkatá nebo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dlá) vznikají z protoplazmod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malých částí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tha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stopkatá, rozlitá) vznikají z větších částí plazmo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o vlastně útvar vzniklý sloučením řady sporang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listvý útvar se společným obalem – 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druhů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ště zřetelné 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ích sporangií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aeth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á z velkých částí síťovitého plazmodia, gelatinózní plazma se koncentruje podél žilnatiny, postupně se tvoří peridie (celý výsledný útvar může být síťovit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86200" y="469800"/>
            <a:ext cx="4863960" cy="1324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38960" y="3581280"/>
            <a:ext cx="232092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38960" y="1981080"/>
            <a:ext cx="2320920" cy="143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51280" y="4267080"/>
            <a:ext cx="2371680" cy="215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37440" y="5486400"/>
            <a:ext cx="2361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sporangi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íže aethal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pseudoaethal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lazmodi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496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867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5(-6) řádů ve 2(-3) skupinách (některými autory jsou do této třídy řazeni i zástupci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298760" cy="489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80880"/>
            <a:ext cx="396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sporokarpů se tvoří vlákna (jednotlivá nebo větven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buněčná struktura vzniklá z vyloučenin vakuol, uchycená na peridii, bázi sporokarpu nebo kolumelu (pseudokapilic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pravidelné niťovité útva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mají dvoj- (příp. tří-)vrstevnou stěnu, vnitřní vrstva je celulózní, 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ější jsou různé látk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cela kosmopolitní, závislé na dostatečné teplotě a vlhk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eferují chladná, stinná, vlhká místa; v mírném pásu růst omezen na letní sezó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: organické zbyt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jmé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é,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jí i v pů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živí se mikroorganismy tam žijíc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330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70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80880"/>
            <a:ext cx="613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hlen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oidní typ vzniku sporokarpu – na povrchu plazmodia se vytváří hypothalus, z něj roste sporokar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rofické fázi tvoří proto- nebo faner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protoplazmodia a sporangia, nejmenší zástupci; příbuznost s podtříd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naznačuje společný pův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e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oto- nebo faneroplazmodia, sporokarpy různých typů, netvoří se (neplatí bez výjimky) kolumela a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ga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čí mléko, růžová kulovitá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54" t="3579" r="954" b="0"/>
          <a:stretch/>
        </p:blipFill>
        <p:spPr>
          <a:xfrm>
            <a:off x="6535800" y="457200"/>
            <a:ext cx="2130480" cy="279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20721" b="0"/>
          <a:stretch/>
        </p:blipFill>
        <p:spPr>
          <a:xfrm>
            <a:off x="469800" y="4556160"/>
            <a:ext cx="2054160" cy="18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5880" y="4556160"/>
            <a:ext cx="2606760" cy="18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27594" r="0" b="0"/>
          <a:stretch/>
        </p:blipFill>
        <p:spPr>
          <a:xfrm>
            <a:off x="2616120" y="4556160"/>
            <a:ext cx="339084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352680"/>
            <a:ext cx="8382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aneroplazmodia, sporokarpy různých typů, tvoří se kolumel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, často inkrustované Ca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nebo plazmo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py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li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lizovka,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02264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: aetha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gala epidendr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 leucophae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ethal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ligo sep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4160" y="2971800"/>
            <a:ext cx="221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Echinostelium minu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6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692440"/>
            <a:ext cx="5181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vo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 typ me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f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faneroplazm., sporokar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apilicium bohatě strukturov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cy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na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asat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oidní typ vzniku sporokar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 se vytváří na spodní straně plazmodia na substrá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lenky v trof. fázi tvoří afan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 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s jemnou peridií, vytvořena kolumela a větvené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zder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631" t="0" r="4973" b="0"/>
          <a:stretch/>
        </p:blipFill>
        <p:spPr>
          <a:xfrm>
            <a:off x="469800" y="457200"/>
            <a:ext cx="2880000" cy="217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08720" y="1981080"/>
            <a:ext cx="3232080" cy="455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880240" y="380880"/>
            <a:ext cx="28954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ichi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rcyria pomiform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vývin sporangi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monitis f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alibor Matýse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Echinostelium, Physarum, Arcyr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Oldřich Roučka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Fuligo, Stemonit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avol Baksy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Lycoga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Anton Moci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Trich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fotografií: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33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HIZ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RC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lasmodiophor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nádor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ě specializovaná skupin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igátní endoparazit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dysi řazeny k hlenkám pro podobnost vegetativních útvar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 tvoří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hojaderné útvary, které na rozdíl od plazmodií hlenek nevznikají splýváním menších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odliš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je osmotrofní (ne holozoická jako u hlene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 zde stadium myxaméb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buněčné stěny (cyst, sporangií) je chitin, chybí celulóz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sporokarpy (možná adaptace na obligátní parazitismus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cysty vyklíčí bičíkatá primární zoospora =&gt; přichytí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rch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směrem k buněčné stěně hostitele se vytvoří "trn" =&gt; vakuol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ce se zvětšuje =&gt; tlak plazmy na "trn" prorazí stěnu hostitele =&gt; protoplast parazita se přelije do buňky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jad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ez dělení protopla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znik mnohojaderných primárních (haploidních) neboli sporangiogenních paraplazmodií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48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39625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paraplazmodia se v lé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ělí na jednotlivá sporangia (gametangi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spor (gamet) =&gt; uvolní se z hostitele do půdy =&gt; dal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; některé spory přejmou v půdě úlohu gamet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uj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to fá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uze plazmogamie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oospory pronikají zase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buně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pomnožením jader vzniká sekundární (diploidní) neboli cystogenní paraplazmodium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=&gt; meioza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adá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é cys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láštní způsob dělení jádr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m paraplazmodiu (uvnitř uzavřené jaderné blány): metafázové chromosomy utvoří prstenec kolem jadérka, které se protáhne kolmo na rovinu prstence =&gt; vznik struktu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pomínající kří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"křížové dělení" (krom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ám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o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19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bligátní biotrofní parazité řas, rostlin a oomycet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výskyt a rozšíření je spjat s výskytem hostitelských organism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ý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jedině negativní - škody na kulturních plodiná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 sekundárního paraplazmodia působí na rostlinách hypertrofie (zvětšení) a hyperplazie (zmnožení buněk) =&gt; z nich se pak po rozpadu buněk uvolňují cy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ůdy =&gt; šířen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jeden z řádů v rámci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námější dru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Plasmodiophora 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dorovka kapustová, na snímku vpra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ptomy na kořenech) je parazit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snímku cysty v kořenu pšenice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našeči vi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362320"/>
            <a:ext cx="297972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10080"/>
            <a:ext cx="35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to: Michaela Sedlářová, 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nazvy/plasmodiophora-brassicae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2760" y="367020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86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XCA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COL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ETEROLOBO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cras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akra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u charakteri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lcovitých 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ejichž pseudopodia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subpseudopo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něčné stěn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celul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yl pozorován pohlavní proces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m typem stélky je haploidní myxaméba s jedním jádrem (výjimečně více); dělení myxaméb je schizotom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odia (panožky) myxaméb jsou lalokovitá, bez koncových výběž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ubpseudopo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myxaméb je holozoická, pohlcují bakterie, kvasinky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výjimečně dochází ke vzniku myxomonád, které mají 2 akrokontní bičíky bez mastigonema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dochází ke vzniku tenkostěnných mikrocyst anebo sférocyst s drsnou stěnou (mohou vznikat i splynutím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581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e spor se uvol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rozmnožování dělením =&gt; nastává shlukovací fáze - shlukováním myxaméb vznikají pseudoplazmodia =&gt; postupně se diferencují na stopku a sorogen =&gt; na stopce se vytvoří buněčná stěna, zatímco sorogen (stále tvořený shlukem buněk) se rozčlení do laloků =&gt;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se vytvářejí řetězce spor (již s buněčnou stěnou) =&gt; vzniká sorokarp =&gt;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stopky se promění ve spor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půdě nebo na organických substráte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atické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žná polyfyletická skupina, v rám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ce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de než hlenky, jimž jsou podob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ámým zástupcem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s ros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rganismus tvo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ranžové myxaméby a pseudoplazmo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3085920" cy="246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1640" y="557532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osmos.bot.kyoto-u.ac.jp/csm/photos-j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MOEB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CETOZOA (MYXOMYCOTA, MYXOPROTIS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íve spojovány do jednoho oddělení s akrasiemi, se kterými je spojují některé společné znak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 to holozoická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cování jiných organism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trofické fázi se vyskytují v podobě měňavkovi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bičíka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mon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tvoří mnohojader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ní vytvořena pevná buněčná stěn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reprodukční fázi se vytváří plodni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spory s pevnou buněčnou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lidové fázi tvoří mikrocysty nebo sklerocia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oproti akrasiím jsou hlenky vymezeny těmito znaky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é 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pseudopodi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pseudopo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buněčná stěn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ulóz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dochází k pohlavnímu procesu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jďme si tedy zopakovat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ou fázi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, myxomonády, 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seudoplazmodií vznik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 myxaméb nebo plazmodi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útvary, v nichž se tvoří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ými stadii jsou mikrocyst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1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TOSTELEA (PROT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 se myxomonády nebo myxaméby, splýváním vznikají plazmodia; stopkaté sporokarpy obsahují max. 8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kytují se celosvětově v půdě i na rozkládajících se organických substrátech, bývají součástí společenstev dekompozitorů (jimiž se živ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imitivní typy, netvoří se myxomonády ani plazmodia, není pohlavní proce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e spory vyklíčí myxaméba =&gt; postupně se z ní vytvoří stopkatý sporokarp =&gt; z něj se uvolní 1 spor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zená v různých systémech do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pory se tvoří exogenně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oří se myxomonády, je zde pohlavní proces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ečkovk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pory klíčí myxomonády =&gt; pře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myxaméby =&gt; splývají v mnohojader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um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avděpodobně kopu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diploidní) =&gt; z plazmodia se vytvo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vislý povlak sloupečků =&gt; na nich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i vznikají 1-sporová spor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 nich se dále dělí (na 4-8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uněk se pak uvolní myxomoná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3949560"/>
            <a:ext cx="384336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99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114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ICTYOSTEL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DICTY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biotický životní cyklus: 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í myxaméby =&gt; množí se dělením =&gt; v případě nedostatku (potravy, vody, světla) nastává agregační fáze: kopulací myxaméb vznikají makrocysty (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pak me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ckým děl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se améby), produkující akrasin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rakta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tahu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alší myxaméby =&gt; shlukování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jednojaderných améb =&gt; za určitých podmínek migrace =&gt; vznik sorokarpu: vytvoří se stopečka =&gt; po ní posun améb na vrchol =&gt; přeměna ve spory s celulózní bun. stěn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í améb vznikají tlustostěnné odpočívající makrocysty =&gt; z nich zas vyklíčí amé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7048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08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37Z</dcterms:modified>
  <cp:revision>146</cp:revision>
  <dc:subject/>
  <dc:title>Snímek 1</dc:title>
</cp:coreProperties>
</file>