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E26B-DDF2-44B1-89CE-8583AE1C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355-F987-4C29-AF63-A309F3A5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542B-C551-4998-AAB7-2DA61507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3E90-735F-45A3-90F5-5DEA4B51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D737-B2F9-4CB3-89FA-1EF06C59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C08-CAC1-4B25-A1C9-0D700594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CBA2-55E9-48F8-93A6-90293F13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E93-7FCF-4AB5-A318-DB0C6325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6082-BCA2-44A0-9E0A-951F107C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D1E2-8456-4B14-9D30-5F4BDF4A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B7CE-0FCD-43C3-A195-E234F6C0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F801-D3EC-4A1C-865B-9E63F351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8306-8554-44FC-A20B-0C259B599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hyperlink" Target="http://www.nahuby.sk/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botany.upol.cz/atlasy/system/nazvy/plasmodiophora-brassicae.html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bsu.edu/classes/ruch/msa/barr.html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cosmos.bot.kyoto-u.ac.jp/csm/photos-j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276720"/>
            <a:ext cx="8382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y oproti protosteliím a vlastním hlenkám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myxomonády, shlukováním myxaméb vznikají pseudoplazmodia, spory se tvoří na sorokarpech (znaky shodné s akrasiemi, od nichž je odlišuje stavba myxaméb, diferenciace sorokarpů a celulózní stěna spor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nepříznivých podmínek myxaméby přímo vytvoř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u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a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krocysty (rozdíl oproti makrocystám – ty vznikají po kopulaci, jsou diploidní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 zejména v půdě nebo na organických zbytcích, nejví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mírném pásu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cty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876920" cy="2747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10080" y="457200"/>
            <a:ext cx="1433520" cy="2590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934320" y="38088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ictyosteli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shlukování myxaméb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dozrávající sorokar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26542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 obr. vpravo: R. Moore, W. D. Clark, K. R. Stern &amp; D. 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380880"/>
            <a:ext cx="83822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YXOGASTREA (MYXOMYCETES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– VLASTNÍ HLE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je haplodiplobiotický, tvoří se haploidní myxomonády i myxaméby a následně diploidní 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zný průběh mitóz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xaméby (resp. myxomonády) mají otevře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itóz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triolami, v plazmodiích probíhá uzavře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tóz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ez centrio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všech stadií holozoická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agocyt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06440" y="2438280"/>
            <a:ext cx="2469960" cy="4038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5480" y="2336760"/>
            <a:ext cx="586764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příznivých podmínek (teplota, vlh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se ze spory uvolní myxaméby - volně se mění na myxomonády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ět vytvořením/ztrátou bičíků anebo v nepříznivých podmínkách vytvoří cysty a pak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za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rejdí; myxaméby i myxomonády fungují jako gamety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e + a – jedinců =&gt; diploidní myxaméby (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i monád zatažení bičíků)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mitóz be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protoplastu =&gt; mnohojaderné plazmod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984400" y="4919760"/>
            <a:ext cx="2286000" cy="1522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410080" y="4919760"/>
            <a:ext cx="2286000" cy="1522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880" y="6134040"/>
            <a:ext cx="731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uvolnění monády ze spory      kopulace myxomonád           primární plazmodi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8244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616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38088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nohojaderné plazmod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ofické fázi negativně fototaktické =&gt; při přechodu do reprodukční fáze pozitivní fototaxe, plazmodium ztrácí vodu a na povrchu se tvoří tenká blank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potha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z něj vyrůstají sporokarpy =&gt; uvnitř nich vakuolizace =&gt; tvorba kapilicia; vlastní plazmodium se mění ve spory: sporokarp se rozpadá =&gt; diploidní jádra se obaluj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ou =&gt; dochází k meiozi =&gt; 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ádra degenerují, výsledná spora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jaderná (jsou známy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jaderné v případě následných mitóz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nich klíč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íce myxamé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3765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067280" y="256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87596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80880"/>
            <a:ext cx="838224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vyznačují prouděním plazmy, synchronizovaným dělením jader, schopností růstu i po rozdělení a naopak splývání plazmodií téhož druh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mikroskopické, jen pomalé proudě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y; vzniká z něj jeden sporokarp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fan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zpočátku jako pro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větší se; strukturu tvoří síťovitá žilnatina, kterou obklop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toplazma, rychle proudící; vzniká z něj více sporokarp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aner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ž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očátku jako pro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č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roste do makroskopických rozměrů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h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uktur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žitější, členěná na gelatinózní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kutou část, protoplazma je zrnitá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éž z něj vzniká více sporokar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faneroplazmodium rodu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sar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4356000"/>
            <a:ext cx="2743200" cy="2052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267080" y="3000240"/>
            <a:ext cx="4456080" cy="2808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775560" y="1079640"/>
            <a:ext cx="1950840" cy="2133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6720" y="58672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nepříznivých podmínkách se plazmodia mění 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leroc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vrdé nebuněčné útv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85128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650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380880"/>
            <a:ext cx="601992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plazmodií vznikají reprodukč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uktu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topkatá nebo př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dlá) vznikají z protoplazmodi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o malých částí plazmodi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ethal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estopkatá, rozlitá) vznikají z větších částí plazmod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to vlastně útvar vzniklý sloučením řady sporang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elistvý útvar se společným obalem – perid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některých druhů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ště zřetelné stě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ůvodních sporangií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zv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aetha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okar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zniká z velkých částí síťovitého plazmodia, gelatinózní plazma se koncentruje podél žilnatiny, postupně se tvoří peridie (celý výsledný útvar může být síťovitý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86200" y="469800"/>
            <a:ext cx="4863960" cy="1324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438960" y="3581280"/>
            <a:ext cx="2320920" cy="1843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438960" y="1981080"/>
            <a:ext cx="2320920" cy="1435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851280" y="4267080"/>
            <a:ext cx="2371680" cy="2157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337440" y="5486400"/>
            <a:ext cx="2361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 sporangi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íže aethalium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 pseudoaethalium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plazmodiokar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348000" y="429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496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5867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5(-6) řádů ve 2(-3) skupinách (některými autory jsou do této třídy řazeni i zástupci čeled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80880"/>
            <a:ext cx="4298760" cy="489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380880"/>
            <a:ext cx="3962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nitř sporokarpů se tvoří vlákna (jednotlivá nebo větvená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pili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ebuněčná struktura vzniklá z vyloučenin vakuol, uchycená na peridii, bázi sporokarpu nebo kolumelu (pseudokapilic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pravidelné niťovité útva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y mají dvoj- (příp. tří-)vrstevnou stěnu, vnitřní vrstva je celulózní, v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nější jsou různé látky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cela kosmopolitní, závislé na dostatečné teplotě a vlhkost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eferují chladná, stinná, vlhká místa; v mírném pásu růst omezen na letní sezón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bstrát: organické zbytky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jmé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stlinné, al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jí i v půd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živí se mikroorganismy tam žijící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836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2436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3307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97056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380880"/>
            <a:ext cx="613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a hlene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á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gastroidní typ vzniku sporokarpu – na povrchu plazmodia se vytváří hypothalus, z něj roste sporokar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trofické fázi tvoří proto- nebo fanero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chinostel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voří protoplazmodia a sporangia, nejmenší zástupci; příbuznost s podtříd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o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naznačuje společný původ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chin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ce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oto- nebo faneroplazmodia, sporokarpy různých typů, netvoří se (neplatí bez výjimky) kolumela a kapilicium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ycoga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čí mléko, růžová kulovitá aethal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954" t="3579" r="954" b="0"/>
          <a:stretch/>
        </p:blipFill>
        <p:spPr>
          <a:xfrm>
            <a:off x="6535800" y="457200"/>
            <a:ext cx="2130480" cy="2792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0" t="0" r="20721" b="0"/>
          <a:stretch/>
        </p:blipFill>
        <p:spPr>
          <a:xfrm>
            <a:off x="469800" y="4556160"/>
            <a:ext cx="2054160" cy="1841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095880" y="4556160"/>
            <a:ext cx="2606760" cy="1843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0" t="27594" r="0" b="0"/>
          <a:stretch/>
        </p:blipFill>
        <p:spPr>
          <a:xfrm>
            <a:off x="2616120" y="4556160"/>
            <a:ext cx="3390840" cy="1844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3352680"/>
            <a:ext cx="838224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ar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faneroplazmodia, sporokarpy různých typů, tvoří se kolumela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pilicium, často inkrustované CaC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ar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porangia nebo plazmod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py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ulig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lizovka, aethal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4022640"/>
            <a:ext cx="4496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leva: aethal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ycogala epidendrum,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orang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sarum leucophaeum,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ethalium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Fuligo sept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64160" y="2971800"/>
            <a:ext cx="221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Echinostelium minut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06728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865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2692440"/>
            <a:ext cx="51818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i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tvoř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chodný typ mez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fa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faneroplazm., sporokar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a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d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kar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kapilicium bohatě strukturova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cy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natka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asat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oidní typ vzniku sporokar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pothalus se vytváří na spodní straně plazmodia na substrá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to hlenky v trof. fázi tvoří afano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 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porangia s jemnou peridií, vytvořena kolumela a větvené kapilicium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azder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6631" t="0" r="4973" b="0"/>
          <a:stretch/>
        </p:blipFill>
        <p:spPr>
          <a:xfrm>
            <a:off x="469800" y="457200"/>
            <a:ext cx="2880000" cy="2171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429000" y="457200"/>
            <a:ext cx="2457360" cy="3276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508720" y="1981080"/>
            <a:ext cx="3232080" cy="4552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880240" y="380880"/>
            <a:ext cx="289548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sporang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ichia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.,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rcyria pomiform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dole vývin sporangií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temonitis fus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alibor Matýsek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Echinostelium, Physarum, Arcyri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Oldřich Roučka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Fuligo, Stemonitis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Pavol Baksy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Lycogal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Anton Mocik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Trichi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 fotografií: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012000" y="155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8331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82240" cy="65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AR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ývojová větev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HIZ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ERC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HYTOMYX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tozoální organismy, mezi které pat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lasmodiophorid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- nádoro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lně specializovaná skupina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ligátní endoparazit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dysi řazeny k hlenkám pro podobnost vegetativních útvar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doro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y tvoří tzv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mnohojaderné útvary, které na rozdíl od plazmodií hlenek nevznikají splýváním menších plazmodi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odlišnos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je osmotrofní (ne holozoická jako u hlenek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bí zde stadium myxaméb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lavní složkou buněčné stěny (cyst, sporangií) je chitin, chybí celulóz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sporokarpy (možná adaptace na obligátní parazitismus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cysty vyklíčí bičíkatá primární zoospora =&gt; přichytí s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vrch buň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=&gt; směrem k buněčné stěně hostitele se vytvoří "trn" =&gt; vakuola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ce se zvětšuje =&gt; tlak plazmy na "trn" prorazí stěnu hostitele =&gt; protoplast parazita se přelije do buňky hostite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jad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ez dělení protoplast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vznik mnohojaderných primárních (haploidních) neboli sporangiogenních paraplazmodií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98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48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80880"/>
            <a:ext cx="3962520" cy="61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mární paraplazmodia se v lét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ělí na jednotlivá sporangia (gametangia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sahují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8 spor (gamet) =&gt; uvolní se z hostitele do půdy =&gt; dal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fekce; některé spory přejmou v půdě úlohu gamet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ují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této fáz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uze plazmogamie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-jaderné zoospory pronikají zase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buně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=&gt; pomnožením jader vzniká sekundární (diploidní) neboli cystogenní paraplazmodium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ně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yogamie =&gt; meioza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adá s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lustostěnné cyst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vláštní způsob dělení jádra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árním paraplazmodiu (uvnitř uzavřené jaderné blány): metafázové chromosomy utvoří prstenec kolem jadérka, které se protáhne kolmo na rovinu prstence =&gt; vznik struktu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řipomínající kří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zv. "křížové dělení" (krom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dorov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námo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ých skup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vo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90920" y="0"/>
            <a:ext cx="43768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67280" y="386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4019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380880"/>
            <a:ext cx="83822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obligátní biotrofní parazité řas, rostlin a oomycet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jich výskyt a rozšíření je spjat s výskytem hostitelských organismů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podářský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jedině negativní - škody na kulturních plodinách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 sekundárního paraplazmodia působí na rostlinách hypertrofie (zvětšení) a hyperplazie (zmnožení buněk) =&gt; z nich se pak po rozpadu buněk uvolňují cys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o půdy =&gt; šíření infekc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jeden z řádů v rámci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hytomyx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známější druh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Plasmodiophora brassi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ádorovka kapustová, na snímku vpra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mptomy na kořenech) je parazit brukvovi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myx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a snímku cysty v kořenu pšenice)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našeči vi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88000" y="2362320"/>
            <a:ext cx="2979720" cy="3047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81480" y="5410080"/>
            <a:ext cx="359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to: Michaela Sedlářová, 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botany.upol.cz/atlasy/system/nazvy/plasmodiophora-brassicae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2760" y="3670200"/>
            <a:ext cx="3581280" cy="2335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86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su.edu/classes/ruch/msa/barr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380880"/>
            <a:ext cx="83822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EXCAV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ERCOL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HETEROLOBO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tozoální organismy, mezi které pat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crasid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- akra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upinu charakteriz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álcovitých myxamé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jejichž pseudopodia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ez subpseudopod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buněčné stěn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 celul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áře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yl pozorován pohlavní proces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m typem stélky je haploidní myxaméba s jedním jádrem (výjimečně více); dělení myxaméb je schizotomick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odia (panožky) myxaméb jsou lalokovitá, bez koncových výběžk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ubpseudopod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myxaméb je holozoická, pohlcují bakterie, kvasinky aj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n výjimečně dochází ke vzniku myxomonád, které mají 2 akrokontní bičíky bez mastigonema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nepříznivých podmínek dochází ke vzniku tenkostěnných mikrocyst anebo sférocyst s drsnou stěnou (mohou vznikat i splynutím myxamé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236000" y="141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581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83822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e spor se uvol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rozmnožování dělením =&gt; nastává shlukovací fáze - shlukováním myxaméb vznikají pseudoplazmodia =&gt; postupně se diferencují na stopku a sorogen =&gt; na stopce se vytvoří buněčná stěna, zatímco sorogen (stále tvořený shlukem buněk) se rozčlení do laloků =&gt;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se vytvářejí řetězce spor (již s buněčnou stěnou) =&gt; vzniká sorokarp =&gt;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stopky se promění ve spory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 půdě nebo na organických substráte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matické zařaz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možná polyfyletická skupina, v rámc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ukaryo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o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cel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inde než hlenky, jimž jsou podobn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námým zástupcem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ras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rasis ros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rganismus tvoř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ranžové myxaméby a pseudoplazmo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62720" y="3124080"/>
            <a:ext cx="3085920" cy="246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51640" y="5575320"/>
            <a:ext cx="292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cosmos.bot.kyoto-u.ac.jp/csm/photos-j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380880"/>
            <a:ext cx="838224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MOEB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YCETOZOA (MYXOMYCOTA, MYXOPROTISTA)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LE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íve spojovány do jednoho oddělení s akrasiemi, se kterými je spojují některé společné znaky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trof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a to holozoická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agocyt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hlcování jiných organismů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trofické fázi se vyskytují v podobě měňavkovit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bičíkat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moná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tvoří mnohojader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ení vytvořena pevná buněčná stěn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reprodukční fázi se vytváří plodnič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spory s pevnou buněčnou stěn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klidové fázi tvoří mikrocysty nebo sklerocia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opak oproti akrasiím jsou hlenky vymezeny těmito znaky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ché myxamé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ají pseudopodi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 subpseudopod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buněčná stěna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lulóz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vytváře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dochází k pohlavnímu procesu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jďme si tedy zopakovat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ofickou fázi představu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y, myxomonády, pseudo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pseudoplazmodií vznika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z myxaméb nebo plazmodi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útvary, v nichž se tvoří 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idovými stadii jsou mikrocysty nebo sklero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836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618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380880"/>
            <a:ext cx="8382240" cy="63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OTOSTELEA (PROTOSTELIOMYCE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ří se myxomonády nebo myxaméby, splýváním vznikají plazmodia; stopkaté sporokarpy obsahují max. 8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skytují se celosvětově v půdě i na rozkládajících se organických substrátech, bývají součástí společenstev dekompozitorů (jimiž se živí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imitivní typy, netvoří se myxomonády ani plazmodia, není pohlavní proces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e spory vyklíčí myxaméba =&gt; postupně se z ní vytvoří stopkatý sporokarp =&gt; z něj se uvolní 1 spor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řazená v různých systémech do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pory se tvoří exogenně)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gastr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voří se myxomonády, je zde pohlavní proces)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álečkovka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e spory klíčí myxomonády =&gt; přecház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myxaméby =&gt; splývají v mnohojader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um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avděpodobně kopu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diploidní) =&gt; z plazmodia se vytvoř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uvislý povlak sloupečků =&gt; na nich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zi vznikají 1-sporová sporangi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v nich se dále dělí (na 4-8)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buněk se pak uvolní myxomoná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76920" y="3949560"/>
            <a:ext cx="3843360" cy="2486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8472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299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80880"/>
            <a:ext cx="41148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ICTYOSTEL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(DICTYOSTELIOMYCE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biotický životní cyklus: 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 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olní myxaméby =&gt; množí se dělením =&gt; v případě nedostatku (potravy, vody, světla) nastává agregační fáze: kopulací myxaméb vznikají makrocysty (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pak me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ickým děle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se améby), produkující akrasin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raktan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tahu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alší myxaméby =&gt; shlukování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zni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lazm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jednojaderných améb =&gt; za určitých podmínek migrace =&gt; vznik sorokarpu: vytvoří se stopečka =&gt; po ní posun améb na vrchol =&gt; přeměna ve spory s celulózní bun. stěno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í améb vznikají tlustostěnné odpočívající makrocysty =&gt; z nich zas vyklíčí amé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70480" y="0"/>
            <a:ext cx="43765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9081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5:37Z</dcterms:modified>
  <cp:revision>146</cp:revision>
  <dc:subject/>
  <dc:title>Snímek 1</dc:title>
</cp:coreProperties>
</file>