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17C-1A53-4906-8EE4-6F85D459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0C8-BA98-430F-AF38-D173EAEB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1D3-24B1-4ED2-8BCA-5E647542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3525-A901-4B30-BDBA-57A5D7CD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F713-06B4-4B7E-BC53-CA2482CA4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B70D-CEB9-4879-9E55-556609CD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25E1-3F75-434C-B0E8-BF0ECE88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F232-E3AA-40FB-9BA0-5E7521C5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8C99-40D6-4A8A-A40B-3F713F18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25C0-5739-4878-A176-CAE4E633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48F2-B733-40B1-9EBB-87CDAB72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797-2238-4625-A525-1E46A3C6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512C-0B3D-4430-83BE-113F25F7E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nahuby.sk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botany.upol.cz/atlasy/system/nazvy/plasmodiophora-brassicae.html" TargetMode="External"/><Relationship Id="rId3" Type="http://schemas.openxmlformats.org/officeDocument/2006/relationships/image" Target="../media/image7.jpeg"/><Relationship Id="rId4" Type="http://schemas.openxmlformats.org/officeDocument/2006/relationships/hyperlink" Target="http://www.bsu.edu/classes/ruch/msa/barr.html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osmos.bot.kyoto-u.ac.jp/csm/photos-j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Basidiomycota: Pucciniomycotina, Ustilaginomycotina, 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80880" y="3276720"/>
            <a:ext cx="838224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díly oproti protosteliím a vlastním hlenkám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myxomonády, shlukováním myxaméb vznikají pseudoplazmodia, spory se tvoří na sorokarpech (znaky shodné s akrasiemi, od nichž je odlišuje stavba myxaméb, diferenciace sorokarpů a celulózní stěna spor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myxaméby přímo vytvoř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u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a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krocysty (rozdíl oproti makrocystám – ty vznikají po kopulaci, jsou diploidn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 zejména v půdě nebo na organických zbytcích, nejví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mírném pás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cty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4876920" cy="2747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5410080" y="457200"/>
            <a:ext cx="1433520" cy="2590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934320" y="380880"/>
            <a:ext cx="18288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ictyosteli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hlukování myxaméb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dozrávající sor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265428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obr. vpravo: R. Moore, W. D. Clark, K. R. Stern &amp; D. Vodopich: Botany. -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80880" y="380880"/>
            <a:ext cx="8382240" cy="23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MYXOGASTREA (MYXOMYCETES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– VLASTNÍ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je haplodiplobiotický, tvoří se haploidní myxomonády i myxaméby a následně diploidní 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ůzný průběh mitóz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xaméby (resp. myxomonády) mají otevře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itóz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ntriolami, v plazmodiích probíhá uzavřen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tóz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centri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všech stadií holozoická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06440" y="2438280"/>
            <a:ext cx="2469960" cy="403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5480" y="2336760"/>
            <a:ext cx="586764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příznivých podmínek (teplota, vlh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 se ze spory uvolní myxaméby - volně se mění na myxomonády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ět vytvořením/ztrátou bičíků anebo v nepříznivých podmínkách vytvoří cysty a pak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za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yrejdí; myxaméby i myxomonády fungují jako gamety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e + a – jedinců =&gt; diploidní myxaméby (p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i monád zatažení bičíků)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ada mitóz be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protoplastu =&gt; mnohojaderné plazmo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984400" y="491976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10080" y="4919760"/>
            <a:ext cx="2286000" cy="1522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0880" y="6134040"/>
            <a:ext cx="7315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uvolnění monády ze spory      kopulace myxomonád           primární plazmodi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24400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616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380880"/>
            <a:ext cx="396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nohojaderné plazmod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é fázi negativně fototaktické =&gt; při přechodu do reprodukční fáze pozitivní fototaxe, plazmodium ztrácí vodu a na povrchu se tvoří tenká blanka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z něj vyrůstají sporokarpy =&gt; uvnitř nich vakuolizace =&gt; tvorba kapilicia; vlastní plazmodium se mění ve spory: sporokarp se rozpadá =&gt; diploidní jádra se obalují bu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ěč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ěnou =&gt; dochází k meiozi =&gt; 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ádra degenerují, výsledná spora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jaderná (jsou známy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jaderné v případě následných mitóz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 nich klíč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íce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8759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80880"/>
            <a:ext cx="838224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vyznačují prouděním plazmy, synchronizovaným dělením jader, schopností růstu i po rozdělení a naopak splývání plazmodií téhož druh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mikroskopické, jen pomalé proudě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y; vzniká z něj jeden sporokarp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fan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ětší se; strukturu tvoří síťovitá žilnatina, kterou obklop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toplazma, rychle proudící; vzniká z něj více sporokarp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neroplazm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ž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počátku jako protoplaz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eč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roste do makroskopických rozměrů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h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a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ložitější, členěná na gelatinózní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kutou část, protoplazma je zrnitá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éž z něj vzniká více sporokarp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faneroplazmodium rodu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4356000"/>
            <a:ext cx="2743200" cy="2052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267080" y="3000240"/>
            <a:ext cx="4456080" cy="28083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75560" y="1079640"/>
            <a:ext cx="195084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672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nepříznivých podmínkách se plazmodia mění n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leroc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rdé nebuněčné útv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5128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50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380880"/>
            <a:ext cx="601992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lazmodií vznikají reprodukč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ruktur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topkatá nebo př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dlá) vznikají z protoplazmodi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o malých částí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ethal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nestopkatá, rozlitá) vznikají z větších částí plazmo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to vlastně útvar vzniklý sloučením řady sporang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elistvý útvar se společným obalem – 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některých druhů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ště zřetelné stě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ůvodních sporangií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aetha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zniká z velkých částí síťovitého plazmodia, gelatinózní plazma se koncentruje podél žilnatiny, postupně se tvoří peridie (celý výsledný útvar může být síťovitý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86200" y="469800"/>
            <a:ext cx="4863960" cy="1324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38960" y="3581280"/>
            <a:ext cx="2320920" cy="1843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38960" y="1981080"/>
            <a:ext cx="2320920" cy="1435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851280" y="4267080"/>
            <a:ext cx="2371680" cy="2157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37440" y="5486400"/>
            <a:ext cx="2361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sporangi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íže aethalium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 pseudoaethalium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plazmodiokar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3348000" y="429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4496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0880" y="586728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5(-6) řádů ve 2(-3) skupinách (některými autory jsou do této třídy řazeni i zástupci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19720" y="380880"/>
            <a:ext cx="4298760" cy="4894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80880"/>
            <a:ext cx="3962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sporokarpů se tvoří vlákna (jednotlivá nebo větvená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buněčná struktura vzniklá z vyloučenin vakuol, uchycená na peridii, bázi sporokarpu nebo kolumelu (pseudokapilici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pravidelné niťovité útva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y mají dvoj- (příp. tří-)vrstevnou stěnu, vnitřní vrstva je celulózní, v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nější jsou různé látky</a:t>
            </a:r>
            <a:br>
              <a:rPr sz="1800"/>
            </a:b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cela kosmopolitní, závislé na dostatečné teplotě a vlhkost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eferují chladná, stinná, vlhká místa; v mírném pásu růst omezen na letní sezón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bstrát: organické zbytky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jmé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stlinné, al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jí i v půd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živí se mikroorganismy tam žijící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38836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92436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33079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197056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0880" y="380880"/>
            <a:ext cx="613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a hlene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á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oidní typ vzniku sporokarpu – na povrchu plazmodia se vytváří hypothalus, z něj roste sporokar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trofické fázi tvoří proto- nebo faner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protoplazmodia a sporangia, nejmenší zástupci; příbuznost s podtřído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naznačuje společný pův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chin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ce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oto- nebo faneroplazmodia, sporokarpy různých typů, netvoří se (neplatí bez výjimky) kolumela a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ga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čí mléko, růžová kulovitá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954" t="3579" r="954" b="0"/>
          <a:stretch/>
        </p:blipFill>
        <p:spPr>
          <a:xfrm>
            <a:off x="6535800" y="457200"/>
            <a:ext cx="2130480" cy="2792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rcRect l="0" t="0" r="20721" b="0"/>
          <a:stretch/>
        </p:blipFill>
        <p:spPr>
          <a:xfrm>
            <a:off x="469800" y="4556160"/>
            <a:ext cx="2054160" cy="18414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6095880" y="4556160"/>
            <a:ext cx="2606760" cy="18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rcRect l="0" t="27594" r="0" b="0"/>
          <a:stretch/>
        </p:blipFill>
        <p:spPr>
          <a:xfrm>
            <a:off x="2616120" y="4556160"/>
            <a:ext cx="339084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352680"/>
            <a:ext cx="838224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faneroplazmodia, sporokarpy různých typů, tvoří se kolumela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pilicium, často inkrustované CaCO</a:t>
            </a:r>
            <a:r>
              <a:rPr b="0" lang="cs-CZ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ysar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nebo plazmod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py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ulig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lizovka, aeth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022640"/>
            <a:ext cx="4496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: aethal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gala epidendr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ysarum leucophaeum,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aethalium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Fuligo sep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64160" y="2971800"/>
            <a:ext cx="221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ffffff"/>
                </a:solidFill>
                <a:latin typeface="Arial"/>
              </a:rPr>
              <a:t>Echinostelium minut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06728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86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2692440"/>
            <a:ext cx="51818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tvoř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chodný typ me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fa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faneroplazm., sporokar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angi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a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ar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kapilicium bohatě strukturova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cy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na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lasat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oidní typ vzniku sporokarp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pothalus se vytváří na spodní straně plazmodia na substrátu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to hlenky v trof. fázi tvoří afanoplazmodi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 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sporangia s jemnou peridií, vytvořena kolumela a větvené kapiliciu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monit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azdere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6631" t="0" r="4973" b="0"/>
          <a:stretch/>
        </p:blipFill>
        <p:spPr>
          <a:xfrm>
            <a:off x="469800" y="457200"/>
            <a:ext cx="2880000" cy="2171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2457360" cy="3276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508720" y="1981080"/>
            <a:ext cx="3232080" cy="4552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880240" y="380880"/>
            <a:ext cx="289548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porangi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ichi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p.,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rcyria pomiform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, dole vývin sporangií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monitis fus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alibor Matýse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Echinostelium, Physarum, Arcyr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Oldřich Roučka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Fuligo, Stemonitis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avol Baksy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Lycogal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, Anton Mocik (</a:t>
            </a:r>
            <a:r>
              <a:rPr b="0" i="1" lang="cs-CZ" sz="800" spc="-1" strike="noStrike">
                <a:solidFill>
                  <a:srgbClr val="000000"/>
                </a:solidFill>
                <a:latin typeface="Arial"/>
              </a:rPr>
              <a:t>Trichia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 fotografií: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012000" y="1557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83316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380880"/>
            <a:ext cx="8382240" cy="65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AR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vojová větev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HIZ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CERC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lasmodiophor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nádoro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ilně specializovaná skupina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bligátní endoparazit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dysi řazeny k hlenkám pro podobnost vegetativních útvar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y tvoří tzv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a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mnohojaderné útvary, které na rozdíl od plazmodií hlenek nevznikají splýváním menších plazmodií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lší odlišnost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je osmotrofní (ne holozoická jako u hlenek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ybí zde stadium myxaméb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vní složkou buněčné stěny (cyst, sporangií) je chitin, chybí celulóz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tvoří se sporokarpy (možná adaptace na obligátní parazitismus)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cysty vyklíčí bičíkatá primární zoospora =&gt; přichytí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vrch buň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směrem k buněčné stěně hostitele se vytvoří "trn" =&gt; vakuol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ce se zvětšuje =&gt; tlak plazmy na "trn" prorazí stěnu hostitele =&gt; protoplast parazita se přelije do buňky hostite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ělení jad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ez dělení protoplas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vznik mnohojaderných primárních (haploidních) neboli sporangiogenních paraplazmodií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98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348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380880"/>
            <a:ext cx="3962520" cy="61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mární paraplazmodia se v lét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ělí na jednotlivá sporangia (gametangia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sahuj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4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8 spor (gamet) =&gt; uvolní se z hostitele do půdy =&gt; dalš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fekce; některé spory přejmou v půdě úlohu gamet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ují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to fáz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uze plazmogamie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2-jaderné zoospory pronikají zase 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buněk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titele =&gt; pomnožením jader vzniká sekundární (diploidní) neboli cystogenní paraplazmodium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ryogamie =&gt; meioza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adá s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lustostěnné cysty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vláštní způsob dělení jádra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imárním paraplazmodiu (uvnitř uzavřené jaderné blány): metafázové chromosomy utvoří prstenec kolem jadérka, které se protáhne kolmo na rovinu prstence =&gt; vznik struktur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řipomínající kříž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zv. "křížové dělení" (kromě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dorov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námo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ěkterý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ých skupin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vo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90920" y="0"/>
            <a:ext cx="437688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386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4019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0880" y="380880"/>
            <a:ext cx="838224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, ekologi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obligátní biotrofní parazité řas, rostlin a oomycetů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jich výskyt a rozšíření je spjat s výskytem hostitelských organismů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spodářský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jedině negativní - škody na kulturních plodiná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adium sekundárního paraplazmodia působí na rostlinách hypertrofie (zvětšení) a hyperplazie (zmnožení buněk) =&gt; z nich se pak po rozpadu buněk uvolňují cyst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 půdy =&gt; šíření infekc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ysté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jeden z řádů v rámci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ytomyx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známější druh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Plasmodiophora brassic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ádorovka kapustová, na snímku vpra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mptomy na kořenech) je parazit brukvovitý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na snímku cysty v kořenu pšenice) 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našeči vi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688000" y="2362320"/>
            <a:ext cx="2979720" cy="304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81480" y="5410080"/>
            <a:ext cx="359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to: Michaela Sedlářová, 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botany.upol.cz/atlasy/system/nazvy/plasmodiophora-brassicae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82760" y="3670200"/>
            <a:ext cx="3581280" cy="2335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86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Don Barr, 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bsu.edu/classes/ruch/msa/barr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380880"/>
            <a:ext cx="83822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EXCAV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ERCOL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HETEROLOBO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tozoální organismy, mezi které pat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crasida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- akra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upinu charakteri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rb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álcovitých 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jejichž pseudopodia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ez subpseudopodi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buněčné stěn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ní celul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byl pozorován pohlavní proces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m typem stélky je haploidní myxaméba s jedním jádrem (výjimečně více); dělení myxaméb je schizotomick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odia (panožky) myxaméb jsou lalokovitá, bez koncových výběž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ubpseudopo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 myxaméb je holozoická, pohlcují bakterie, kvasinky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výjimečně dochází ke vzniku myxomonád, které mají 2 akrokontní bičíky bez mastigonema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nepříznivých podmínek dochází ke vzniku tenkostěnných mikrocyst anebo sférocyst s drsnou stěnou (mohou vznikat i splynutím myxamé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236000" y="141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15812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380880"/>
            <a:ext cx="83822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ze spor se uvol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&gt; rozmnožování dělením =&gt; nastává shlukovací fáze - shlukováním myxaméb vznikají pseudoplazmodia =&gt; postupně se diferencují na stopku a sorogen =&gt; na stopce se vytvoří buněčná stěna, zatímco sorogen (stále tvořený shlukem buněk) se rozčlení do laloků =&gt; v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se vytvářejí řetězce spor (již s buněčnou stěnou) =&gt; vzniká sorokarp =&gt;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stopky se promění ve spory</a:t>
            </a:r>
            <a:br>
              <a:rPr sz="18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sky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v půdě nebo na organických substrátech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yst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atické zařaz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 možná polyfyletická skupina, v rámc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ukaryo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oj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ce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inde než hlenky, jimž jsou podobné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námým zástupcem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d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crasis ros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rganismus tvoří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ranžové myxaméby a pseudoplazmo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3085920" cy="246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51640" y="557532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Zdroj: </a:t>
            </a:r>
            <a:r>
              <a:rPr b="0" lang="en-US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cosmos.bot.kyoto-u.ac.jp/csm/photos-j.html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0880" y="380880"/>
            <a:ext cx="8382240" cy="61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Říše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MOEB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Oddělení: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MYCETOZOA (MYXOMYCOTA, MYXOPROTISTA)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– HLEN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íve spojovány do jednoho oddělení s akrasiemi, se kterými je spojují některé společné znaky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ži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trof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a to holozoická (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agocytó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hlcování jiných organismů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trofické fázi se vyskytují v podobě měňavkovi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bičíkatých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mon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tvoří mnohojader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není vytvořena pevná buněčná stěn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reprodukční fázi se vytváří plodnič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spory s pevnou buněčnou stěno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 klidové fázi tvoří mikrocysty nebo sklerocia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opak oproti akrasiím jsou hlenky vymezeny těmito znaky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ché myxamé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ají pseudopodi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 subpseudopo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buněčná stěna j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lulóz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vytváře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dochází k pohlavnímu procesu</a:t>
            </a:r>
            <a:br>
              <a:rPr sz="18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jďme si tedy zopakovat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ofickou fázi představu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améby, myxomonády, pseudoplazmo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pseudoplazmodií vznikaj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z myxaméb nebo plazmodi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okarp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útvary, v nichž se tvoří 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idovými stadii jsou mikrocysty nebo sklero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261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380880"/>
            <a:ext cx="8382240" cy="63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OTOSTELEA (PROT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voří se myxomonády nebo myxaméby, splýváním vznikají plazmodia; stopkaté sporokarpy obsahují max. 8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yskytují se celosvětově v půdě i na rozkládajících se organických substrátech, bývají součástí společenstev dekompozitorů (jimiž se živí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imitivní typy, netvoří se myxomonády ani plazmodia, není pohlavní proce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: ze spory vyklíčí myxaméba =&gt; postupně se z ní vytvoří stopkatý sporokarp =&gt; z něj se uvolní 1 spora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čeleď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řazená v různých systémech do tří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rotoste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pory se tvoří exogenně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xogastr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tvoří se myxomonády, je zde pohlavní proces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ivotní cyklus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eratiomyx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válečkovka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e spory klíčí myxomonády =&gt; přecház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myxaméby =&gt; splývají v mnohojadern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zmodium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ravděpodobně kopul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=&gt; diploidní) =&gt; z plazmodia se vytvo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uvislý povlak sloupečků =&gt; na nich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eiozi vznikají 1-sporová sporangi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ňky v nich se dále dělí (na 4-8)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buněk se pak uvolní myxomoná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876920" y="3949560"/>
            <a:ext cx="3843360" cy="2486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62992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380880"/>
            <a:ext cx="4114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ICTYOSTEL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DICTYOSTELIOMYCE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aplobiotický životní cyklus: z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or 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olní myxaméby =&gt; množí se dělením =&gt; v případě nedostatku (potravy, vody, světla) nastává agregační fáze: kopulací myxaméb vznikají makrocysty (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ich pak me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ickým dělení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se améby), produkující akrasin 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rakta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itahu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alší myxaméby =&gt; shlukování =&gt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zniká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plazm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 jednojaderných améb =&gt; za určitých podmínek migrace =&gt; vznik sorokarpu: vytvoří se stopečka =&gt; po ní posun améb na vrchol =&gt; přeměna ve spory s celulózní bun. stěno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pulací améb vznikají tlustostěnné odpočívající makrocysty =&gt; z nich zas vyklíčí amé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70480" y="0"/>
            <a:ext cx="437652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9081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houba</cp:lastModifiedBy>
  <dcterms:modified xsi:type="dcterms:W3CDTF">2020-10-20T16:15:37Z</dcterms:modified>
  <cp:revision>146</cp:revision>
  <dc:subject/>
  <dc:title>Snímek 1</dc:title>
</cp:coreProperties>
</file>