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241-8DEC-4667-B74F-2FF4E6A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9E9-84EF-48FE-9C84-25DB79EB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C26-E849-4B8D-9659-266A5C22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AA0-415E-4CF6-9EAF-7814A03D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E4B-3DF3-41A5-AAD1-E0C56EB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3CE-82CD-4A69-82EB-E0FE5F77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43E-880D-4803-ABBB-05C2E89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878-1B03-4635-B460-77E9C428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7F8-ED11-44B5-830A-D5E3E561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ED4-CC18-4F7B-A41F-D1D9007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447-D8DA-48B6-87C4-0A60963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F1E-63AB-4154-92CD-B324391D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EDF5-7AFC-4DB5-B39A-A18B05F88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cdfound.to.it/HTML/bie1c.htm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uniovi.es/bos/Asignaturas/Botanica/9.htm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palaeos.com/Eukarya/Units/StemMetazoa/Microsporidia.html" TargetMode="External"/><Relationship Id="rId3" Type="http://schemas.openxmlformats.org/officeDocument/2006/relationships/hyperlink" Target="http://www.palaeos.com/Eukarya/Units/StemMetazoa/Microsporidia.html" TargetMode="External"/><Relationship Id="rId4" Type="http://schemas.openxmlformats.org/officeDocument/2006/relationships/hyperlink" Target="http://www.palaeos.com/Eukarya/Units/StemMetazoa/Microsporidia.html" TargetMode="External"/><Relationship Id="rId5" Type="http://schemas.openxmlformats.org/officeDocument/2006/relationships/hyperlink" Target="http://www.palaeos.com/Eukarya/Units/StemMetazoa/Microsporidia.html" TargetMode="External"/><Relationship Id="rId6" Type="http://schemas.openxmlformats.org/officeDocument/2006/relationships/hyperlink" Target="http://www.palaeos.com/Eukarya/Units/StemMetazoa/Microsporidia.html" TargetMode="External"/><Relationship Id="rId7" Type="http://schemas.openxmlformats.org/officeDocument/2006/relationships/hyperlink" Target="http://www.palaeos.com/Eukarya/Units/StemMetazoa/Microsporidia.html" TargetMode="External"/><Relationship Id="rId8" Type="http://schemas.openxmlformats.org/officeDocument/2006/relationships/hyperlink" Target="http://www.palaeos.com/Eukarya/Units/StemMetazoa/Microsporidia.html" TargetMode="External"/><Relationship Id="rId9" Type="http://schemas.openxmlformats.org/officeDocument/2006/relationships/hyperlink" Target="http://www.palaeos.com/Eukarya/Units/StemMetazoa/Microsporidia.html" TargetMode="External"/><Relationship Id="rId10" Type="http://schemas.openxmlformats.org/officeDocument/2006/relationships/hyperlink" Target="http://www.palaeos.com/Eukarya/Units/StemMetazoa/Microsporidia.html" TargetMode="External"/><Relationship Id="rId11" Type="http://schemas.openxmlformats.org/officeDocument/2006/relationships/hyperlink" Target="http://www.palaeos.com/Eukarya/Units/StemMetazoa/Microsporidia.html" TargetMode="External"/><Relationship Id="rId12" Type="http://schemas.openxmlformats.org/officeDocument/2006/relationships/hyperlink" Target="http://www.palaeos.com/Eukarya/Units/StemMetazoa/Microsporidia.html" TargetMode="External"/><Relationship Id="rId13" Type="http://schemas.openxmlformats.org/officeDocument/2006/relationships/hyperlink" Target="http://www.palaeos.com/Eukarya/Units/StemMetazoa/Microsporidia.html" TargetMode="External"/><Relationship Id="rId14" Type="http://schemas.openxmlformats.org/officeDocument/2006/relationships/hyperlink" Target="http://www.palaeos.com/Eukarya/Units/StemMetazoa/Microsporidia.html" TargetMode="External"/><Relationship Id="rId15" Type="http://schemas.openxmlformats.org/officeDocument/2006/relationships/hyperlink" Target="http://www.palaeos.com/Eukarya/Units/StemMetazoa/Microsporidia.html" TargetMode="External"/><Relationship Id="rId16" Type="http://schemas.openxmlformats.org/officeDocument/2006/relationships/image" Target="../media/image8.jpe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Fungi: Microsporidiomycota / Chytridiomycota / Blastocladiomyc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862520" cy="363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 pro člověka mají parazité hospodářsky významných živočichů – včel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 ap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bourců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. bombyc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aopak jsou činěny i pokusy s využitím mikrosporidií proti hmyzím "škůdcům"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ákaza člověka může přitížit např. pacientům s AIDS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lenění na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am patří většina zástupců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dimicrospo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jednodušeným vystřelovacím aparátem) je aktuálně nahrazováno klasifikací v třídách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 životním cyklu dominuje dikaryotická fáze, sem patř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ose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phaseomyc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plobionti, bez 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á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80880"/>
            <a:ext cx="39625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: hostitel spolkne s potravou i sporu (v bun. stěně hlavně chitin) =&gt; v pohlcené spoře stoupne turgor =&gt; pólová trubice v přední části buňky vystřelena ven (až stovky µm!) =&gt; proniká membránami (dokáže projít i stěnami cyst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plazma přeteč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rubi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hostitelské buňky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množení - dělení buně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uzavřená mitóza), sporogo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pory se z hostitele uvolňu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defekaci nebo po smr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padem tk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886200"/>
            <a:ext cx="510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cdfound.to.it/HTML/bie1c.htm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65964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355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8862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oospory vznikaj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zoosporangiích (mono- nebo polycentrické typ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zpočátku mnohojaderná =&gt; rozdělení na 1-jaderné části =&gt; jednotlivé zoos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tevírání sporangia: víčkem u operkulátních typů, jinak (obvykle štěrbinou)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perkulátn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ů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ičíkaté, bičík opistokontní (vychází ze zadního kon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není péřit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48360" y="347760"/>
            <a:ext cx="27147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0880" y="380880"/>
            <a:ext cx="56390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HYTRIDIOMYCOTA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- CHYTRI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CHYTR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jednodušších typů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karpic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aková je vždy jednobuněčná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vozenější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ukarpick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í se rhizoidy (mohou/nemusí být odděleny 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přehrádkou), nevětvené nebo větvené =&gt; rhizomycel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odvozenější typy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ocytické 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ou stěnou (chitin a polyglukany), rozdělené tzv. pseudosepty (perforované přehrádky z jiných látek než buněčná stěna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12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382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82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izogamie (za urč. podmínek se zoospory chovají jako gamety, dochází ke kopulaci), anizogamie, vzácněji gametangiogamie nebo somatog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plývání rhizomycel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obvykle haplobiotický (ale jsou i případy, kdy zygota neprodělá meiozu a vyroste z ní diploidní stélka nesoucí sporangia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odní a půdní organismy, výživa heterotrofní, absorpč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 na různých skupinách řas, hub, rostlin i živočichů (zejména bezobratlých, ale objeveni i u obratlovců –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trachochytr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ložen na ultrastruktuře zoospor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stélky, bez rhizoidů a buněčné stěny (vnitrobuněční parazité) nebo s bun. stěnou a jednoduchým systémem rhizoid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endobiotické (celé uvnitř buněk hostitele) nebo epibiotické (rhizomycelium v buňce, sporangia vně), příp. interbiotické (rhizomycelium zasahuje do více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y mono- i polycentrické, sporangia operkulátní i inoperkulá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 znak zoosp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ntrálně umístěná "jaderná zóna", kinetosom nespojen s jádrem, jedna velká tuková kapk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povrchu je organela spojená mikrotubuly s kinetosome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řejmě fotorecepto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ání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častěji izogamie (i anizo- či somato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obvykle zoospory mohou být game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836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604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66880" y="1676520"/>
            <a:ext cx="21337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táhnou bičík a oblaní se =&gt; průnik do buněk hostitele =&gt; obalí se tlustou stěnou =&gt; vzniká prosorus (letní výtrus); v okolních buňkách současně neorganiz. dě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737240" y="1854360"/>
            <a:ext cx="3997080" cy="464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264040" cy="3733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66880" y="380880"/>
            <a:ext cx="6096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nchytrium endobiotic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akovinec bramborový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spodářsky významný parazit, přísně karanténní choroba (klíčivost spor až 20 let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 odpočívajících sporangií vyklíčí na jaře zoospory =&gt; když se dotknou očka nebo lenticely na hlí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038480"/>
            <a:ext cx="48769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stěna prosoru praskne =&gt;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yhřezne protoplast, který se rozdělí =&gt; s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í =&gt; 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sknutí stěny buň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se uvolní zoospory =&gt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timálního počasí (teplota, vlhkost) další infekce; 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cha menší zoospory fungují jako izogamety =&gt; kopulace =&gt; zygota infikuje hostitele =&gt; v jeho buňce vzniká odpočívající (trvalé) sporangium =&gt; přečkává zi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77080" y="407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387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49840" cy="2444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rcRect l="4675" t="0" r="4675" b="0"/>
          <a:stretch/>
        </p:blipFill>
        <p:spPr>
          <a:xfrm>
            <a:off x="457200" y="28954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4419720"/>
            <a:ext cx="3241800" cy="1989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870280"/>
            <a:ext cx="2349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ynchytrium endobiotic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nahoře symptomy napadení na bramboro-vých hlízách, vlevo odpočívající sporang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52880" y="96840"/>
            <a:ext cx="3848400" cy="523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9880" y="4813200"/>
            <a:ext cx="495324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&lt;=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hizophy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padá pylová zrna ve vodě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hag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á interbiotické stélky, rhizomy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um napadá až 50 krásnooček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. euglen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pibiotický parazit řas a 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390920"/>
            <a:ext cx="457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hizophydium pollinis-pin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(„kuličky“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yl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rnec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333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ě je ve středu pozornosti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Batrachochytrium dendrobatidi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azitický druh decimující populace obojživelníků (kožní infekce, omezující funkci kůže, při silné nákaze může vést k úhynu napadených jedinců), který se v poslední době stal celosvětovou hrozb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1" descr=""/>
          <p:cNvPicPr/>
          <p:nvPr/>
        </p:nvPicPr>
        <p:blipFill>
          <a:blip r:embed="rId1"/>
          <a:stretch/>
        </p:blipFill>
        <p:spPr>
          <a:xfrm>
            <a:off x="4246560" y="1320840"/>
            <a:ext cx="444024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95280" y="1754280"/>
            <a:ext cx="38163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Životní cyklus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atrachochytrium dendrobatid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ozbor problematiky v češtině: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iviš et al., Chytridiomykóza – hrozba pro naše obojživelníky?</a:t>
            </a:r>
            <a:r>
              <a:rPr b="0" lang="cs-CZ" sz="1400" spc="-1" strike="noStrike">
                <a:solidFill>
                  <a:srgbClr val="0000ff"/>
                </a:solidFill>
                <a:latin typeface="Arial"/>
              </a:rPr>
              <a:t> http://www.casopis.ochranaprirody.cz/res/data/020/002383.pdf </a:t>
            </a:r>
            <a:r>
              <a:rPr b="0" lang="cs-CZ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19280" y="2290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Knight, The world of frogs, Chytrid fungus; http://theworldofrogs.weebly.com/chytrid-fungus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3423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32879"/>
          <a:stretch/>
        </p:blipFill>
        <p:spPr>
          <a:xfrm>
            <a:off x="3581280" y="4343400"/>
            <a:ext cx="5237280" cy="2293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54435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880" y="380880"/>
            <a:ext cx="8382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izello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lízký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jednobuněčná stélka, izogamie), ale odlišná stav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: jádro spojeno s kinetosomem, ribos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ude v cytoplazmě (nejen "jaderná zóna"), ví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ukových kapek i mitochondr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lpi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s, hub a rostl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. 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působuje nekró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íčních rostlinek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ora =&gt; po kontaktu s kořenovým vláskem se encystuje =&gt; protoplast parazita proniká do buňky =&gt; zde ve stélce jaderné dělení =&gt; stélka se obalí bun. stěnou =&gt; kulovité sporangium s vyúsťovacími kanálky na povrch buňky hostitele =&gt; uvolňování zoospor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ovají-li se jako izo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dojde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2-bičíkaté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ygoty napadají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ob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v jeho buňkách vznikají odpočívající sporangia =&gt; přezimují =&gt; teprve před klíčením karyoga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a =&gt;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(poznámka: system. pozice ro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lpidium je dnes nejist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819520" cy="1820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49640" y="2243160"/>
            <a:ext cx="4724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 s rhizoidy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Spizellomyces punct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1523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www.bsu.e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classes/r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msa/barr.htm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20364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3943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822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ONOBLEPHARID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dale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zřejmě nejodvozenější, rozvětvené cenocytické mycelium s pseudosepty, pravé přehrádky oddělují jen reprodukční struktury, protoplazma obsahuje hodně vakuol a t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 mají jádro obklopené vrstvou ribosomů, od kinetosomu se paprsčitě rozbíhají mikrotubuly směrem k jádru (ale není zde spojení), rumposo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, tukové kapky v přední části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pohlavní proces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ogami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stejná gamet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spořádána párovi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 epi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ogonium vzniká terminálně a anteridium subtermináln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hypogyn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opak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plozená oosfér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mění v oospor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u stěnou =&gt; po ur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bě klíčí hyf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9520" y="4221000"/>
            <a:ext cx="1666800" cy="2071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562720" y="4221000"/>
            <a:ext cx="3124080" cy="2073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8920" y="3672000"/>
            <a:ext cx="84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onobleph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, vlevo mladé oogon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uprostřed oogonia s anteridii + kulovité oospory, vpravo zralé oospo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52520" y="4221000"/>
            <a:ext cx="3189600" cy="207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55680" y="6222960"/>
            <a:ext cx="840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evo a vpravo Marilyn Mollicone, http://www.plantbio.uga.edu/zoosporicfungi/monfoamy.htm; uprostřed Don Barr, http://www.bsu.edu/classes/ruch/msa/barr.html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9319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0" r="0" b="28991"/>
          <a:stretch/>
        </p:blipFill>
        <p:spPr>
          <a:xfrm>
            <a:off x="3809880" y="2001960"/>
            <a:ext cx="4978440" cy="286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880" y="380880"/>
            <a:ext cx="4496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oos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isednou na substrát a zatáhnou bičík =&gt; vyrůstají rhizoidy a opačným směrem cenoc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m =&gt; na koncích hyf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tvo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angia =&gt; několikajaderný protoplast se rozpadá =&gt; z částí vznikají zoo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se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cích hyf objeví gametang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přenos anterozoidů vod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otvoru v oogoniu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ygot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před vytvoř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ěny =&gt; meioza před klíčen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vně vodní a půd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rofyté v tropech a subtropech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blephar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962520" cy="1606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530064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OCALLIMASTIG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ád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x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obligátně anaerobní organismy žijící symbioticky v bachorech přežvýkavců, tvoří vícebičíkaté (!) zoos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148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064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880" y="38088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BLASTOCLA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itivní typy mají nahé stélky bez rhizoidů, odvozenější potom cenocytické stélky, přepážkou oddělené rhizomycelium a reprodukční struktury (gametangia, sporang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6200" y="1849320"/>
            <a:ext cx="4991040" cy="4702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2057400"/>
            <a:ext cx="36576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vba zoospor: 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mposom, riboso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hloučené v "čepičce" na předním konci jádr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ořen tzv. "side-body-complex" (ER+tukové kapky+mitochondri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zácněj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é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elomomyc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u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lom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rev komárů (možnost využití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ologický bo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razité na plodinách (vojtěška, kukuř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3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0142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0880" y="380880"/>
            <a:ext cx="8382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PISTHOKO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říše (vývojová větev):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FUNGI (MYCOTA)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– HOU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číkaté buňky pouze u vývojově původní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okročilých hu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tvořena žád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ičíkatá sta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jednodušší ty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nobuněčné (bičíkaté typy, vnitrobuněční parazité), případně jednotlivé buňky schopné tvořit pučivé pseudomycelium (kvasink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láknit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él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vykle tvořena houbovými vlák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fam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e vegetativní fázi tvořícím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dhoubí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dušší vláknité typy mají stélky nepřehrádkované (přehrádky oddělují pouze reprodukční struktury), vývojově odvozenější mají hyfy rozdělené centripetálně rostoucími přehrádka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pt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ptum má uprostřed pór (různého typu u různých skupin), kterým mohou procházel látky i organe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m u parazitických hub může růst na povrchu pletiv hostitele, ale i vnikat dovnitř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ntercelulárně nebo intracelulárn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takovémto myceliu se vytvářejí apresoria (jen přichycovací funkce) nebo haustoria (vnikající do buněk, slouží k absorpci látek z napadené 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04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353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80880"/>
            <a:ext cx="4038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 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z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am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anizogamie, poprvé typická rodozměna (sporofyt nese sporangia, gametofyt nese gametangi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vyskytují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i typy životního cyk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-diplobiotický, diplobiotický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pomiktický (všech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jdeme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pických půdních druhů ro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lo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58920" y="6140520"/>
            <a:ext cx="398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to, jakož i další životní cykly, jsou převzaty z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  <a:hlinkClick r:id="rId2"/>
              </a:rPr>
              <a:t>http://www.uniovi.es/bos/Asignaturas/Botanica/9.ht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809880" cy="24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8920" y="5524560"/>
            <a:ext cx="3984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llomyces arbuscu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anteridia a oogoni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4067280" y="263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773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80880"/>
            <a:ext cx="83822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určitých fázích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u (např. plodnice) některých skupin se z hyf tvoří nepravá pletiv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ještě patrná hyfová struktura, jedná s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zenchy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aproti tomu jsou-li již buňky pozměněny a jednotlivé hyfy nejsou zřetelné, jd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arenchy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é struktury se kromě plodnic tvoří i ve sterilních útvarech, jako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o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erilní útvar, ve kterém se tvoří plodnice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ouží k přetrvání nepříznivých podmínek)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něčná stě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vícevrstevná, složená z lamel tvořených různě orientovanými fibril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složkou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i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ombinaci s jinými složkami;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skupin chitin chyb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ňkách vlastních hub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akékol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sti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fotosyntetické pigmenty; jsou však přítomna jiná barviva (karoteny, xanthofyl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jádře jedno nebo více jadérek, obvykle malý počet chromosom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chondrie mají ploché přepáž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 přítomny vakuoly, chybí pulzující vakuol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obní lá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nejčastěj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ykog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ojediněle i škrob (u primitivních vřeckatý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836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395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životním cyklu hub nacházíme buď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mn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avní i nepohlavní nebo jen nepohlav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ne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t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imperfek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, kdy houba vytváří pohla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e nazývá stadiu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fekt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u dané houby v dané fázi přítomno perfektní stadium, mluvíme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eo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-li u dané houby v dané fázi přítomno perfektní stadium (= je přítomno pouze imperfektní stadium), mluvíme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amorfě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&lt;= zde je důvod, proč nelze zcela klást rovnítko mezi anamorfu = imperfektní stadium a teleomorfu = perfektní sta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hodující je (ne-)přítomnost perfektního stadia, takže když se v dané fázi tvoří současně mitospory a meiospory (tedy imperfektní i perfektní stadium), jedná se také o teleomorf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a v celém životním cyklu (tj. anamorfa i teleomorfa dohromady) se označuje jak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morf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iotická holomorf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-li v životním cyklu jen nepohlavní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, je 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itotická holomorfa; v případě obou typů rozm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ž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de o pleomorfickou holomorfu (mluvíme pak také 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ách s pleomorfickým ži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t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yk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2758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80880"/>
            <a:ext cx="5334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probíhá v haploidní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ploidní fáz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jednodušší způsob je prostá fragmentace hyf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ohlavní spory vznikaj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genně ve sporangiích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ány ja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ospory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epohyblivé, typické pro skupin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oosp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ohyblivé, typické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podobné houb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ogenně na hyfách (specializovaných odnožích zvaných konidiofory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zývají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běžné u hub z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 menší míř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fory s konidiemi se tvoří buď izolovaně nebo v útvarech zvan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nidioma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emie (= synnema; svazek konidioforů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7600" y="457200"/>
            <a:ext cx="291960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603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odochium (palisáda konidioforů v ložisku na povrchu substrátu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ervulus (shluk konidioforů pod povrchem plativa hostitele, u parazitů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yknida (lahvicovitý útvar s vnitřkem vystlaným konidiof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více u pomocného 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eut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27520" y="3809880"/>
            <a:ext cx="31244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um; v jeho pravé části praská stěna a vystupují spory.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R. Moore, W. D. Clark, K. R. Stern &amp; D. Vodopich: Botany, 199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7555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05520" y="3808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typy vzniku konidi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halický: hyfa se rozdělí přepážkami a pak rozpadne na jednotl. buňky =&gt; thalokonidie = arthrokonidie (thalokonidiemi jsou v jistém smyslu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lamydospory - tlustostěnné přetrvávající buňky vznikající na myceli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lastický: konidie vypučí z konidiogenní buňky holoblasticky (účast všech vrstev bun. stěny) nebo enteroblasticky (vnější stěna se protrhne, konidii utvá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nitřní vrstva/-y/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rospory (vypuč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a následně se odděl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), fialospory (vytvářejí se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648320" cy="439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02920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ách - fialidách a uvolňují se ústím z těchto buněk), anelospory (také se vytvářejí ve speciali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va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uňkách; každ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konidie protrhne přepážku po oddělení předchoží konidie =&gt; vznik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límečk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5865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8382240" cy="65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hlav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zmnožování u vrcholové skupiny vlastní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viz dále) není spojena plazmogamie s karyogam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aryogamie následuje s určitým zpožděním a do životního cyklu je vlože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otická fá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značovan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+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charakteristická tzv. konjugovanými mitózami (současné mitózy obou jader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ý cyklus tedy je: haploidní fáze =&gt; plazmogamie =&gt; dikaryofáze =&gt; karyogamie =&gt; diploidní fáze (obvykle omezena jen na zygotu) =&gt; meioza =&gt; zpět haplofáz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pohlavního proces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u vlastních hu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gamie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á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angiogamie (typická hlavně pr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-gametangiogamie (spermatizace, oplod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amičího gamet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amčí spermacií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é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-gametangiogamie (vzácná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(splývání hyf, hlavn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metosomatogami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spermatiz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z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lodně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matick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yf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rmac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togamie (ojediněle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-li s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ame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s výjimkou bičíkatých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sou pohybl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šech možných typů: haplobiotický, haplo-diplobiotický, vzácný je diplobiotický (kvasinky) a naopak velmi častý haplo-dikaryotický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ub z odděl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návaznosti na pohlavní rozmnožování vznikají spory na specializovaných útvar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836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8360" y="234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7116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6735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380880"/>
            <a:ext cx="83822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i parazité, vytvářejí symbiotické vztahy (lichenismus, mykorhiz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ou po celém světě, ve všech možných biotope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ůda, vzduch, voda (méně časté), v případě parazitů hostitelské organism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. využit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dlé druhy, výroba antibiotik, ale i jedovaté a patogenní houb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ematické člen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a jednotlivá oddělení: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izolovaná skupi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icrospo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nitrobuněční paraz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eocallimasti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ednobuněčné nebo tvoří cenocytické mycelium, bičíkaté zoospor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imárně cenocytické mycelium, chybí dikaryofáze i plodnice, tvoří se 1 meiosp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; je to polyfyletická skupina s příbuzenskými vazbami na různé skupiny odd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hytr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lastocladi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členění skupi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oddělení viz dá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ledující oddělení už jsou považována za monofyletický „vrchol vývoje hub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omer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endomykorhiz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dděl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í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chozímu, ale podle současných poznatků je sesterskou skupinou následující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kary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rcholová skupina, v životním cyklu přítomna dikaryotická fáz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sc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řehrádkované mycelium /příp. jednobuněčné – kvasinky/, tvoří se plodnice /ne u všech, viz dále/, meiospory vznikají endogenně ve vřec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sidi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éž přehrádkované mycel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příp. jednobuněčné – kvasink. typy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tvorba plodnic /ne u všech/, ale meiospory vznikají exogenně na bazidií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26744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ICROSPORI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a dříve řazená k prvokům, na základě molekulárních analýz (RNA a některých proteinů) připadla k houbá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jí některé zvláštnosti proti běžným eukaryotům: 70S ribosomy (znak shodný s prokaryoty), dikaryotická jádra (po dvojicích, synchronně se dělící), chybí respirační organely (mitochondrie apod.) a centrioly, redukovaný Golgiho apar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724280" y="463680"/>
            <a:ext cx="3997440" cy="3101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3552840"/>
            <a:ext cx="58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palaeo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com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Eukary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Units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StemMetazo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/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Microsporidia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5"/>
              </a:rPr>
              <a:t>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Obr. nahoře z: ES Didier (1998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Microsporidos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Clin. Infect. Dis. 27: 1-8.   Foto dole z: W Bohne, DJP Ferguson, K Kohler, &amp; U Gross (2000), 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Developmental expression of ... pathogen Encephalitozoon cuniculi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.  Infect. Immun. 68: 2268–227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6"/>
          <a:stretch/>
        </p:blipFill>
        <p:spPr>
          <a:xfrm>
            <a:off x="3048120" y="4027320"/>
            <a:ext cx="5649840" cy="2349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3573360"/>
            <a:ext cx="2590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řední straně buňky je vymrštitelná pólová trub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lučně intracelulární paraziti (většinou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ě, někdy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zitoforní vakuole) nejvíce u členovců a ryb, ale známi i u sav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52Z</dcterms:modified>
  <cp:revision>157</cp:revision>
  <dc:subject/>
  <dc:title>Snímek 1</dc:title>
</cp:coreProperties>
</file>