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8DC4-7124-4C47-AD05-77BA1DFB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CBED-531E-40B4-AB9A-27DCAE42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E8B3-17B9-4B23-A661-D3B39989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0FF8-257B-469F-B9C0-08EDDBB0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FAE6-7D0B-40AA-9C05-590F2723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5EB6-E451-4564-B580-FF9D8801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1A5-3DAC-4A5F-AD2D-DA1539D5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4D8-3B7F-4FD3-B489-D85C7D82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512B-5AFD-4606-ABDF-EE6690DF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4C41-08EE-4F5F-988E-E5AB818A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726-9142-489B-9869-EF88D5E0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9D0E-6917-46BE-BE09-F3DD45EA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F1C2-E8CF-41F3-B1AC-545B20D6C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cdfound.to.it/HTML/bie1c.htm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uniovi.es/bos/Asignaturas/Botanica/9.htm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www.bsu.edu/classes/ruch/msa/barr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palaeos.com/Eukarya/Units/StemMetazoa/Microsporidia.html" TargetMode="External"/><Relationship Id="rId3" Type="http://schemas.openxmlformats.org/officeDocument/2006/relationships/hyperlink" Target="http://www.palaeos.com/Eukarya/Units/StemMetazoa/Microsporidia.html" TargetMode="External"/><Relationship Id="rId4" Type="http://schemas.openxmlformats.org/officeDocument/2006/relationships/hyperlink" Target="http://www.palaeos.com/Eukarya/Units/StemMetazoa/Microsporidia.html" TargetMode="External"/><Relationship Id="rId5" Type="http://schemas.openxmlformats.org/officeDocument/2006/relationships/hyperlink" Target="http://www.palaeos.com/Eukarya/Units/StemMetazoa/Microsporidia.html" TargetMode="External"/><Relationship Id="rId6" Type="http://schemas.openxmlformats.org/officeDocument/2006/relationships/hyperlink" Target="http://www.palaeos.com/Eukarya/Units/StemMetazoa/Microsporidia.html" TargetMode="External"/><Relationship Id="rId7" Type="http://schemas.openxmlformats.org/officeDocument/2006/relationships/hyperlink" Target="http://www.palaeos.com/Eukarya/Units/StemMetazoa/Microsporidia.html" TargetMode="External"/><Relationship Id="rId8" Type="http://schemas.openxmlformats.org/officeDocument/2006/relationships/hyperlink" Target="http://www.palaeos.com/Eukarya/Units/StemMetazoa/Microsporidia.html" TargetMode="External"/><Relationship Id="rId9" Type="http://schemas.openxmlformats.org/officeDocument/2006/relationships/hyperlink" Target="http://www.palaeos.com/Eukarya/Units/StemMetazoa/Microsporidia.html" TargetMode="External"/><Relationship Id="rId10" Type="http://schemas.openxmlformats.org/officeDocument/2006/relationships/hyperlink" Target="http://www.palaeos.com/Eukarya/Units/StemMetazoa/Microsporidia.html" TargetMode="External"/><Relationship Id="rId11" Type="http://schemas.openxmlformats.org/officeDocument/2006/relationships/hyperlink" Target="http://www.palaeos.com/Eukarya/Units/StemMetazoa/Microsporidia.html" TargetMode="External"/><Relationship Id="rId12" Type="http://schemas.openxmlformats.org/officeDocument/2006/relationships/hyperlink" Target="http://www.palaeos.com/Eukarya/Units/StemMetazoa/Microsporidia.html" TargetMode="External"/><Relationship Id="rId13" Type="http://schemas.openxmlformats.org/officeDocument/2006/relationships/hyperlink" Target="http://www.palaeos.com/Eukarya/Units/StemMetazoa/Microsporidia.html" TargetMode="External"/><Relationship Id="rId14" Type="http://schemas.openxmlformats.org/officeDocument/2006/relationships/hyperlink" Target="http://www.palaeos.com/Eukarya/Units/StemMetazoa/Microsporidia.html" TargetMode="External"/><Relationship Id="rId15" Type="http://schemas.openxmlformats.org/officeDocument/2006/relationships/hyperlink" Target="http://www.palaeos.com/Eukarya/Units/StemMetazoa/Microsporidia.html" TargetMode="External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Fungi: Microsporidiomycota / Chytridiomycota / Blastocladiomyc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4862520" cy="3636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419112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znam pro člověka mají parazité hospodářsky významných živočichů – včel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osema ap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bourců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. bombyc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naopak jsou činěny i pokusy s využitím mikrosporidií proti hmyzím "škůdcům"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ákaza člověka může přitížit např. pacientům s AIDS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lenění na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crospor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am patří většina zástupců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dimicrospor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jednodušeným vystřelovacím aparátem) je aktuálně nahrazováno klasifikací v třídách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haplophase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 životním cyklu dominuje dikaryotická fáze, sem patří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ose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plophase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aplobionti, bez dikaryo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fá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380880"/>
            <a:ext cx="39625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fekce: hostitel spolkne s potravou i sporu (v bun. stěně hlavně chitin) =&gt; v pohlcené spoře stoupne turgor =&gt; pólová trubice v přední části buňky vystřelena ven (až stovky µm!) =&gt; proniká membránami (dokáže projít i stěnami cyst)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plazma přeteč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rubi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hostitelské buňky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množení - dělení buně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uzavřená mitóza), sporogon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spory se z hostitele uvolňuj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defekaci nebo po smr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padem tk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3886200"/>
            <a:ext cx="5105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cdfound.to.it/HTML/bie1c.htm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65964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35530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38862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zoospory vznikaj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zoosporangiích (mono- nebo polycentrické typ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angia zpočátku mnohojaderná =&gt; rozdělení na 1-jaderné části =&gt; jednotlivé zo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tevírání sporangia: víčkem u operkulátních typů, jinak (obvykle štěrbinou)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perkulátn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ypů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ičíkaté, bičík opistokontní (vychází ze zadního kon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uň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není péřit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48360" y="347760"/>
            <a:ext cx="2714760" cy="4071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80880" y="380880"/>
            <a:ext cx="563904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CHYTRIDIOMYCOTA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- CHYTRI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CHYTRID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u jednodušších typů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karpic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taková je vždy jednobuněčná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vozenější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ukarpická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áří se rhizoidy (mohou/nemusí být odděleny 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přehrádkou), nevětvené nebo větvené =&gt; rhizomycel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odvozenější typy tvo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ocytické 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čnou stěnou (chitin a polyglukany), rozdělené tzv. pseudosepty (perforované přehrádky z jiných látek než buněčná stěna)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12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1382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380880"/>
            <a:ext cx="838224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izogamie (za urč. podmínek se zoospory chovají jako gamety, dochází ke kopulaci), anizogamie, vzácněji gametangiogamie nebo somatog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plývání rhizomycel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je obvykle haplobiotický (ale jsou i případy, kdy zygota neprodělá meiozu a vyroste z ní diploidní stélka nesoucí sporangia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odní a půdní organismy, výživa heterotrofní, absorpč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i parazité na různých skupinách řas, hub, rostlin i živočichů (zejména bezobratlých, ale objeveni i u obratlovců –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trachochytr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ložen na ultrastruktuře zoospor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uněčné stélky, bez rhizoidů a buněčné stěny (vnitrobuněční parazité) nebo s bun. stěnou a jednoduchým systémem rhizoid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endobiotické (celé uvnitř buněk hostitele) nebo epibiotické (rhizomycelium v buňce, sporangia vně), příp. interbiotické (rhizomycelium zasahuje do více 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mono- i polycentrické, sporangia operkulátní i inoperkulát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cký znak zoosp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entrálně umístěná "jaderná zóna", kinetosom nespojen s jádrem, jedna velká tuková kapk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povrchu je organela spojená mikrotubuly s kinetosome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mpos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zřejmě fotoreceptor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ání 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častěji izogamie (i anizo- či somato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obvykle zoospory mohou být gamet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836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46042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666880" y="1676520"/>
            <a:ext cx="21337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táhnou bičík a oblaní se =&gt; průnik do buněk hostitele =&gt; obalí se tlustou stěnou =&gt; vzniká prosorus (letní výtrus); v okolních buňkách současně neorganiz. dě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737240" y="1854360"/>
            <a:ext cx="3997080" cy="4647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2264040" cy="3733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666880" y="380880"/>
            <a:ext cx="60962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nchytrium endobiotic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rakovinec bramborový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spodářsky významný parazit, přísně karanténní choroba (klíčivost spor až 20 le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 odpočívajících sporangií vyklíčí na jaře zoospory =&gt; když se dotknou očka nebo lenticely na hlí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038480"/>
            <a:ext cx="48769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stěna prosoru praskne =&gt;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vyhřezne protoplast, který se rozdělí =&gt; s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í =&gt; 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asknutí stěny buň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se uvolní zoospory =&gt; 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ptimálního počasí (teplota, vlhkost) další infekce; 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cha menší zoospory fungují jako izogamety =&gt; kopulace =&gt; zygota infikuje hostitele =&gt; v jeho buňce vzniká odpočívající (trvalé) sporangium =&gt; přečkává zi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77080" y="407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7387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849840" cy="2444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4675" t="0" r="4675" b="0"/>
          <a:stretch/>
        </p:blipFill>
        <p:spPr>
          <a:xfrm>
            <a:off x="457200" y="2895480"/>
            <a:ext cx="1981080" cy="1443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57200" y="4419720"/>
            <a:ext cx="3241800" cy="1989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14600" y="2870280"/>
            <a:ext cx="2349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ynchytrium endobiotic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– nahoře symptomy napadení na bramboro-vých hlízách, vlevo odpočívající sporangi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952880" y="96840"/>
            <a:ext cx="3848400" cy="5237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9880" y="4813200"/>
            <a:ext cx="495324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&lt;=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hizophy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padá pylová zrna ve vodě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phag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á interbiotické stélky, rhizomy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um napadá až 50 krásnooček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. euglen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epibiotický parazit řas a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390920"/>
            <a:ext cx="457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hizophydium pollinis-pin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(„kuličky“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yl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rnech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80880" y="3330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uálně je ve středu pozornosti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Batrachochytrium dendrobatidi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parazitický druh decimující populace obojživelníků (kožní infekce, omezující funkci kůže, při silné nákaze může vést k úhynu napadených jedinců), který se v poslední době stal celosvětovou hrozb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rázek 1" descr=""/>
          <p:cNvPicPr/>
          <p:nvPr/>
        </p:nvPicPr>
        <p:blipFill>
          <a:blip r:embed="rId1"/>
          <a:stretch/>
        </p:blipFill>
        <p:spPr>
          <a:xfrm>
            <a:off x="4246560" y="1320840"/>
            <a:ext cx="4440240" cy="3332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395280" y="1754280"/>
            <a:ext cx="3816360" cy="23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Životní cyklus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Batrachochytrium dendrobatid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Rozbor problematiky v češtině: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iviš et al., Chytridiomykóza – hrozba pro naše obojživelníky?</a:t>
            </a:r>
            <a:r>
              <a:rPr b="0" lang="cs-CZ" sz="1400" spc="-1" strike="noStrike">
                <a:solidFill>
                  <a:srgbClr val="0000ff"/>
                </a:solidFill>
                <a:latin typeface="Arial"/>
              </a:rPr>
              <a:t> http://www.casopis.ochranaprirody.cz/res/data/020/002383.pdf </a:t>
            </a:r>
            <a:r>
              <a:rPr b="0" lang="cs-CZ" sz="1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619280" y="229068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D. Knight, The world of frogs, Chytrid fungus; http://theworldofrogs.weebly.com/chytrid-fungus.html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3423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32879"/>
          <a:stretch/>
        </p:blipFill>
        <p:spPr>
          <a:xfrm>
            <a:off x="3581280" y="4343400"/>
            <a:ext cx="5237280" cy="2293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0880" y="5443560"/>
            <a:ext cx="3200400" cy="1081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380880"/>
            <a:ext cx="838224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izellomyc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blízký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jednobuněčná stélka, izogamie), ale odlišná stavb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: jádro spojeno s kinetosomem, riboso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šude v cytoplazmě (nejen "jaderná zóna"), ví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ukových kapek i mitochondr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lpi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řas, hub a rostli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. brassic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působuje nekróz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íčních rostlinek brukvovit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oospora =&gt; po kontaktu s kořenovým vláskem se encystuje =&gt; protoplast parazita proniká do buňky =&gt; zde ve stélce jaderné dělení =&gt; stélka se obalí bun. stěnou =&gt; kulovité sporangium s vyúsťovacími kanálky na povrch buňky hostitele =&gt; uvolňování zoospor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ovají-li se jako izogame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dojde 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2-bičíkaté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-jaderné zygoty napadají hostite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ob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a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v jeho buňkách vznikají odpočívající sporangia =&gt; přezimují =&gt; teprve před klíčením karyogam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p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za =&gt; zoos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(poznámka: system. pozice r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Olpidium je dnes nejist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867280" y="457200"/>
            <a:ext cx="2819520" cy="1820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49640" y="2243160"/>
            <a:ext cx="4724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orangium s rhizoidy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Spizellomyces punct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75248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on Barr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bsu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classes/r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msa/barr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20364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3943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380880"/>
            <a:ext cx="83822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ONOBLEPHARID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blepharidale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zřejmě nejodvozenější, rozvětvené cenocytické mycelium s pseudosepty, pravé přehrádky oddělují jen reprodukční struktury, protoplazma obsahuje hodně vakuol a tu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 mají jádro obklopené vrstvou ribosomů, od kinetosomu se paprsčitě rozbíhají mikrotubuly směrem k jádru (ale není zde spojení), rumposo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ořen, tukové kapky v přední části buň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pohlavní proces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ogami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stejná gametang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pořádána párovit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 epigyn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ogonium vzniká terminálně a anteridium subtermináln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hypogyn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opak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plozená oosfér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mění v oosporu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al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lustou stěnou =&gt; po ur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obě klíčí hyfo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9520" y="4221000"/>
            <a:ext cx="1666800" cy="2071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562720" y="4221000"/>
            <a:ext cx="3124080" cy="2073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58920" y="3672000"/>
            <a:ext cx="8404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onoblephar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, vlevo mladé oogonium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uprostřed oogonia s anteridii + kulovité oospory, vpravo zralé oospo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252520" y="4221000"/>
            <a:ext cx="3189600" cy="2075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55680" y="6222960"/>
            <a:ext cx="84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evo a vpravo Marilyn Mollicone, http://www.plantbio.uga.edu/zoosporicfungi/monfoamy.htm; uprostřed Don Barr, http://www.bsu.edu/classes/ruch/msa/barr.html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788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9319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0" t="0" r="0" b="28991"/>
          <a:stretch/>
        </p:blipFill>
        <p:spPr>
          <a:xfrm>
            <a:off x="3809880" y="2001960"/>
            <a:ext cx="4978440" cy="2860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380880"/>
            <a:ext cx="4496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oos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isednou na substrát a zatáhnou bičík =&gt; vyrůstají rhizoidy a opačným směrem cenoc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celium =&gt; na koncích hyf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tvoř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angia =&gt; několikajaderný protoplast se rozpadá =&gt; z částí vznikají zoospor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nepříznivých podmínek se 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cích hyf objeví gametang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přenos anterozoidů vod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 otvoru v oogoniu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ygot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yogamie před vytvořen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ěny =&gt; meioza před klíčen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lavně vodní a půd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profyté v tropech a subtropech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blephar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962520" cy="1606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530064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EOCALLIMASTIG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ád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ocallimastig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ocallimastix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obligátně anaerobní organismy žijící symbioticky v bachorech přežvýkavců, tvoří vícebičíkaté (!) zoos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14836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6064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380880"/>
            <a:ext cx="83822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BLASTOCLAD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itivní typy mají nahé stélky bez rhizoidů, odvozenější potom cenocytické stélky, přepážkou oddělené rhizomycelium a reprodukční struktury (gametangia, sporang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86200" y="1849320"/>
            <a:ext cx="4991040" cy="4702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0880" y="2057400"/>
            <a:ext cx="36576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vba zoospor: chy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mposom, ribosom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hloučené v "čepičce" na předním konci jádra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ořen tzv. "side-body-complex" (ER+tukové kapky+mitochondrie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zácněj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é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oelomomyce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u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lom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rev komárů (možnost využití pr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iologický bo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soder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é na plodinách (vojtěška, kukuř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0142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80880" y="380880"/>
            <a:ext cx="838224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PISTHOKO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říše (vývojová větev):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FUNGI (MYCOTA)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– HOU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ičíkaté buňky pouze u vývojově původních skup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d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yco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ocallimasti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pokročilých hu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ytvořena žád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ičíkatá sta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  jednodušší ty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uněčné (bičíkaté typy, vnitrobuněční parazité), případně jednotlivé buňky schopné tvořit pučivé pseudomycelium (kvasink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vláknit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vykle tvořena houbovými vlák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ve vegetativní fázi tvořícím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odhoubí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dušší vláknité typy mají stélky nepřehrádkované (přehrádky oddělují pouze reprodukční struktury), vývojově odvozenější mají hyfy rozdělené centripetálně rostoucími přehrádkam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pt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ptum má uprostřed pór (různého typu u různých skupin), kterým mohou procházel látky i organel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 u parazitických hub může růst na povrchu pletiv hostitele, ale i vnikat dovnitř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ntercelulárně nebo intracelulárn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takovémto myceliu se vytvářejí apresoria (jen přichycovací funkce) nebo haustoria (vnikající do buněk, slouží k absorpci látek z napadené buň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88000" y="83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45964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704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0353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80880"/>
            <a:ext cx="4038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z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anizogamie, poprvé typická rodozměna (sporofyt nese sporangia, gametofyt nese gametangi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vyskytují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ři typy životního cykl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plo-diplobiotický, diplobiotický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pomiktický (všech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ř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jdeme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opických půdních druhů ro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l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390920" y="0"/>
            <a:ext cx="43768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58920" y="6140520"/>
            <a:ext cx="398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to, jakož i další životní cykly, jsou převzaty z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2"/>
              </a:rPr>
              <a:t>http://www.uniovi.es/bos/Asignaturas/Botanica/9.ht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7200" y="3048120"/>
            <a:ext cx="3809880" cy="248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58920" y="5524560"/>
            <a:ext cx="3984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llomyces arbuscul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anteridia a oogoni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on Barr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su.edu/classes/ruch/msa/barr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4067280" y="263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7738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380880"/>
            <a:ext cx="838224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určitých fázích ži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ní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yklu (např. plodnice) některých skupin se z hyf tvoří nepravá pletiv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ktenchym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ještě patrná hyfová struktura, jedná se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zenchy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naproti tomu jsou-li již buňky pozměněny a jednotlivé hyfy nejsou zřetelné, jde 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arenchy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ktenchymatické struktury se kromě plodnic tvoří i ve sterilních útvarech, jako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o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terilní útvar, ve kterém se tvoří plodnice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lero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louží k přetrvání nepříznivých podmínek)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čná stě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vícevrstevná, složená z lamel tvořených různě orientovanými fibril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důležitější složkou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kombinaci s jinými složkami;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skupin chitin chyb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buňkách vlastních hub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akékol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sti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fotosyntetické pigmenty; jsou však přítomna jiná barviva (karoteny, xanthofyly aj.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jádře jedno nebo více jadérek, obvykle malý počet chromosom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tochondrie mají ploché přepáž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přítomny vakuoly, chybí pulzující vakuol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obní látk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nejčastěj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ykog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ojediněle i škrob (u primitivních vřeckatý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8360" y="220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395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380880"/>
            <a:ext cx="8382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životním cyklu hub nacházíme buď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hlavní i nepohlavní nebo jen nepohlav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dium, kdy houba vytváří nepohlav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t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e nazývá stadium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mperfekt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dium, kdy houba vytváří pohlav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e nazývá stadium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fektn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u dané houby v dané fázi přítomno perfektní stadium, mluvíme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eomorf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-li u dané houby v dané fázi přítomno perfektní stadium (= je přítomno pouze imperfektní stadium), mluvíme 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namorf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&lt;= zde je důvod, proč nelze zcela klást rovnítko mezi anamorfu = imperfektní stadium a teleomorfu = perfektní stad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hodující je (ne-)přítomnost perfektního stadia, takže když se v dané fázi tvoří současně mitospory a meiospory (tedy imperfektní i perfektní stadium), jedná se také o teleomorf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a v celém životním cyklu (tj. anamorfa i teleomorfa dohromady) se označuje jak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morf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v životním cyklu jen pohlavní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, je 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iotická holomorf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v životním cyklu jen nepohlavní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, je 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itotická holomorfa; v případě obou typů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de o pleomorfickou holomorfu (mluvíme pak také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ách s pleomorfickým ži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ykl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8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52758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80880"/>
            <a:ext cx="533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množování probíhá v haploidn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ploidní fáz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jednodušší způsob je prostá fragmentace hyf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spory vznikaj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genně ve sporangiích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načovány ja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ospory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epohyblivé, typické pro skupin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ohyblivé, typické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podobné houb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ogenně na hyfách (specializovaných odnožích zvaných konidiofory)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zývají 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běžné u hub z 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 menší míř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ofory s konidiemi se tvoří buď izolovaně nebo v útvarech zvaný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oma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remie (= synnema; svazek konidioforů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727600" y="457200"/>
            <a:ext cx="2919600" cy="3352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46036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rodochium (palisáda konidioforů v ložisku na povrchu substrátu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ervulus (shluk konidioforů pod povrchem plativa hostitele, u parazitů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yknida (lahvicovitý útvar s vnitřkem vystlaným konidiof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více u pomocného 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eut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27520" y="3809880"/>
            <a:ext cx="31244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orangium; v jeho pravé části praská stěna a vystupují spory.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R. Moore, W. D. Clark, K. R. Stern &amp; D. Vodopich: Botany, 199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64000" y="321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7555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105520" y="380880"/>
            <a:ext cx="3657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 typy vzniku konidií: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halický: hyfa se rozdělí přepážkami a pak rozpadne na jednotl. buňky =&gt; thalokonidie = arthrokonidie (thalokonidiemi jsou v jistém smyslu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lamydospory - tlustostěnné přetrvávající buňky vznikající na myceli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lastický: konidie vypučí z konidiogenní buňky holoblasticky (účast všech vrstev bun. stěny) nebo enteroblasticky (vnější stěna se protrhne, konidii utvá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nitřní vrstva/-y/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rospory (vypučí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a následně se oddělí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ou), fialospory (vytvářejí se ve speciali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an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648320" cy="4395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502920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ách - fialidách a uvolňují se ústím z těchto buněk), anelospory (také se vytvářejí ve speciali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an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uňkách; každ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konidie protrhne přepážku po oddělení předchoží konidie =&gt; vznikaj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"límečky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700360" y="458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5865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80880"/>
            <a:ext cx="8382240" cy="65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množování u vrcholové skupiny vlastních hub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viz dále) není spojena plazmogamie s karyogam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aryogamie následuje s určitým zpožděním a do životního cyklu je vlože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á fá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značovaná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+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charakteristická tzv. konjugovanými mitózami (současné mitózy obou jader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lý cyklus tedy je: haploidní fáze =&gt; plazmogamie =&gt; dikaryofáze =&gt; karyogamie =&gt; diploidní fáze (obvykle omezena jen na zygotu) =&gt; meioza =&gt; zpět haplofáz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ůz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y pohlavního proces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u vlastních hub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gamie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ická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ogamie (typická hlavně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mycot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-gametangiogamie (spermatizace, oplodn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amičího gametang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amčí spermacií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é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-gametangiogamie (vzácná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gamie (splývání hyf, hlavn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somatogami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spermatiza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z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lodně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matick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yf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rmac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togamie (ojediněle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ří-li s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ame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s výjimkou bičíkatých hub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sou pohybli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šech možných typů: haplobiotický, haplo-diplobiotický, vzácný je diplobiotický (kvasinky) a naopak velmi častý haplo-dikaryotický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hub z odděl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návaznosti na pohlavní rozmnožování vznikají spory na specializovaných útvare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8360" y="148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388360" y="234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37116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6735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380880"/>
            <a:ext cx="838224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i parazité, vytvářejí symbiotické vztahy (lichenismus, mykorhiz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stou po celém světě, ve všech možných biotope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ůda, vzduch, voda (méně časté), v případě parazitů hostitelské organism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p. využit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lé druhy, výroba antibiotik, ale i jedovaté a patogenní houby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ematické člen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 jednotlivá oddělení: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  izolovaná skupin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icrospo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vnitrobuněční parazi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ocallimasti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jednobuněčné nebo tvoří cenocytické mycelium, bičíkaté zoospor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rimárně cenocytické mycelium, chybí dikaryofáze i plodnice, tvoří se 1 meiosp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; je to polyfyletická skupina s příbuzenskými vazbami na různé skupiny odd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členění skupin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oddělení viz dá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ledující oddělení už jsou považována za monofyletický „vrchol vývoje hub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er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endomykorhiz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děle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řív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azen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chozímu, ale podle současných poznatků je sesterskou skupinou následujíc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rcholová skupina, v životním cyklu přítomna dikaryotická fáz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řehrádkované mycelium /příp. jednobuněčné – kvasinky/, tvoří se plodnice /ne u všech, viz dále/, meiospory vznikají endogenně ve vřecká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éž přehrádkované mycel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příp. jednobuněčné – kvasink. typy/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tvorba plodnic /ne u všech/, ale meiospory vznikají exogenně na bazidií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80880"/>
            <a:ext cx="426744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ICROSPORI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upina dříve řazená k prvokům, na základě molekulárních analýz (RNA a některých proteinů) připadla k houbá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ají některé zvláštnosti proti běžným eukaryotům: 70S ribosomy (znak shodný s prokaryoty), dikaryotická jádra (po dvojicích, synchronně se dělící), chybí respirační organely (mitochondrie apod.) a centrioly, redukovaný Golgiho apará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724280" y="463680"/>
            <a:ext cx="3997440" cy="3101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71800" y="3552840"/>
            <a:ext cx="58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palaeos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com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Eukarya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/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Units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/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1"/>
              </a:rPr>
              <a:t>StemMetazoa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2"/>
              </a:rPr>
              <a:t>/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3"/>
              </a:rPr>
              <a:t>Microsporidia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4"/>
              </a:rPr>
              <a:t>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5"/>
              </a:rPr>
              <a:t>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Obr. nahoře z: ES Didier (1998), 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Microsporidosis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.  Clin. Infect. Dis. 27: 1-8.   Foto dole z: W Bohne, DJP Ferguson, K Kohler, &amp; U Gross (2000), 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Developmental expression of ... pathogen Encephalitozoon cuniculi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.  Infect. Immun. 68: 2268–227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6"/>
          <a:stretch/>
        </p:blipFill>
        <p:spPr>
          <a:xfrm>
            <a:off x="3048120" y="4027320"/>
            <a:ext cx="5649840" cy="2349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3573360"/>
            <a:ext cx="2590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přední straně buňky je vymrštitelná pólová trub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lučně intracelulární paraziti (většinou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toplazmě, někdy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oforní vakuole) nejvíce u členovců a ryb, ale známi i u sav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0T16:15:52Z</dcterms:modified>
  <cp:revision>157</cp:revision>
  <dc:subject/>
  <dc:title>Snímek 1</dc:title>
</cp:coreProperties>
</file>